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8B2B-73AD-44C6-BE34-BA2C1FE1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6C7-3306-4585-9C14-90733BD6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075-DDB5-4E8F-AC01-74C6D00F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82D-FA1C-4028-BDB6-AE45A0D2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1BD4-4A55-4D01-8564-A3C57753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A227-F5B2-41C8-9C80-BAC675A8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EE97-F5FC-4DD9-AC70-B5876E6B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1974-511F-40BE-83E6-CB7E3EEE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CC80-EA78-4540-A372-2A9CCD89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3F93-F6A6-4C28-91F1-AF8405FD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B7C7-C715-4538-A2D1-24B8EA4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37B-69D2-40D5-88B1-ECDBED99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9C7A-C8B1-46FE-9989-84F321F2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5ADD-E20D-4792-980E-68FAD9CA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9F4B-5B7D-46C5-A1DA-34F5D2E2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F1CD-442A-4A4D-BB7C-C10A367B1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745E-2FF3-4A5C-8C7F-8ED78A09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CFF-4183-4F5E-A921-66F8399D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A108-D652-45AC-A732-538F2D42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A76-5FB5-4FF1-B841-61627CD9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60F-BA7D-4AD4-B01E-CD0D166E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1B6-7750-4B75-8511-7AF0A57D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E83-3115-4584-B27C-0155A9B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DB4-45A4-4E75-85D2-E3E07D8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72AE-6D76-4E09-9BD2-C01390F711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FA4A-1CE3-401E-B3A5-B5CFE62B10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2/Gran_Sello_de_la_Rep&#250;blica_del_Per&#250;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Aplicación del D.S. N° 017-2008-PC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920" y="2997360"/>
            <a:ext cx="86421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Transferencia de partidas d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Programa Integral de Nutrición – PI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de los Gobiernos Locales al  MIM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0" y="836640"/>
            <a:ext cx="8207280" cy="0"/>
            <a:chOff x="0" y="836640"/>
            <a:chExt cx="8207280" cy="0"/>
          </a:xfrm>
        </p:grpSpPr>
        <p:sp>
          <p:nvSpPr>
            <p:cNvPr id="88" name="Line 5"/>
            <p:cNvSpPr/>
            <p:nvPr/>
          </p:nvSpPr>
          <p:spPr>
            <a:xfrm>
              <a:off x="0" y="836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3024000" y="836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5975280" y="836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1" name="Group 8"/>
          <p:cNvGrpSpPr/>
          <p:nvPr/>
        </p:nvGrpSpPr>
        <p:grpSpPr>
          <a:xfrm>
            <a:off x="324000" y="765000"/>
            <a:ext cx="7632720" cy="1008360"/>
            <a:chOff x="324000" y="765000"/>
            <a:chExt cx="7632720" cy="1008360"/>
          </a:xfrm>
        </p:grpSpPr>
        <p:grpSp>
          <p:nvGrpSpPr>
            <p:cNvPr id="92" name="Group 9"/>
            <p:cNvGrpSpPr/>
            <p:nvPr/>
          </p:nvGrpSpPr>
          <p:grpSpPr>
            <a:xfrm>
              <a:off x="1116000" y="836640"/>
              <a:ext cx="6840720" cy="909720"/>
              <a:chOff x="1116000" y="836640"/>
              <a:chExt cx="6840720" cy="909720"/>
            </a:xfrm>
          </p:grpSpPr>
          <p:sp>
            <p:nvSpPr>
              <p:cNvPr id="93" name="Rectangle 10"/>
              <p:cNvSpPr/>
              <p:nvPr/>
            </p:nvSpPr>
            <p:spPr>
              <a:xfrm>
                <a:off x="3995640" y="836640"/>
                <a:ext cx="1800360" cy="909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Vice Ministro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de Hacienda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Rectangle 11"/>
              <p:cNvSpPr/>
              <p:nvPr/>
            </p:nvSpPr>
            <p:spPr>
              <a:xfrm>
                <a:off x="2124000" y="836640"/>
                <a:ext cx="1871640" cy="9097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Ministerio 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de Economía y Finanza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Rectangle 12"/>
              <p:cNvSpPr/>
              <p:nvPr/>
            </p:nvSpPr>
            <p:spPr>
              <a:xfrm>
                <a:off x="1116000" y="836640"/>
                <a:ext cx="1008000" cy="909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PER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116000" y="836640"/>
                <a:ext cx="684072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Line 14"/>
              <p:cNvSpPr/>
              <p:nvPr/>
            </p:nvSpPr>
            <p:spPr>
              <a:xfrm>
                <a:off x="1116000" y="1746360"/>
                <a:ext cx="684072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Line 15"/>
              <p:cNvSpPr/>
              <p:nvPr/>
            </p:nvSpPr>
            <p:spPr>
              <a:xfrm>
                <a:off x="111600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Line 16"/>
              <p:cNvSpPr/>
              <p:nvPr/>
            </p:nvSpPr>
            <p:spPr>
              <a:xfrm>
                <a:off x="795672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Line 17"/>
              <p:cNvSpPr/>
              <p:nvPr/>
            </p:nvSpPr>
            <p:spPr>
              <a:xfrm>
                <a:off x="212400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Line 18"/>
              <p:cNvSpPr/>
              <p:nvPr/>
            </p:nvSpPr>
            <p:spPr>
              <a:xfrm>
                <a:off x="399564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Line 19"/>
              <p:cNvSpPr/>
              <p:nvPr/>
            </p:nvSpPr>
            <p:spPr>
              <a:xfrm>
                <a:off x="586728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03" name="Picture 20" descr="Imagen:Gran Sello de la República del Perú.sv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24000" y="765000"/>
              <a:ext cx="720720" cy="100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45370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Incidencia Con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Aplicación del D.S. N° 017-2008-PCM en los Gobiernos Loca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Concepto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     Debe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Ha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92 Presupuesto de Gastos             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9001 Proyecciones Presupuestarias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0" y="836640"/>
            <a:ext cx="8207280" cy="0"/>
            <a:chOff x="0" y="836640"/>
            <a:chExt cx="8207280" cy="0"/>
          </a:xfrm>
        </p:grpSpPr>
        <p:sp>
          <p:nvSpPr>
            <p:cNvPr id="107" name="Line 5"/>
            <p:cNvSpPr/>
            <p:nvPr/>
          </p:nvSpPr>
          <p:spPr>
            <a:xfrm>
              <a:off x="0" y="836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3024000" y="836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>
              <a:off x="5975280" y="836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8:03:49Z</dcterms:created>
  <dc:creator>c_herrera</dc:creator>
  <dc:description/>
  <dc:language>en-US</dc:language>
  <cp:lastModifiedBy>mef</cp:lastModifiedBy>
  <dcterms:modified xsi:type="dcterms:W3CDTF">2008-12-01T19:47:27Z</dcterms:modified>
  <cp:revision>5</cp:revision>
  <dc:subject/>
  <dc:title>APLICACIÓN DEL D.S. N° 017-2008-PCM</dc:title>
</cp:coreProperties>
</file>