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936-B747-4B48-A6AD-FB08EE19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FE30-F7FE-4D74-ABC8-E5C3F6F3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11B-6956-4BFA-AC61-D3D52E09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178-624D-4AF1-A655-6A8D60CB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6B3F-0FF2-4E01-AF20-FFA5F325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8281-1223-4358-8319-9F19D24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3806-90DE-4E92-A9F7-D94EF6D2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F164-F3D0-4C13-8436-1314D26A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77FF-012E-494F-8831-C5E703A2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B28E-27E2-4DD9-A575-A9CD7ADD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693D-C09B-4692-8F7A-84585302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8C5-ABDC-447F-9018-ACCF5D67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7F1B-3D31-4389-AED2-C1C2457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0A0C-6935-4577-B51B-46F41048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2499-DFDF-4714-A78F-CACC4C8A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1991-3707-430E-A335-AF3FE870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F254-1AFF-4104-B821-1C0B33C2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FD5-6CB3-486F-B6E4-AF71C235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20B-F4A9-4F6F-AFCD-D981D592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3DD-147F-4C76-9BB9-D38BBC1B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774-A8BC-4552-8A13-C2E37E40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E67-95BE-4E05-A2D7-BDF7399A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D85-3CC0-4DFC-9EC8-E3B94D50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577-81BD-403E-9720-50919F34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61A9-D99A-4ABB-B264-5E4F054049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382E-E46A-49F7-B695-4A143D5C2D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68360" y="321300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CASOS PRÁCTICO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APLICACIÓN DEL PLAN CONTABLE GUBERNAMENTAL -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979640" y="5229360"/>
            <a:ext cx="6858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Arial"/>
              </a:rPr>
              <a:t>CECILIA HERRERA TEJAD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Dirección Nacional de Contabilidad Públic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ima,  Noviembre de 2008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395280" y="836640"/>
            <a:ext cx="5472000" cy="936720"/>
            <a:chOff x="395280" y="836640"/>
            <a:chExt cx="5472000" cy="936720"/>
          </a:xfrm>
        </p:grpSpPr>
        <p:grpSp>
          <p:nvGrpSpPr>
            <p:cNvPr id="88" name="Group 6"/>
            <p:cNvGrpSpPr/>
            <p:nvPr/>
          </p:nvGrpSpPr>
          <p:grpSpPr>
            <a:xfrm>
              <a:off x="395280" y="836640"/>
              <a:ext cx="701640" cy="936720"/>
              <a:chOff x="395280" y="836640"/>
              <a:chExt cx="701640" cy="936720"/>
            </a:xfrm>
          </p:grpSpPr>
          <p:pic>
            <p:nvPicPr>
              <p:cNvPr id="89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395280" y="989640"/>
                <a:ext cx="70164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WordArt 8"/>
              <p:cNvSpPr txBox="1"/>
              <p:nvPr/>
            </p:nvSpPr>
            <p:spPr>
              <a:xfrm>
                <a:off x="461520" y="836640"/>
                <a:ext cx="530280" cy="30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91" name="Rectangle 9"/>
            <p:cNvSpPr/>
            <p:nvPr/>
          </p:nvSpPr>
          <p:spPr>
            <a:xfrm>
              <a:off x="3995640" y="863640"/>
              <a:ext cx="1871640" cy="90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Vice Ministr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e Haciend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10"/>
            <p:cNvSpPr/>
            <p:nvPr/>
          </p:nvSpPr>
          <p:spPr>
            <a:xfrm>
              <a:off x="2124000" y="863640"/>
              <a:ext cx="1871640" cy="909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Ministerio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e Economía y Finanz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1116000" y="863640"/>
              <a:ext cx="1008000" cy="909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PERÚ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50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53" name="Object 6"/>
          <p:cNvGraphicFramePr/>
          <p:nvPr/>
        </p:nvGraphicFramePr>
        <p:xfrm>
          <a:off x="216000" y="914400"/>
          <a:ext cx="878040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914400"/>
                    <a:ext cx="878040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57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60" name="Object 6"/>
          <p:cNvGraphicFramePr/>
          <p:nvPr/>
        </p:nvGraphicFramePr>
        <p:xfrm>
          <a:off x="203040" y="1197000"/>
          <a:ext cx="87505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197000"/>
                    <a:ext cx="87505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64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67" name="Object 6"/>
          <p:cNvGraphicFramePr/>
          <p:nvPr/>
        </p:nvGraphicFramePr>
        <p:xfrm>
          <a:off x="203040" y="1239840"/>
          <a:ext cx="8763120" cy="37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239840"/>
                    <a:ext cx="8763120" cy="37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71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74" name="Object 6"/>
          <p:cNvGraphicFramePr/>
          <p:nvPr/>
        </p:nvGraphicFramePr>
        <p:xfrm>
          <a:off x="209520" y="979560"/>
          <a:ext cx="8739360" cy="455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979560"/>
                    <a:ext cx="8739360" cy="45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78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81" name="Object 6"/>
          <p:cNvGraphicFramePr/>
          <p:nvPr/>
        </p:nvGraphicFramePr>
        <p:xfrm>
          <a:off x="216000" y="766800"/>
          <a:ext cx="8807400" cy="50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766800"/>
                    <a:ext cx="880740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85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88" name="Object 6"/>
          <p:cNvGraphicFramePr/>
          <p:nvPr/>
        </p:nvGraphicFramePr>
        <p:xfrm>
          <a:off x="174600" y="766800"/>
          <a:ext cx="8713800" cy="50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766800"/>
                    <a:ext cx="87138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92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95" name="Object 6"/>
          <p:cNvGraphicFramePr/>
          <p:nvPr/>
        </p:nvGraphicFramePr>
        <p:xfrm>
          <a:off x="282600" y="833400"/>
          <a:ext cx="8834400" cy="563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833400"/>
                    <a:ext cx="88344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99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02" name="Object 6"/>
          <p:cNvGraphicFramePr/>
          <p:nvPr/>
        </p:nvGraphicFramePr>
        <p:xfrm>
          <a:off x="209520" y="927000"/>
          <a:ext cx="8842320" cy="509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927000"/>
                    <a:ext cx="884232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206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09" name="Object 6"/>
          <p:cNvGraphicFramePr/>
          <p:nvPr/>
        </p:nvGraphicFramePr>
        <p:xfrm>
          <a:off x="209520" y="954000"/>
          <a:ext cx="8737560" cy="41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954000"/>
                    <a:ext cx="87375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213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16" name="Object 6"/>
          <p:cNvGraphicFramePr/>
          <p:nvPr/>
        </p:nvGraphicFramePr>
        <p:xfrm>
          <a:off x="209520" y="914400"/>
          <a:ext cx="8739360" cy="539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914400"/>
                    <a:ext cx="873936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66280" y="1052280"/>
            <a:ext cx="8037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Objetivo:</a:t>
            </a: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Dar a conocer a los usuarios las cuentas del Plan Contable Gubernamental aplicables a partir del ejercicio 2009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Método a aplicar:</a:t>
            </a: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MX" sz="2500" spc="-1" strike="noStrike">
                <a:solidFill>
                  <a:srgbClr val="000000"/>
                </a:solidFill>
                <a:latin typeface="Verdana"/>
              </a:rPr>
              <a:t>A partir del Plan Contable Gubernamental actual, efectuar los registros contables con el Plan Contable Gubernamental 2009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96" name="Line 5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Rectangle 8"/>
          <p:cNvSpPr/>
          <p:nvPr/>
        </p:nvSpPr>
        <p:spPr>
          <a:xfrm>
            <a:off x="684360" y="0"/>
            <a:ext cx="685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2008 – 2009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220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23" name="Object 6"/>
          <p:cNvGraphicFramePr/>
          <p:nvPr/>
        </p:nvGraphicFramePr>
        <p:xfrm>
          <a:off x="209520" y="1019160"/>
          <a:ext cx="8739360" cy="557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19160"/>
                    <a:ext cx="87393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227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30" name="Object 6"/>
          <p:cNvGraphicFramePr/>
          <p:nvPr/>
        </p:nvGraphicFramePr>
        <p:xfrm>
          <a:off x="295200" y="914400"/>
          <a:ext cx="8821800" cy="53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914400"/>
                    <a:ext cx="882180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234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37" name="Object 6"/>
          <p:cNvGraphicFramePr/>
          <p:nvPr/>
        </p:nvGraphicFramePr>
        <p:xfrm>
          <a:off x="182520" y="901800"/>
          <a:ext cx="8739360" cy="43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901800"/>
                    <a:ext cx="873936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01" name="Line 5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Rectangle 8"/>
          <p:cNvSpPr/>
          <p:nvPr/>
        </p:nvSpPr>
        <p:spPr>
          <a:xfrm>
            <a:off x="684360" y="0"/>
            <a:ext cx="685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2009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5" name="Object 11"/>
          <p:cNvGraphicFramePr/>
          <p:nvPr/>
        </p:nvGraphicFramePr>
        <p:xfrm>
          <a:off x="0" y="836640"/>
          <a:ext cx="9013680" cy="58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013680" cy="58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08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1" name="Rectangle 6"/>
          <p:cNvSpPr/>
          <p:nvPr/>
        </p:nvSpPr>
        <p:spPr>
          <a:xfrm>
            <a:off x="684360" y="0"/>
            <a:ext cx="685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2009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2" name="Object 9"/>
          <p:cNvGraphicFramePr/>
          <p:nvPr/>
        </p:nvGraphicFramePr>
        <p:xfrm>
          <a:off x="0" y="762120"/>
          <a:ext cx="892800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9280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7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15" name="Line 8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9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10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18" name="Object 11"/>
          <p:cNvGraphicFramePr/>
          <p:nvPr/>
        </p:nvGraphicFramePr>
        <p:xfrm>
          <a:off x="182520" y="797040"/>
          <a:ext cx="873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797040"/>
                    <a:ext cx="873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6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22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25" name="Object 6"/>
          <p:cNvGraphicFramePr/>
          <p:nvPr/>
        </p:nvGraphicFramePr>
        <p:xfrm>
          <a:off x="182520" y="914400"/>
          <a:ext cx="88297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914400"/>
                    <a:ext cx="88297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29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32" name="Object 6"/>
          <p:cNvGraphicFramePr/>
          <p:nvPr/>
        </p:nvGraphicFramePr>
        <p:xfrm>
          <a:off x="189000" y="822240"/>
          <a:ext cx="8834400" cy="541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822240"/>
                    <a:ext cx="883440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36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39" name="Object 6"/>
          <p:cNvGraphicFramePr/>
          <p:nvPr/>
        </p:nvGraphicFramePr>
        <p:xfrm>
          <a:off x="190440" y="871560"/>
          <a:ext cx="876312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871560"/>
                    <a:ext cx="87631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43" name="Line 3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4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146" name="Object 6"/>
          <p:cNvGraphicFramePr/>
          <p:nvPr/>
        </p:nvGraphicFramePr>
        <p:xfrm>
          <a:off x="210960" y="1123920"/>
          <a:ext cx="8736120" cy="34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123920"/>
                    <a:ext cx="87361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7"/>
          <p:cNvSpPr/>
          <p:nvPr/>
        </p:nvSpPr>
        <p:spPr>
          <a:xfrm>
            <a:off x="320364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6:37:35Z</dcterms:created>
  <dc:creator>c_herrera</dc:creator>
  <dc:description/>
  <dc:language>en-US</dc:language>
  <cp:lastModifiedBy>mef</cp:lastModifiedBy>
  <dcterms:modified xsi:type="dcterms:W3CDTF">2008-12-01T19:47:53Z</dcterms:modified>
  <cp:revision>58</cp:revision>
  <dc:subject/>
  <dc:title>CIERRE CONTABLE 2008</dc:title>
</cp:coreProperties>
</file>