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0E7-BFB6-40AE-9A30-4EFF300C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D45-332E-4542-B5DD-FFB78743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E01-2258-45AF-9B95-E935A1F6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C47-FD1D-4CEF-B9B7-C6B2CF64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6437-BFC5-4029-8143-F948BF2D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5C31-19BD-4220-A85C-D6F036C1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6B1-E2F6-443C-8EA9-73AF039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D756-01B4-49D0-8D78-BDA1A142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0E59-5A7A-4954-A91D-2871A51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3551-5AD0-42D2-9CBE-DE022EA4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FE38-C7B2-473B-9E61-3762131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E3F-3598-4040-A380-83D8C96B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9794-988F-4569-B2E4-E1481221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6761-DEBA-4EC1-89B1-54F1D8C0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0994-B40E-4985-AC53-C59DE258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3F11-1F9B-413F-844A-9F07AFA0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49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5320" y="175248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416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49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5320" y="3981600"/>
            <a:ext cx="2790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62C2-C130-440F-B854-633905EC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FF7-1F0E-472D-8B90-637D2311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816-DB11-4E2F-BDEF-5F93566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1E3-B90F-4DCB-81DE-D0112585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23520" y="304920"/>
            <a:ext cx="866772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F0C-8D99-4C06-8C33-8D1D05DE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8EF-8FDA-47CC-B98D-2979EC6D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98160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B69-89DE-4C94-B0E8-F00F85E2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416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752480"/>
            <a:ext cx="42296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4160" y="3981600"/>
            <a:ext cx="86677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214-D374-492E-A2E5-3AE8AC49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60240" y="1566720"/>
            <a:ext cx="862200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60240" y="6172200"/>
            <a:ext cx="858528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6024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F8B2-C5AD-4F33-95B9-063399C55E43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9200" y="6244920"/>
            <a:ext cx="2146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BA7-C2B3-43E6-BDD1-22ED515BBA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743040" y="2394000"/>
            <a:ext cx="842004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520" y="304920"/>
            <a:ext cx="8667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14160" y="1752480"/>
            <a:ext cx="866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B17B-8286-4AED-A127-E9A11170F356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C20A-AFC9-4036-A0EE-88B25DE211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72880" y="3141720"/>
            <a:ext cx="936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CONTABLE GUBERNAMENTAL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UEVA VERSION - INICIO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3"/>
          <p:cNvSpPr/>
          <p:nvPr/>
        </p:nvSpPr>
        <p:spPr>
          <a:xfrm>
            <a:off x="2144880" y="5229360"/>
            <a:ext cx="74293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PEDRO CANCINO CHAVAR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ima,  Febrero de 200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5"/>
          <p:cNvGrpSpPr/>
          <p:nvPr/>
        </p:nvGrpSpPr>
        <p:grpSpPr>
          <a:xfrm>
            <a:off x="395280" y="836640"/>
            <a:ext cx="5472000" cy="936720"/>
            <a:chOff x="395280" y="836640"/>
            <a:chExt cx="5472000" cy="936720"/>
          </a:xfrm>
        </p:grpSpPr>
        <p:grpSp>
          <p:nvGrpSpPr>
            <p:cNvPr id="88" name="Group 26"/>
            <p:cNvGrpSpPr/>
            <p:nvPr/>
          </p:nvGrpSpPr>
          <p:grpSpPr>
            <a:xfrm>
              <a:off x="395280" y="836640"/>
              <a:ext cx="701640" cy="936720"/>
              <a:chOff x="395280" y="836640"/>
              <a:chExt cx="701640" cy="936720"/>
            </a:xfrm>
          </p:grpSpPr>
          <p:pic>
            <p:nvPicPr>
              <p:cNvPr id="89" name="Picture 27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395280" y="989640"/>
                <a:ext cx="70164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WordArt 28"/>
              <p:cNvSpPr txBox="1"/>
              <p:nvPr/>
            </p:nvSpPr>
            <p:spPr>
              <a:xfrm>
                <a:off x="461520" y="836640"/>
                <a:ext cx="53028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1" name="Rectangle 29"/>
            <p:cNvSpPr/>
            <p:nvPr/>
          </p:nvSpPr>
          <p:spPr>
            <a:xfrm>
              <a:off x="3995640" y="863640"/>
              <a:ext cx="187164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Vice Minis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de Hacien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2124000" y="863640"/>
              <a:ext cx="187164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Ministeri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de Economía y Finanz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1116000" y="863640"/>
              <a:ext cx="1008000" cy="90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200160" y="3068640"/>
            <a:ext cx="2654280" cy="1512720"/>
          </a:xfrm>
          <a:prstGeom prst="flowChartPreparation">
            <a:avLst/>
          </a:prstGeom>
          <a:noFill/>
          <a:ln cap="sq"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MBI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648320" y="16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440160" y="2060640"/>
            <a:ext cx="2104920" cy="703800"/>
          </a:xfrm>
          <a:prstGeom prst="rect">
            <a:avLst/>
          </a:prstGeom>
          <a:solidFill>
            <a:srgbClr val="ffffff">
              <a:alpha val="99000"/>
            </a:srgbClr>
          </a:solidFill>
          <a:ln cap="sq"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00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513240" y="3500280"/>
            <a:ext cx="210492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00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584520" y="5084640"/>
            <a:ext cx="2104920" cy="70380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  <a:effectLst>
            <a:outerShdw dist="107932" dir="18900000" blurRad="0" rotWithShape="0">
              <a:srgbClr val="00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5"/>
          <p:cNvSpPr/>
          <p:nvPr/>
        </p:nvSpPr>
        <p:spPr>
          <a:xfrm>
            <a:off x="5816520" y="1628640"/>
            <a:ext cx="158760" cy="1871640"/>
          </a:xfrm>
          <a:custGeom>
            <a:avLst/>
            <a:gdLst>
              <a:gd name="textAreaLeft" fmla="*/ 101520 w 158760"/>
              <a:gd name="textAreaRight" fmla="*/ 159120 w 15876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964480" y="1773360"/>
            <a:ext cx="3605040" cy="1618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obierno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tituciones Púb. De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iversidades Públ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ciedades de Benef. Pú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os Org. Púb. Descent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5889600" y="4941720"/>
            <a:ext cx="154080" cy="1008360"/>
          </a:xfrm>
          <a:custGeom>
            <a:avLst/>
            <a:gdLst>
              <a:gd name="textAreaLeft" fmla="*/ 98640 w 154080"/>
              <a:gd name="textAreaRight" fmla="*/ 154440 w 154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6105600" y="4941720"/>
            <a:ext cx="3384360" cy="10087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tituto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V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.Púb.Desc.Munic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 flipV="1">
            <a:off x="2360520" y="2565360"/>
            <a:ext cx="935280" cy="432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2865600" y="3933720"/>
            <a:ext cx="6220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2360520" y="4581360"/>
            <a:ext cx="1069920" cy="7192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620280"/>
            <a:ext cx="8502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ÁMBITO  DE APLICACIÓN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83920" y="1699920"/>
            <a:ext cx="89773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rtículo 1° Ley Nº 28708 - Ley del Sistema Nacional de Contabilidad, principios regulato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Uniform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eg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Normas Internacionales de Contabilidad del Sector Público –NICSP, oficializadas por el Consejo Normativo de Contabilidad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975960" y="620280"/>
            <a:ext cx="779292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ARCO </a:t>
            </a:r>
            <a:r>
              <a:rPr b="1" lang="es-ES" sz="3400" spc="-1" strike="noStrike" u="sng">
                <a:solidFill>
                  <a:srgbClr val="000000"/>
                </a:solidFill>
                <a:uFillTx/>
                <a:latin typeface="Arial"/>
              </a:rPr>
              <a:t>NORMA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44320" y="1412640"/>
            <a:ext cx="8777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Armonización con el plan contable para empresas, recientemente aprob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Incorporación del tratamiento contable de operaciones no contempladas en el anterior Plan Contable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s bases conceptuales que guardan relación en el proceso económico - financiero como flujo continuo de operaciones que satisfagan las necesidades de información y permita adoptar decisiones sobre la gestión de la administración  públ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72520" y="980640"/>
            <a:ext cx="89283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536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8.1.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mpleo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 registro de transacciones y elaboración de estados financieros, deben observar la dinámica prevista en cada cuenta del Plan Contable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s operaciones se registrarán en las cuentas que  correspondan a su natural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s entidades utilizarán las cuentas principales a cuatro dígitos, y a nivel de más dígitos que se precisan en el plan contable gubernam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779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43040"/>
                <a:tab algn="l" pos="990720"/>
                <a:tab algn="l" pos="1238400"/>
                <a:tab algn="l" pos="1486080"/>
                <a:tab algn="l" pos="1733400"/>
                <a:tab algn="l" pos="1981080"/>
                <a:tab algn="l" pos="2228760"/>
                <a:tab algn="l" pos="2476440"/>
                <a:tab algn="l" pos="2724120"/>
                <a:tab algn="l" pos="2971800"/>
                <a:tab algn="l" pos="3219480"/>
                <a:tab algn="l" pos="3467160"/>
                <a:tab algn="l" pos="3714840"/>
                <a:tab algn="l" pos="3962520"/>
                <a:tab algn="l" pos="4210200"/>
                <a:tab algn="l" pos="4457880"/>
                <a:tab algn="l" pos="4705200"/>
                <a:tab algn="l" pos="4952880"/>
                <a:tab algn="l" pos="5200560"/>
                <a:tab algn="l" pos="544824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 requerir códigos adicionales, las entidades solicitarán a la Dirección Nacional de Contabilidad Pública la apertura de nuevos códigos de acuerdo a sus neces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5240" y="260280"/>
            <a:ext cx="77896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DISPOSICIONES GENERALES</a:t>
            </a: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44160" y="404280"/>
            <a:ext cx="900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 algn="just"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8.2.</a:t>
            </a:r>
            <a:r>
              <a:rPr b="1" i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Sistema de Registro contable</a:t>
            </a:r>
            <a:r>
              <a:rPr b="0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spcBef>
                <a:spcPts val="300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 contabilidad será llevada en lengua española y en moneda nacional y según el principio de partida d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spcBef>
                <a:spcPts val="30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Todas las operaciones registradas en libros contables deben ser sustentadas con documentos fuent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spcBef>
                <a:spcPts val="30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os libros y registros contables pueden ser llevados por cualquier medio: mecanizados o informáticos, siempre que la información que se obtenga por dichos medios, se ajusten a lo que establece el sistema contabl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spcBef>
                <a:spcPts val="30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os libros, registros, documentos y demás evidencias sustentatorias de las operaciones, serán conservadas durante el tiempo que señalan los dispositivos legales vig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72880" y="189000"/>
            <a:ext cx="8971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4160" y="404280"/>
            <a:ext cx="907236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8.3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PE" sz="2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44520" y="189000"/>
            <a:ext cx="89708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49240" y="1227240"/>
          <a:ext cx="7632720" cy="38592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GESTIÓN</a:t>
                      </a: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buClr>
                          <a:srgbClr val="cc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buClr>
                          <a:srgbClr val="cc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IV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649"/>
                        </a:spcBef>
                        <a:buClr>
                          <a:srgbClr val="cc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RIMON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GRES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ASTO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RESULTADO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RESUPUESTO</a:t>
                      </a: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ORDEN</a:t>
                      </a: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UPUEST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</a:t>
                      </a:r>
                      <a:r>
                        <a:rPr b="0" i="1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ENTAS DE ORDEN   Y DE CONTROL</a:t>
                      </a:r>
                      <a:r>
                        <a:rPr b="0" i="1" lang="es-E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8"/>
          <p:cNvSpPr/>
          <p:nvPr/>
        </p:nvSpPr>
        <p:spPr>
          <a:xfrm>
            <a:off x="45864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0" y="189000"/>
            <a:ext cx="9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689960" y="215892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B CT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9"/>
          <p:cNvSpPr/>
          <p:nvPr/>
        </p:nvSpPr>
        <p:spPr>
          <a:xfrm rot="21420000">
            <a:off x="199800" y="1268280"/>
            <a:ext cx="36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488880" y="5877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849240" y="1268280"/>
            <a:ext cx="390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1496880" y="1268280"/>
            <a:ext cx="3844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2073240" y="1366920"/>
            <a:ext cx="839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C-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3152880" y="136692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C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4160880" y="1438200"/>
            <a:ext cx="792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C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3"/>
          <p:cNvSpPr/>
          <p:nvPr/>
        </p:nvSpPr>
        <p:spPr>
          <a:xfrm>
            <a:off x="1136520" y="5013360"/>
            <a:ext cx="52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1  Activo Dispo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4"/>
          <p:cNvSpPr/>
          <p:nvPr/>
        </p:nvSpPr>
        <p:spPr>
          <a:xfrm>
            <a:off x="1712880" y="4292640"/>
            <a:ext cx="52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1.01  Caja y Ban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5"/>
          <p:cNvSpPr/>
          <p:nvPr/>
        </p:nvSpPr>
        <p:spPr>
          <a:xfrm>
            <a:off x="2505240" y="35370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1.01.03 Depósitos en Instit. Finan. Pú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6"/>
          <p:cNvSpPr/>
          <p:nvPr/>
        </p:nvSpPr>
        <p:spPr>
          <a:xfrm>
            <a:off x="3657600" y="2744640"/>
            <a:ext cx="30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1.01.03.01  Ctas C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4809960" y="171936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1.01.03.01.02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D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616880" y="295128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B CT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1"/>
          <p:cNvSpPr/>
          <p:nvPr/>
        </p:nvSpPr>
        <p:spPr>
          <a:xfrm>
            <a:off x="7616880" y="3814920"/>
            <a:ext cx="15127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B CT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2"/>
          <p:cNvSpPr/>
          <p:nvPr/>
        </p:nvSpPr>
        <p:spPr>
          <a:xfrm>
            <a:off x="7545240" y="4606920"/>
            <a:ext cx="15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3"/>
          <p:cNvSpPr/>
          <p:nvPr/>
        </p:nvSpPr>
        <p:spPr>
          <a:xfrm>
            <a:off x="7473960" y="5373720"/>
            <a:ext cx="1727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4"/>
          <p:cNvSpPr/>
          <p:nvPr/>
        </p:nvSpPr>
        <p:spPr>
          <a:xfrm>
            <a:off x="7473960" y="6093000"/>
            <a:ext cx="17272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39"/>
          <p:cNvCxnSpPr>
            <a:stCxn id="151" idx="1"/>
            <a:endCxn id="135" idx="2"/>
          </p:cNvCxnSpPr>
          <p:nvPr/>
        </p:nvCxnSpPr>
        <p:spPr>
          <a:xfrm rot="10800000">
            <a:off x="389880" y="1672560"/>
            <a:ext cx="7084080" cy="462492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AutoShape 42"/>
          <p:cNvCxnSpPr>
            <a:stCxn id="150" idx="1"/>
            <a:endCxn id="137" idx="2"/>
          </p:cNvCxnSpPr>
          <p:nvPr/>
        </p:nvCxnSpPr>
        <p:spPr>
          <a:xfrm rot="10800000">
            <a:off x="1044000" y="1674000"/>
            <a:ext cx="6429960" cy="39045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AutoShape 43"/>
          <p:cNvCxnSpPr>
            <a:stCxn id="149" idx="1"/>
            <a:endCxn id="138" idx="2"/>
          </p:cNvCxnSpPr>
          <p:nvPr/>
        </p:nvCxnSpPr>
        <p:spPr>
          <a:xfrm rot="10800000">
            <a:off x="1688400" y="1674000"/>
            <a:ext cx="5856840" cy="31359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5" name="AutoShape 45"/>
          <p:cNvCxnSpPr>
            <a:stCxn id="148" idx="1"/>
            <a:endCxn id="139" idx="2"/>
          </p:cNvCxnSpPr>
          <p:nvPr/>
        </p:nvCxnSpPr>
        <p:spPr>
          <a:xfrm rot="10800000">
            <a:off x="2493360" y="1772640"/>
            <a:ext cx="5123520" cy="224532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6" name="AutoShape 46"/>
          <p:cNvCxnSpPr>
            <a:stCxn id="147" idx="1"/>
            <a:endCxn id="140" idx="2"/>
          </p:cNvCxnSpPr>
          <p:nvPr/>
        </p:nvCxnSpPr>
        <p:spPr>
          <a:xfrm rot="10800000">
            <a:off x="3548880" y="1772640"/>
            <a:ext cx="4068000" cy="13816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7" name="AutoShape 48"/>
          <p:cNvCxnSpPr>
            <a:stCxn id="134" idx="1"/>
            <a:endCxn id="141" idx="2"/>
          </p:cNvCxnSpPr>
          <p:nvPr/>
        </p:nvCxnSpPr>
        <p:spPr>
          <a:xfrm rot="10800000">
            <a:off x="4556880" y="1843920"/>
            <a:ext cx="3133080" cy="51840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0160" y="404640"/>
            <a:ext cx="8667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8.4.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Descripción y Dinámica Contable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enid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onocimiento y med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námica de la cuent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ent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rmas Internacionales de Cont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0160" y="404640"/>
            <a:ext cx="86677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8.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Procedimientos de actualización y vigencia</a:t>
            </a:r>
            <a:r>
              <a:rPr b="1" lang="es-PE" sz="2800" spc="-1" strike="noStrike" u="sng">
                <a:solidFill>
                  <a:srgbClr val="8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s cuentas contables se encuentran constantemente en revisión adecuándolos a las normas vigentes y nuevas trans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La Dirección Nacional de Contabilidad Pública dictará los procedimientos necesarios para la actualización, a través de normativa 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2"/>
          <p:cNvSpPr/>
          <p:nvPr/>
        </p:nvSpPr>
        <p:spPr>
          <a:xfrm>
            <a:off x="272880" y="230040"/>
            <a:ext cx="935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INTERRELACIÓN DE LOS CLASIFIC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Y   EL PLAN DE CU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879" descr=""/>
          <p:cNvPicPr/>
          <p:nvPr/>
        </p:nvPicPr>
        <p:blipFill>
          <a:blip r:embed="rId1"/>
          <a:stretch/>
        </p:blipFill>
        <p:spPr>
          <a:xfrm>
            <a:off x="0" y="1413000"/>
            <a:ext cx="96631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44400" y="1342800"/>
            <a:ext cx="898848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FINI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ÁMBITO DE APL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MARCO NORMATIV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ISPOSICIONES GENER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Arial"/>
              </a:rPr>
              <a:t>INTERRELACIÓN DE LOS CLASIFICADORES Y EL PLAN DE CUEN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72880" y="215640"/>
            <a:ext cx="8971200" cy="765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 u="sng">
                <a:solidFill>
                  <a:srgbClr val="000000"/>
                </a:solidFill>
                <a:uFillTx/>
                <a:latin typeface="Arial"/>
              </a:rPr>
              <a:t>CONTENI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31440" y="1268280"/>
            <a:ext cx="86677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28760" y="333360"/>
            <a:ext cx="9204120" cy="115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2419200" y="1484280"/>
            <a:ext cx="51976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GRACIAS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2880" y="1196640"/>
            <a:ext cx="936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Directoral Nº 071-80-EFC/76.01 (20.11.198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prueba el Plan Contable Gubernamental vigente a partir del 01 de enero de 1981. hasta el 31.12.97 (+ de 16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. CNC Nº 010-97-EF//93.01 (19.09.97) Aprueba el Nuevo Plan Contable Gubernamental, sustituye al PCG anterior, para ser aplicado a partir del 01 de enero de 1998 hasta 31.12.2008 (10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880" y="333360"/>
            <a:ext cx="8971200" cy="87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 u="sng">
                <a:solidFill>
                  <a:srgbClr val="000000"/>
                </a:solidFill>
                <a:uFillTx/>
                <a:latin typeface="Arial"/>
              </a:rPr>
              <a:t>1. PRESENTA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560520" y="114480"/>
            <a:ext cx="8713800" cy="66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2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lan Contable Gubernamental - Nueva 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(Inicio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Cuentas, interrelacionado con los Clasificadores de presupuesto de Ingresos y Gastos en función al MEFP 200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aborado en observancia a las Normas Internacionales de Contabilidad Sector Público – NICSP, oficializadas por el Consejo Normativo de Contabilida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 fuente de datos para la compilación de las     Estadísticas de las Finanzas Públicas ( EF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31800" y="765000"/>
            <a:ext cx="83455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egura obtener  información clara, transparente y oportuna dentro de los objetivos de un Estado moderno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yor flexibilidad y seguridad en el manejo del  registro contable, de acuerdo a la técnicas modernas de cont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pone de definiciones y dinámica de cada una de las cue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4160" y="1125000"/>
            <a:ext cx="907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7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lación de cuentas y códigos utilizados en el registro co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7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ribe las funciones de cada cuenta indicando su naturaleza de cargo y ab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alle de cuentas y subcuentas que facilitan el registro  de las transacciones que realizan las entidade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flexible, se adapta a la evolución de las diversidad de transacciones que realiza 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7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señado con un sistema de codificación numérica, facilitando su identificación de acuerdo a su  naturaleza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04880" y="259920"/>
            <a:ext cx="853920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s-ES" sz="3800" spc="-1" strike="noStrike" u="sng">
                <a:solidFill>
                  <a:srgbClr val="000000"/>
                </a:solidFill>
                <a:uFillTx/>
                <a:latin typeface="Arial"/>
              </a:rPr>
              <a:t>DEFINICIÓN</a:t>
            </a:r>
            <a:r>
              <a:rPr b="1" lang="es-ES" sz="3400" spc="-1" strike="noStrike" u="sng">
                <a:solidFill>
                  <a:srgbClr val="800000"/>
                </a:solidFill>
                <a:uFillTx/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00000" y="107316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5440" y="1412640"/>
            <a:ext cx="898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tituye una herramienta para el proceso con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a a conocer a los usuarios la estructura de cuentas del sistema de contabilidad guberna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arantiza la presentación de los estados  financieros de manera consistente y unifo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rve de guía para el correcto registro de las operaciones a través de los asientos contabl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62040" y="260280"/>
            <a:ext cx="8423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" sz="3400" spc="-1" strike="noStrike" u="sng">
                <a:solidFill>
                  <a:srgbClr val="000000"/>
                </a:solidFill>
                <a:uFillTx/>
                <a:latin typeface="Arial"/>
              </a:rPr>
              <a:t>FUNCIONES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31440" y="1484280"/>
            <a:ext cx="88138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xact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 responde a los datos consignados en documentos  f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lar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 la información contable debe ser comprendida por los usuarios y no debe inducir a err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erdadera y fidedig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 los registros y reportes deben expresar la real situación de los hechos económic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portun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 disponible en el momento en que se requie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83920" y="475920"/>
            <a:ext cx="8813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7600" y="1267920"/>
            <a:ext cx="8659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Armoniz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el registro de las operaciones financieras y presupuesta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Registr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los ingresos y gastos públicos conforme a las disposiciones legales vig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Formu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estados financieros que reflejen la imagen fiel de la situación financiera y los resultados de la gestión de los entes públic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Obtene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información contable ordenada y confiable como medios de rendición de cuentas,  que facilite las tareas de control y fiscalización a los organismos compe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07600" y="549000"/>
            <a:ext cx="89139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OBJETIVO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21:21:45Z</dcterms:created>
  <dc:creator>pcancino</dc:creator>
  <dc:description/>
  <dc:language>en-US</dc:language>
  <cp:lastModifiedBy>mef</cp:lastModifiedBy>
  <dcterms:modified xsi:type="dcterms:W3CDTF">2009-02-09T14:05:59Z</dcterms:modified>
  <cp:revision>198</cp:revision>
  <dc:subject/>
  <dc:title>Cuenta General de la Republica </dc:title>
</cp:coreProperties>
</file>