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E67-F8B1-4D4C-BCA2-C30A9C6F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FF7-DA50-4E9B-8732-330DA098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319-973B-4ED3-BFF9-C6F829D0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973-A6C5-483E-A803-11B4E15A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68F-9AA2-4A4E-8505-490FF2E3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B31-6890-47BD-8DEA-967D6277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D6A-D0FF-4656-AF82-E4D771CF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5A8-08AF-4502-9CE9-74670351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2BD-9147-4E03-9EBB-36A74969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20A-62D5-4793-8820-CF21583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442-B1FF-4E37-B0D8-5E8FE54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EE7-1341-418B-A1A9-7D884D1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3bc8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143bc8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CA8A-25A1-41F7-A8C8-4F67120492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C876-8F3D-4151-8AA0-77DDB8787A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3 Título"/>
          <p:cNvSpPr/>
          <p:nvPr/>
        </p:nvSpPr>
        <p:spPr>
          <a:xfrm>
            <a:off x="685800" y="214200"/>
            <a:ext cx="7772400" cy="253224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 Black"/>
                <a:ea typeface="Arial"/>
              </a:rPr>
              <a:t>Sección 35 Transición a la NIIF para  las PYME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5 Rectángulo"/>
          <p:cNvSpPr/>
          <p:nvPr/>
        </p:nvSpPr>
        <p:spPr>
          <a:xfrm>
            <a:off x="714240" y="292896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Arial Black"/>
              </a:rPr>
              <a:t>CPCC </a:t>
            </a:r>
            <a:r>
              <a:rPr b="1" lang="es-PE" sz="4000" spc="-1" strike="noStrike">
                <a:solidFill>
                  <a:srgbClr val="ffffff"/>
                </a:solidFill>
                <a:latin typeface="Arial Black"/>
              </a:rPr>
              <a:t>Dante Ataupillco Ver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2776" t="5020" r="2922" b="4695"/>
          <a:stretch/>
        </p:blipFill>
        <p:spPr>
          <a:xfrm>
            <a:off x="2124000" y="3860640"/>
            <a:ext cx="4896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F745-11BE-4DB6-962F-8FABB3EF88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428760" y="214200"/>
            <a:ext cx="8429400" cy="73836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Black"/>
              </a:rPr>
              <a:t>Exenciones obligato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684360" y="1425600"/>
            <a:ext cx="813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2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ciones cont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 algn="just">
              <a:lnSpc>
                <a:spcPct val="2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ja en cuentas de activos financieros y pasivos financier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 algn="just">
              <a:lnSpc>
                <a:spcPct val="2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tabilidad de cobertu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 algn="just">
              <a:lnSpc>
                <a:spcPct val="2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peraciones discontinu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 algn="just">
              <a:lnSpc>
                <a:spcPct val="2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dición de participaciones no controladoras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C9E3-F1DC-4A82-8155-7BE05907E61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571680" y="214200"/>
            <a:ext cx="8286480" cy="64296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Black"/>
              </a:rPr>
              <a:t>Exenciones op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684360" y="954360"/>
            <a:ext cx="8135640" cy="54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lor  razonable  como  costo  atribui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valuación como costo atribui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uestos diferi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acciones con pagos basados en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ferencias de conversión acumuladas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dos  financieros  sepa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strumentos financieros compuest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uerdos de concesión de servici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tividades de extrac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uerdos que contienen un arrendamien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8920" indent="-35244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asivos por retiro de servicio incluidos en el costo de propiedades, planta y equip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0B85-127E-46FC-8736-677B513FA28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1 Título"/>
          <p:cNvSpPr/>
          <p:nvPr/>
        </p:nvSpPr>
        <p:spPr>
          <a:xfrm>
            <a:off x="684360" y="127080"/>
            <a:ext cx="7989840" cy="58716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Arial Black"/>
              </a:rPr>
              <a:t>Sec. 35 Alc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642960" y="714240"/>
            <a:ext cx="799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aplicará cuando adopte por primera vez(en adelante APV) la NIIF para las PYMES, independientemente de si su marco contable anterior estuvo basado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IF completa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ro conjunto PCGA, tales como sus normas contables nacional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ro marco tal como la base del impuesto a las ganancias loc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o puede adoptar por primera vez la NIIF para las PYMES en una única ocasión. Si se deja de usarla durante uno o más periodos y se le requiere o elige adoptarla nuevamente con posterioridad, las exenciones especiales, simplificaciones y otros requerimientos de esta sección no serán aplicables a nueva adop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F32B-2DE0-405B-B80E-7BE95F2C1F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79280" y="260280"/>
            <a:ext cx="8713800" cy="59688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Black"/>
              </a:rPr>
              <a:t>Sec. 35 – Adopción por Primera V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1000080"/>
            <a:ext cx="8507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primeros EEFF, conforme a esta NIIF son  los </a:t>
            </a: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primeros  EEFF anual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en  los  cuales  la  entidad   hace  una </a:t>
            </a: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declaración, explícita y sin reserva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del cumplimiento con la </a:t>
            </a:r>
            <a:r>
              <a:rPr b="1" i="1" lang="es-ES" sz="2400" spc="-1" strike="noStrike">
                <a:solidFill>
                  <a:srgbClr val="ffc000"/>
                </a:solidFill>
                <a:latin typeface="Arial"/>
              </a:rPr>
              <a:t>NIIF para las PYM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 conformidad  con la Norma Internacional de Información Financiera para las Pequeñas y Medianas Empresas…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primeros EEFF de acuerdo con esta NIIF son s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 presentó EEFF en los periodos anterior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sentó   sus   EEFF   anteriores   más   recientes    según requerimientos nacionales no coherentes con todos los aspectos de esta NIIF;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sentó EEFF más recientes en  conformidad con las NIIF comple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2EA9-AE0B-4F24-AD19-2CAC2FBB95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79280" y="331920"/>
            <a:ext cx="8713800" cy="66816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ec. 35 – Adopción por Primera V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461960"/>
            <a:ext cx="8507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presentará </a:t>
            </a: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información comparativ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con   respecto  al  </a:t>
            </a: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periodo comparable  anterior  para  todos  los  import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monetarios  presentados  en  los EEFF,  así  como   información  comparativa  </a:t>
            </a: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específica narrativa y descriptiv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puede presentar información comparativa con respecto a más de  un periodo anterior compar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Fecha de transición a la </a:t>
            </a:r>
            <a:r>
              <a:rPr b="1" i="1" lang="es-ES" sz="2400" spc="-1" strike="noStrike">
                <a:solidFill>
                  <a:srgbClr val="ffc000"/>
                </a:solidFill>
                <a:latin typeface="Arial"/>
              </a:rPr>
              <a:t>NIIF para las PYMES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 el comienzo del primer periodo para  el que se presenta información comparativa completa de los primeros EEFF conforme a esta NII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29C7-6BD4-4B7C-830B-1DAC1313A0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79280" y="260280"/>
            <a:ext cx="8750520" cy="102564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Black"/>
              </a:rPr>
              <a:t>Sec. 35 – Transición, adopción y primeros EE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24000" y="1604880"/>
            <a:ext cx="85071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ae0d"/>
                </a:solidFill>
                <a:latin typeface="Arial"/>
              </a:rPr>
              <a:t>Cuando una entidad prepara sus EEFF en base a las </a:t>
            </a:r>
            <a:r>
              <a:rPr b="1" i="1" lang="es-ES" sz="2400" spc="-1" strike="noStrike">
                <a:solidFill>
                  <a:srgbClr val="ffae0d"/>
                </a:solidFill>
                <a:latin typeface="Arial"/>
              </a:rPr>
              <a:t>NIIF para las PYMES </a:t>
            </a:r>
            <a:r>
              <a:rPr b="1" lang="es-ES" sz="2400" spc="-1" strike="noStrike">
                <a:solidFill>
                  <a:srgbClr val="ffae0d"/>
                </a:solidFill>
                <a:latin typeface="Arial"/>
              </a:rPr>
              <a:t>correspondientes al ejercicio que finaliza, ejemplo el 31.12.1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EFF al ejercicio terminado el 31.12.11, serán los primeros EEFF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los cuales incluyen un ejercicio completo de información comparativa (2011 y 2010) preparados en bases 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IIF PYM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fecha de transición de las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IIF para las PYM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s el 01.01.10, la fecha de adopción es el 01.01.11 el estado de situación financiera de apertura según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IIF PYM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erá preparado en esa fec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688C-F5DA-4B4E-80D5-BB7D4DCE8F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9280" y="189000"/>
            <a:ext cx="8750520" cy="95400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Black"/>
              </a:rPr>
              <a:t>Sec. 35 – E</a:t>
            </a:r>
            <a:r>
              <a:rPr b="1" lang="es-ES" sz="3000" spc="-1" strike="noStrike">
                <a:solidFill>
                  <a:srgbClr val="ffff00"/>
                </a:solidFill>
                <a:latin typeface="Arial Black"/>
              </a:rPr>
              <a:t>stado de situación financiera de apertura (1/3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24000" y="1357200"/>
            <a:ext cx="8507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Reconocer todos los activos y pasivos permitidos por esta </a:t>
            </a:r>
            <a:r>
              <a:rPr b="1" i="1" lang="es-ES" sz="2500" spc="-1" strike="noStrike">
                <a:solidFill>
                  <a:srgbClr val="ffffff"/>
                </a:solidFill>
                <a:latin typeface="Arial"/>
              </a:rPr>
              <a:t>NIIF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No reconocer como activos o pasivos si esta NIIF no permit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Reclasificar los activos, pasivos y patrimonio neto que reconoció, según EEFF marco anterior con arreglo a esta NIIF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plicar esta NIIF al medir los activos y pasivos reconocido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excepción a estas reglas se da cuando una de las exenciones obligatorias u opcionales no permite que el reconocimiento, la clasificación y la medición se realice de acuerdo a esta IF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64AC-E3E3-407D-B998-BD15B3F73C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79280" y="189000"/>
            <a:ext cx="8821800" cy="109692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Black"/>
              </a:rPr>
              <a:t>Sec. 35 – E</a:t>
            </a:r>
            <a:r>
              <a:rPr b="1" lang="es-ES" sz="3200" spc="-1" strike="noStrike">
                <a:solidFill>
                  <a:srgbClr val="ffff00"/>
                </a:solidFill>
                <a:latin typeface="Arial Black"/>
              </a:rPr>
              <a:t>stado de situación financiera de apertura (2/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4000" y="1533600"/>
            <a:ext cx="85071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 políticas  contables  que  utilice  en  su  estado  de  situación financiera de apertura conforme a esta NIIF pueden diferir de las que aplicaba anteriormente a la  misma fec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ajustes  resultantes   surgen  de  transacciones,   otros  sucesos  o  condiciones anteriores a la fecha de transición a esta NII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tanto, se reconocerá tales ajustes, en la fecha de transición a esta NIIF, directamente en los resultados acumulados (o, si fuera apropiado, en otra categoría dentro del patrimoni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8C76-6525-4B90-8569-5CE9A5509B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17440" y="142920"/>
            <a:ext cx="8712360" cy="112392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Sec. 35 – E</a:t>
            </a: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stado de situación financiera de apertura (3/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24000" y="1357200"/>
            <a:ext cx="850716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ando sea </a:t>
            </a: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impracticable la reexpresión del estado de situación financiera de apertur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, con relación a uno o varios de los ajustes requeridos (véase diapositiva 1) aplicará las exenciones obligatorias u opcionales para dichos ajustes en el primer periodo para el que resulte practicable hacerlo, e identificará los datos presentados en periodos  anteriores no comparables con datos del periodo anterior en  que  prepara sus EEFF conforme a esta NII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es impracticable para una entidad proporcionar  cualquier  información  a  revelar  requerida  por  esta  NIIF  para cualquiera de los periodos anteriores al periodo en el que prepara sus primeros EEFF conforme a esta NIIF, revelará dicha omi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F849-1AC9-4CC8-AED8-35C3343501D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4 Título"/>
          <p:cNvSpPr/>
          <p:nvPr/>
        </p:nvSpPr>
        <p:spPr>
          <a:xfrm>
            <a:off x="357120" y="142920"/>
            <a:ext cx="8572680" cy="642960"/>
          </a:xfrm>
          <a:prstGeom prst="rect">
            <a:avLst/>
          </a:prstGeom>
          <a:solidFill>
            <a:srgbClr val="819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Black"/>
              </a:rPr>
              <a:t>Sec. 35 – </a:t>
            </a:r>
            <a:r>
              <a:rPr b="1" lang="es-ES" sz="3200" spc="-1" strike="noStrike">
                <a:solidFill>
                  <a:srgbClr val="ffff66"/>
                </a:solidFill>
                <a:latin typeface="Arial Black"/>
              </a:rPr>
              <a:t>Información a reve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395280" y="1018080"/>
            <a:ext cx="84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xplicará  cómo  ha  afectado  la  transición  desde  el  marco  de información  financiera  anterior  a  esta  NIIF  a  su  situación  financiera,  al rendimiento financiero y a los flujos de efectivo presentados con anterioridad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ara cumplir con lo anterior los primeros EEFF preparados conforme a esta NIIF incluirán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escripción de naturaleza del cambio de política contabl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ciliaciones de su patrimonio, determinado de acuerdo con el marco de información financiera anterior, con patrimonio determinado con esta NIIF (fecha de transición a esta NIIF y final ultimo periodo con el marco de su información financiera anterior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ciliación del resultado, determinado de acuerdo con su marco de información financiera anterior (incluido ultimo EEFF), con  su  resultado determinado de acuerdo con esta NIIF para ese mismo period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7:39:43Z</dcterms:created>
  <dc:creator>Alberto Nué</dc:creator>
  <dc:description/>
  <dc:language>en-US</dc:language>
  <cp:lastModifiedBy>krobles</cp:lastModifiedBy>
  <dcterms:modified xsi:type="dcterms:W3CDTF">2011-03-17T14:24:22Z</dcterms:modified>
  <cp:revision>1254</cp:revision>
  <dc:subject/>
  <dc:title>NIC 11 – CO TRATOS DE CONSTRUCCIÓN</dc:title>
</cp:coreProperties>
</file>