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33F-C751-444E-92A3-2EDB166A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9FA-D907-41FB-B6A9-6CCD3CCD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308-5ADF-4BC0-B9D6-643A6AF3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5F7-0C05-4105-B6B3-68D7EACE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E362-D921-475A-A87A-753D0EAD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631B-0EA7-4EA0-ADD2-5773FB1F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37AC-05B1-4049-B118-46B31FBC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FD0F-A148-463A-9ECD-9329A93E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1786-DEC4-464A-AA35-91BE3F65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F3F2-08E2-403E-9FDC-817B0313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9630-839B-4A8E-9CC6-072A314A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989-7754-436F-9E7E-A5C8C1F0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0819-34C2-40CD-8E2C-02B3A7F1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490D-9990-4380-9DEE-8E2377C0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CD6C-7AAB-49EF-82EA-FEE52275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7BC7-B0E0-422A-B781-5BB51CF6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81BF-76DE-4966-AFC1-703F9A95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0C3CC-1A81-4787-857A-651FE640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13904-10F3-4EDF-AA5A-D2087823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65968-BD07-4D58-AFAE-BCA2EE64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E6A01-BAB1-4407-AC9C-84C6D04D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AC909-527B-4901-BE9A-1A84686A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7FD-02EB-4A95-A8AE-B12B3BDE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8C38B-10BE-4458-97D2-E5FB2068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A3285-5D4D-40BC-9219-644A0963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7B6EA-3C05-4673-B2DA-DABFE6A8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72C80-EAA4-4727-988F-846238F1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9D570-5263-4307-BF12-E54C4F96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D4D66-CCCA-43FE-8959-C214BAC9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C69D9-4B0D-4FC6-9690-767E4B90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63025-6CF4-48D3-9607-0E5F10C7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FE844-D6A5-4A8E-9829-5E6E41A1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1A995-2D27-424D-9EFF-695A2220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56C-91FE-4591-A9C6-2054C759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DE2C0-63FD-4ABD-9AF3-CF421186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AFA09-F47B-4155-8B86-1AA0C7C6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229A9-38D1-43BE-B52E-A8255E6B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7DBC6-6132-4744-99D9-A475FB36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B5D78-8B5D-42A1-9A29-DE539DBD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2D3C2-4C80-472B-A46A-7B0885AD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C37F5-9F40-4288-BB32-BA702379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0DF34-6C2C-4188-AD2F-EF5719D2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8CA082-F355-4793-92A2-89BD5600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ABF4E-0F95-42DE-96C3-3D233420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C0F-54FC-41F2-B6CA-A7EFB1E0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6DECF-5A61-4366-8650-DD64CF42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8B7B6-92EA-4B20-8F1D-67183E82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96798-D84F-474A-BE9E-8F34AAEB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E7739-C093-4EE6-B07E-8E62F4DA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93979-590C-4A30-B8F0-F9E3D6C0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21DB5-A29D-407E-8624-D4116339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FBE62-35F7-49F3-9516-5C2EDCA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8F45F-C192-400F-BD45-B4FCB806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3F7AF-27E7-4D95-B9E3-A25FF48A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E0D6F-CDC7-4E5D-8431-2244FA74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301-46E7-421B-8A6F-177E1317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87AEB-608F-4608-AF64-E35AF6F2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30204-FEA7-40CB-816C-9D1039E1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2E39E-A8A7-4CC5-8BEF-5ABF2EE3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7BC21-566F-4819-85F4-5E4A737A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4DDC8-4162-4679-98C5-412EE9B7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715DB-CE24-4CB9-981E-C433339C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CE0DB-54C9-48AC-8ADB-644CA418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01E47-28B4-43ED-B72A-70C57E14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4CA73-4C23-4A9E-870B-9617CA28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59F18-FF8B-4BAB-BA03-E05822EF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E37-DF9D-49F6-AECD-628D92D6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B756A-79EE-4921-89A4-4E3B8F1D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02BB3-F7B4-4EB1-B87E-415620FD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847D3-7266-42F6-B08C-BA68BB07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9553C-31C9-4CAE-8855-C000D02C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FD7B1A-4CD2-4971-B494-750A41F3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67BF5-37F3-40E4-9BB2-116EB916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D42C8-BB72-4A6F-AB17-4D090F90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35090-5A9A-4030-93FA-FCC43D8B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5EDF7-200B-43C7-8603-D71A4873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E09ED-8A14-45A3-A7F0-92FC9999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F1C-5909-4CA2-882F-F16ED9E6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7E4A6-3594-4A53-8EC1-A85C8D2E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D57CE-1F35-4C13-AC4C-7A741EEB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351D24-4F99-4FB6-A944-60155FA4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ED760-B964-4638-B89D-6B65720F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9A2E5-7051-4FE0-A15D-D71E089B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BE703-384E-410B-8873-FFB97BCF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BB81C-486F-47C1-866A-454C6575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0FEC0-1BD3-48EA-9994-8D90ABFD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D1DA8-50E3-4254-9427-ADBA4BC6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2D21A-20D7-46BE-8DDA-A44AD02F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2B0-B193-480D-AA64-B34E224B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879E5-E9ED-424D-9E92-6ACAB724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37C56-8304-46F1-9A66-550B1276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9D0FE-16BD-4423-BBF1-47CA37AB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9FB00-EE88-4516-8281-81F3374F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21F32-1DB4-4B43-B98A-38FFD5A6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699C0-07A7-423B-B906-3E765DE4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CD10B-0BA0-4651-AD91-82405CB4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4A17-6B95-4EED-9C0B-395074D3C7E3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9B64-387F-4598-84A4-DC76C7280798}" type="slidenum">
              <a:rPr b="1" lang="es-PE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8109-B369-433B-A527-938C8ABE5A0F}" type="slidenum">
              <a:rPr b="1" lang="es-P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B598-2724-4A36-B4D5-FBA5E95F7DFF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DCA4-78AD-49F4-AA28-234A65DCBE7C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C138-8004-466E-AF67-9EEEC42ED38B}" type="slidenum">
              <a:rPr b="1" lang="es-PE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14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7C91-71E2-4C1B-852E-217335C836AE}" type="slidenum">
              <a:rPr b="1" lang="es-PE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A3E2-EEF4-4E53-B924-312F02B26B4E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5 CuadroTexto"/>
          <p:cNvSpPr/>
          <p:nvPr/>
        </p:nvSpPr>
        <p:spPr>
          <a:xfrm>
            <a:off x="214200" y="428760"/>
            <a:ext cx="85726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w Cen MT"/>
              </a:rPr>
              <a:t>Seminario</a:t>
            </a:r>
            <a:r>
              <a:rPr b="0" lang="es-PE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w Cen MT"/>
              </a:rPr>
              <a:t>NORMA INTERNACIONAL DE INFORMACIÓN FINANCIERA PARA PEQUEÑAS Y MEDIANAS ENTIDADES (NIIF PARA PYMES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w Cen MT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Tw Cen MT"/>
              </a:rPr>
              <a:t>EXPOSITOR: CARLOS VALDIVIA LOAYZ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Tw Cen MT"/>
              </a:rPr>
              <a:t>Lima, 28 de enero de 201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Objetivo de NIIF para PY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Que se aplique a Estados Financieros con propósitos de información gener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Frecuentemente las PYMES producen estados financieros para uso exclusivo de los propietarios, gerentes o para autoridades fiscales. Tales EEFF no son necesariamente con propósito gener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775f55"/>
                </a:solidFill>
                <a:latin typeface="Tw Cen MT"/>
              </a:rPr>
              <a:t>Autoridad de las NIIF para las PYM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Las decisiones sobre a que entidades se requiere o permite utilizar las normas del IASB recae en la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En el Perú: el Consejo Normativo de Contabilid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3 CuadroTexto"/>
          <p:cNvSpPr/>
          <p:nvPr/>
        </p:nvSpPr>
        <p:spPr>
          <a:xfrm>
            <a:off x="857160" y="3000240"/>
            <a:ext cx="70009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w Cen MT"/>
              </a:rPr>
              <a:t>AUTORIDADES LEGISLATIVAS Y REGULADORA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Conformidad de NIIF para PYME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Sin una entidad que tiene obligación pública de rendir cuenta utiliza esta NIIF sus estados financieros no se describirán como conformes con la NIIF para PYMES aunque la legislación o regulación lo permit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Aplicación de NIIF comple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Una subsidiaria que depende de una controladora (matriz) o </a:t>
            </a: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que forma parte de un grupo consolidado que utilizan NIIF completas, no se le prohíbe utilizar NIIF para PY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775f55"/>
                </a:solidFill>
                <a:latin typeface="Tw Cen MT"/>
              </a:rPr>
              <a:t>Presentación de la NIIF para PYM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La NIIF para PYMES se organiza por temas presentándose cada tema en una sección separad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Contiene 35 secciones (230 página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Secciones de la NIIF PY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612720" y="1600200"/>
          <a:ext cx="8153280" cy="4322880"/>
        </p:xfrm>
        <a:graphic>
          <a:graphicData uri="http://schemas.openxmlformats.org/drawingml/2006/table">
            <a:tbl>
              <a:tblPr/>
              <a:tblGrid>
                <a:gridCol w="1101960"/>
                <a:gridCol w="4333680"/>
                <a:gridCol w="2717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QUIVALENCIA CON NIIF COMP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queñas y medianas entid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ceptos y principios gene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rco Concep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entación de estados financi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stado de situación financi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stado del resultado integral y estado de result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stado de cambios en el patrimonio y estado de resultados y ganancia acumul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stado de flujos de efe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7 – NI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385" name="4 CuadroTexto"/>
          <p:cNvSpPr/>
          <p:nvPr/>
        </p:nvSpPr>
        <p:spPr>
          <a:xfrm>
            <a:off x="6357960" y="62866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w Cen MT"/>
              </a:rPr>
              <a:t>Continú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Secciones de la NIIF PY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612720" y="1600200"/>
          <a:ext cx="8153280" cy="3576600"/>
        </p:xfrm>
        <a:graphic>
          <a:graphicData uri="http://schemas.openxmlformats.org/drawingml/2006/table">
            <a:tbl>
              <a:tblPr/>
              <a:tblGrid>
                <a:gridCol w="1101960"/>
                <a:gridCol w="4333680"/>
                <a:gridCol w="2717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QUIVALENCIA CON NIIF COMP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tas a los Estados Financi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stados financieros consolidados y separ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olíticas contables, estimaciones y err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strumentos financieros bás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32 – NIC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tros temas relacionados con los instrumentos financi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32 – NIC 39 – NIIF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388" name="4 CuadroTexto"/>
          <p:cNvSpPr/>
          <p:nvPr/>
        </p:nvSpPr>
        <p:spPr>
          <a:xfrm>
            <a:off x="6357960" y="62866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w Cen MT"/>
              </a:rPr>
              <a:t>Continú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Secciones de la NIIF PY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4 CuadroTexto"/>
          <p:cNvSpPr/>
          <p:nvPr/>
        </p:nvSpPr>
        <p:spPr>
          <a:xfrm>
            <a:off x="6357960" y="62866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w Cen MT"/>
              </a:rPr>
              <a:t>Continú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12720" y="1600200"/>
          <a:ext cx="8153280" cy="3876840"/>
        </p:xfrm>
        <a:graphic>
          <a:graphicData uri="http://schemas.openxmlformats.org/drawingml/2006/table">
            <a:tbl>
              <a:tblPr/>
              <a:tblGrid>
                <a:gridCol w="1173240"/>
                <a:gridCol w="4262400"/>
                <a:gridCol w="27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quivalencia con NIIF compl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ven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versiones en asoci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versiones en negocios conju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opiedades de inver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opiedades  ,planta y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tivos intangibles distintos de la plusval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binación de negocios y plusval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rrendami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Secciones de la NIIF PY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4 CuadroTexto"/>
          <p:cNvSpPr/>
          <p:nvPr/>
        </p:nvSpPr>
        <p:spPr>
          <a:xfrm>
            <a:off x="6357960" y="62866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w Cen MT"/>
              </a:rPr>
              <a:t>Continú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12720" y="1600200"/>
          <a:ext cx="8153280" cy="3606840"/>
        </p:xfrm>
        <a:graphic>
          <a:graphicData uri="http://schemas.openxmlformats.org/drawingml/2006/table">
            <a:tbl>
              <a:tblPr/>
              <a:tblGrid>
                <a:gridCol w="1173240"/>
                <a:gridCol w="4262400"/>
                <a:gridCol w="27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quivalencia con NIIF compl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ovisiones y contingenc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asivos y patrimo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39 – NIC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gresos por actividades ordin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18 NIC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ubvenciones del gobie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stos por présta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agos basados en a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IF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terioro del valor de los ac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neficio a los emple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19 NIC 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Secciones de la NIIF PY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12720" y="1600200"/>
          <a:ext cx="8153280" cy="4317840"/>
        </p:xfrm>
        <a:graphic>
          <a:graphicData uri="http://schemas.openxmlformats.org/drawingml/2006/table">
            <a:tbl>
              <a:tblPr/>
              <a:tblGrid>
                <a:gridCol w="1101960"/>
                <a:gridCol w="4333680"/>
                <a:gridCol w="2717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QUIVALENCIA CON NIIF COMP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mpuesto a las ganan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versión de la moneda extranj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iperinf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echos ocurridos después del periodo sobre el que se info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formación a revelar sobre partes relacion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tividades espe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41 – NIIF 6 – CINIIF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ansición a las NIIF para P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I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397" name="4 CuadroTexto"/>
          <p:cNvSpPr/>
          <p:nvPr/>
        </p:nvSpPr>
        <p:spPr>
          <a:xfrm>
            <a:off x="6357960" y="62866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w Cen MT"/>
              </a:rPr>
              <a:t>Continú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Emisión de NIIF para PY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En julio de 2009, el Consejo de Normas Internacionales de Contabilidad  (IASB) publicó la Norma Internacional de Información Financiera para pequeñas y medianas entidad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000000"/>
                </a:solidFill>
                <a:latin typeface="Tw Cen MT"/>
              </a:rPr>
              <a:t>(NIIF PARA PYM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NICS/NIIFS sin equivalenci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12720" y="1600200"/>
          <a:ext cx="8153280" cy="2124000"/>
        </p:xfrm>
        <a:graphic>
          <a:graphicData uri="http://schemas.openxmlformats.org/drawingml/2006/table">
            <a:tbl>
              <a:tblPr/>
              <a:tblGrid>
                <a:gridCol w="1101960"/>
                <a:gridCol w="7051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tilidad por a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formación y financiera inter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tratos de seg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C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tivos no corrientes mantenidos para la venta y operaciones descontinu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775f55"/>
                </a:solidFill>
                <a:latin typeface="Tw Cen MT"/>
              </a:rPr>
              <a:t>Consejo Normativo de Contabilidad </a:t>
            </a:r>
            <a:br>
              <a:rPr sz="4000"/>
            </a:br>
            <a:r>
              <a:rPr b="0" lang="es-PE" sz="4000" spc="-1" strike="noStrike">
                <a:solidFill>
                  <a:srgbClr val="775f55"/>
                </a:solidFill>
                <a:latin typeface="Tw Cen MT"/>
              </a:rPr>
              <a:t>Resolución N 045-2010-EF/94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Publicada el 30 de Noviembre de 201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Haciendo uso de sus facultades establecidas en el inciso b) del artículo 10° de la ley 28 708 – Ley General del Sistema de Contabilidad, el Consej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Normativo de Contabilidad – CNC ha emitido la presente Resolución, oficializando la aplicación de la Norma Internacional de Información Financiera para Pequeñas y Medianas Entidades (NIIF PARA PYM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Resolución N°045-2010-EF/9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80440" indent="-280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(Resumen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En su art. Primer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Oficializa la aplicación en el Perú de la Norma Internacional de información financiera para pequeñas y medianas entidades (NIIF para PYM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Es de aplicación obligatoria para las entidades que no tienen obligación pública de rendir cuent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Dichas entidades podrán optar por aplicar las NIIF completas oficializadas por el CN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Resolución n°045-2010-EF/9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Artículo segundo (resumen)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No aplican esta norm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(a) las empresas bajo supervisión y control de la CONASEV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(b) Las empresas que obtengan ingresos anuales por ventas y servicios o tengan activos totales, iguales o mayores, en ambos casos a tres mil (3000) UIT al cierre del ejercicio anterior. Estas empresas deberán aplicar NIIF completas oficializadas por CNC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Las empresas bajo la supervisión de las SBS Y AFP.   La UIT de referencia es la vigente al 1 de enero de cada ejercicio (continúa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w Cen MT"/>
              </a:rPr>
              <a:t>Resumen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w Cen MT"/>
              </a:rPr>
              <a:t>Artículo 3: La NIIF para PYMES entrará en vigencia a partir del 1° de enero 2011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500" spc="-1" strike="noStrike">
                <a:solidFill>
                  <a:srgbClr val="000000"/>
                </a:solidFill>
                <a:latin typeface="Tw Cen MT"/>
              </a:rPr>
              <a:t>Artículo 4: Las empresas que apliquen NIIF para PYMES perderán en forma definitiva esta facultad y aplicarán las NIIF completas oficializadas por el CNC, si a la fecha de cierre de dos ejercicios consecutivos, incurren en la condición establecida en el párrafo (b) del art. 2°. Asimismo, las empresas que no cumplieran con los requisitos señalados en el punto (b) del art. 2° que hubieran decidido aplicar las NIIF completas oficializadas por el CNC, no podrán aplicar posteriormente la NIIF para PYME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Resolución n°045-2010-EF/9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Modelos Contables en el Perú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612720" y="1600200"/>
          <a:ext cx="8153280" cy="35766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ntid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odelo Cont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ajo la supervisión de Conas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IF completas alineadas con el IA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 ingresos o activos totales iguales o superiores a 3000 UIT o por decisión volunt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IF completas oficializadas por el C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 ingresos o activos totales menores a 3000 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IF para P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ajo supervisión de SBS Y A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rmas contables del sistema-financi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ntidades sin fines de lu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IIF PYMES o NIIF completas o USGA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El término PY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Mucha jurisdicciones en todas partes del mundo han desarrollado sus propias definiciones de PYMES para un amplio rango de propósit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Se incluyen criterios cuantificados basados en los ingresos los activos, los trabajadores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Muchas veces el término PYMES se usa para indicar o incluir entidades muy pequeñas sin considerar si publican estados financier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5" name="3 CuadroTexto" descr=""/>
          <p:cNvPicPr/>
          <p:nvPr/>
        </p:nvPicPr>
        <p:blipFill>
          <a:blip r:embed="rId1"/>
          <a:stretch/>
        </p:blipFill>
        <p:spPr>
          <a:xfrm>
            <a:off x="208080" y="5668920"/>
            <a:ext cx="858816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Definición de PYMES por el IASB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Las pequeñas y medianas entidades son aquellas qu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(a) No tienen obligación pública de rendir cuentas 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(b) Publican estados financieros con propósitos de información general para usuarios extern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Obligación de rendir cuenta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Si sus instrumentos de deuda o de patrimonio se negocian o están en proceso de hacerse en un mercado públic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Si una de sus principales actividades es mantener activos en calidad de fiduciaria para un amplio grupo de tercer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NIIF para PY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Buena información financiera de forma simpl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NIIF simplificadas, pero creadas sobre una base NII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Diseñadas específicamente para las PYM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Internacionalmente reconocid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3 CuadroTexto"/>
          <p:cNvSpPr/>
          <p:nvPr/>
        </p:nvSpPr>
        <p:spPr>
          <a:xfrm>
            <a:off x="6858000" y="6286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w Cen MT"/>
              </a:rPr>
              <a:t>Fuente: IAS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775f55"/>
                </a:solidFill>
                <a:latin typeface="Tw Cen MT"/>
              </a:rPr>
              <a:t>NIIF para PY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Buena información financiera de forma simpl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Adaptadas para las PY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Necesidades del usuario de obtener información de flujo de caj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Costos y capacidades de las PY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3 CuadroTexto"/>
          <p:cNvSpPr/>
          <p:nvPr/>
        </p:nvSpPr>
        <p:spPr>
          <a:xfrm>
            <a:off x="6858000" y="6286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w Cen MT"/>
              </a:rPr>
              <a:t>Fuente: IAS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775f55"/>
                </a:solidFill>
                <a:latin typeface="Tw Cen MT"/>
              </a:rPr>
              <a:t>¿Son independientes o vinculadas a las NIIF completas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COMPLETAMENTE INDEPENDIEN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000000"/>
                </a:solidFill>
                <a:latin typeface="Tw Cen MT"/>
              </a:rPr>
              <a:t>La única opción auxiliar de las NIIF completas, es la opción de utilizar la NIC 39 ,en lugar de las secciones de instrumentos financieros de NIIF para PY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3 CuadroTexto"/>
          <p:cNvSpPr/>
          <p:nvPr/>
        </p:nvSpPr>
        <p:spPr>
          <a:xfrm>
            <a:off x="6858000" y="6286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w Cen MT"/>
              </a:rPr>
              <a:t>Fuente: IAS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775f55"/>
                </a:solidFill>
                <a:latin typeface="Tw Cen MT"/>
              </a:rPr>
              <a:t>¿Por qué una PYMES desearía adoptarlas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Mejor acceso a capita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Mejor comparabilida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Mejor calidad de información comparada con el PCGA nacional existen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Menos carga donde la NIIF o PCGA nacionales completos son ahora requerido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Operaciones multinaciona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Sistemas informáticos estandarizado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Procedimientos de consolidación simplificado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Tw Cen MT"/>
              </a:rPr>
              <a:t>Capacitación estandarizad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3 CuadroTexto"/>
          <p:cNvSpPr/>
          <p:nvPr/>
        </p:nvSpPr>
        <p:spPr>
          <a:xfrm>
            <a:off x="6858000" y="6286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w Cen MT"/>
              </a:rPr>
              <a:t>Fuente: IAS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3:37:41Z</dcterms:created>
  <dc:creator>Alida</dc:creator>
  <dc:description/>
  <dc:language>en-US</dc:language>
  <cp:lastModifiedBy>krobles</cp:lastModifiedBy>
  <dcterms:modified xsi:type="dcterms:W3CDTF">2011-03-17T14:24:41Z</dcterms:modified>
  <cp:revision>19</cp:revision>
  <dc:subject/>
  <dc:title>Diapositiva 1</dc:title>
</cp:coreProperties>
</file>