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973888" cy="1010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973200" cy="101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2560" cy="506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0"/>
          </p:nvPr>
        </p:nvSpPr>
        <p:spPr>
          <a:xfrm>
            <a:off x="3949200" y="-360"/>
            <a:ext cx="3022920" cy="506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961560" y="759960"/>
            <a:ext cx="5048280" cy="378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929880" y="4800600"/>
            <a:ext cx="5111640" cy="4548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41"/>
          </p:nvPr>
        </p:nvSpPr>
        <p:spPr>
          <a:xfrm>
            <a:off x="0" y="9602280"/>
            <a:ext cx="3022560" cy="506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42"/>
          </p:nvPr>
        </p:nvSpPr>
        <p:spPr>
          <a:xfrm>
            <a:off x="3949200" y="9602280"/>
            <a:ext cx="3022920" cy="506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F55BF-69A7-4692-B37F-CD73BF3417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61920" y="760320"/>
            <a:ext cx="5048280" cy="378612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29880" y="4800600"/>
            <a:ext cx="511164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3949560" y="9602640"/>
            <a:ext cx="30229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87FCC-83E9-4C13-B51E-6DDD4E929AB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61920" y="760320"/>
            <a:ext cx="5048280" cy="37861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9880" y="4800600"/>
            <a:ext cx="511164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3949560" y="9602640"/>
            <a:ext cx="30229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D2732-174D-43B4-B652-5DF0FBBAA79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25C-C25C-4F7A-8771-52E9B9F5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E04-250F-420A-87D2-FFB8FB3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096BA-B5AB-43DE-8C1C-F0756C7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22D36-101A-4EA9-AD49-7690F422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9D850-38B5-4250-B302-CC3368BD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0E6D-CF42-4F3D-BE60-E55FDD7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81A5-D132-4E1A-883A-FBCBED5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5BE8D-DA07-4751-8075-9F3111A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051A0-C236-4011-A9B9-A1B355A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990FB-4637-4789-A74C-D4016E69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41511-3A3C-443D-A5C6-B313193B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F2BDC-7630-4BAA-8FA7-B58FAA3C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3BA-B52E-431B-B6D4-160DBA0F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73A45-25F7-4B6E-A5B2-B189138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09358-72E8-4AEC-80B2-1E1A78CC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96584-EAB1-43C8-875D-98948B2F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A7BB3-366D-44C6-BBA7-9182B602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B82BB-81CD-4BDC-9E23-D4C9B0D8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5F66E-99F1-4233-B12B-27C3237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06445-8EFC-420B-A81F-823B7FB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580CF-2D2D-40F9-AAFF-7676BE3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53B7E-330B-421E-9437-375B471F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BC6B0-015F-4FF4-B90A-942FD734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462-9532-4D57-9907-8F6EB134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150D2-EC46-4D7D-A58B-2568E90D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F5F35-C011-4DD3-B9D1-9C5CC82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997BB-46BC-47BA-ADBC-BB2E26F1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88120-0046-4BDB-AD14-6F62B01A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12669-9A92-43A6-8FC2-50D8FA15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50BEC-6A49-4005-881B-977DA1A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270E-761D-4C26-B269-E0A152AF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348B0-B0C8-4240-8B27-90229E3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563B2-7F3F-44F8-9F29-E681BD4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8AC11-B883-4B2A-B3E3-9A9B488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885-B283-4F06-9DDE-65F829E4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088D1-5D93-44DD-A5D4-28C3FB30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17AAC-9BB5-45CC-9C9C-C517A4DB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65A6C-F2A8-4DE0-B2E9-F6280491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98437-EFD9-4F83-8649-E09E3179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CEA6B-A81C-4C7A-BE1B-9170B4DA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F220D-FB13-46D8-A607-939AFEA8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77E44-3E51-4C71-9B52-AC5A8ED0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40F3-72F1-4347-87FD-8710C4F1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CBC7C-E198-4D79-BCDA-38E1F1D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AC3C3-CECF-46DA-B05D-DE09780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4253-DF88-45C0-AF5E-5C39683A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61A88-CF24-4AAA-98EB-BDCC89A8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1FB16-AF07-4CC3-B427-88EE201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59A94-E87F-44B6-9FED-815274BD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4CF2A-6915-4490-B838-A75CB773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E2AA4-FDF5-4FC8-A055-B243C571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43BFA-5FE6-448E-9FAB-9A850C21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139A4-2D4D-484B-8CC1-23BF3EA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107C2-E7C9-42EB-93B0-6A22B3BF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5A532-AE55-45F8-8887-B180B4AF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BEF23-FE2F-45C3-BD2F-41BC5F3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7B67-B86F-47EC-A2F2-BD37DB95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76C7C-1DA9-4C59-8A84-0D3DA15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84F89-EEBE-46B0-A363-A4B4D35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4EB93-A059-48ED-8424-1E91282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F8870-1F7D-4208-8E0C-5DA2DE7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2C8C3-C8FD-46B7-875D-D13D5D3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3F09C-482D-4475-BC03-0422BDB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7EA83-9BCB-404C-9D10-770DF0A5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10B8-1910-49AC-9F8F-52E6F005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10A5-67CF-4515-A939-62FD0E6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8500-8B14-4BA6-ADE7-16962650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069A-EED0-4F64-8B5F-64DEB60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558-9F8B-46EC-9E5E-6B58200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7BB1-19C2-4D65-AC2C-2328502E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2B18-038F-4DFD-ACBF-7C0DB8F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2B9-6E63-4660-9910-5542E878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2E9A-083D-4AE3-816A-1570BE04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9581-8F29-4549-96A6-36E06CC4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B35A-C6E9-4D1B-BD3A-6EF413C9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93A4-B685-43AD-A132-B8BE89B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13E2-0D87-4DAA-A7E1-2250D0C9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F8DC-DDF8-40FF-B8FF-D7A85F7B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C9C0-8704-490D-AE69-773CA456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8FA-16C5-42D3-B256-F38FACFD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3520-6ECF-454B-8E69-A62C7739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C2BE-763A-4A97-AF29-44D77CB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6068-4900-4416-8E03-EDF4214D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27FC-F478-402B-9154-F6C67C0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1D85-F638-41DE-938D-B2ADA7E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2E84-B328-4E73-B219-7A1E4635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4504-9BDE-4D98-8779-A8620EF6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179B-773E-4ECF-A344-2EF7F5BB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6428-648D-4905-931B-DD4A563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F6A1-D53B-400A-85A3-2457760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9BB-3E2C-4D5F-B49D-6BE67552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E0B5-71D2-4ED1-8663-AB1A6EE9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E411-8728-4719-AF87-86822B1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5881-5556-4872-B828-8BBA935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7086-A4A5-4579-A059-7D3438F4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CF06-00D3-4F3E-A6F2-8144B72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2DD65-F05B-4465-ABA0-AD7E868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5451-4059-4678-A7E8-83A7AD88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9C2C-301F-4A16-AA73-F63F8FB9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7DA41-7968-43C2-9ED7-4AE50C1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E32C-DEEA-4D67-9CAE-DA7EBAAE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39E-FDAB-4C1A-9D24-19EAA93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746CA-0FC2-4020-A41B-F2686C89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D6BD-E073-491C-A7D8-3D95572C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1599-69A1-4EBC-A76D-67BB1A21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2EF8-5A5D-4475-A9CE-5943442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4A2B-CCE7-4B03-8C7E-5B16554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B65F-25AE-4EB3-ACF3-C6D31ED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2360-7BD8-4B4B-AC3A-ED16349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A845-29AC-4D23-8FB2-6BBC5C4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8ED96-17D8-48A4-9063-7DFE067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3D24-AD83-4D3F-B740-CE6C92AD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BA9-35FC-4FF6-862C-A1B6A85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355E-C1A5-4C57-9838-2DD9171A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7FA7F-423B-4DB6-BBDD-6D1FD366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94A7D-4103-4A1D-8736-B5B8A5CA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4E6C7-C055-4BCE-A09D-B8294E02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1A64-5BB7-458A-8ABE-7F715A76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8972-2DE5-49C4-B28A-6F8F681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EFCD-41B0-475B-80AE-E0C228BA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2FA5-AFBB-4687-936E-4C587545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D73D-D074-465F-BAA0-478D000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76CE-476E-4599-A8AB-5BC633B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9EA-0A4A-4A45-8932-C26DA01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9179-3B78-46D3-A418-5DE50EC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D41F8-4763-4E28-BDDA-A14621F6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D5B0-C322-428C-A290-6E4485A8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B8C3-636B-475B-92BA-EB6F8F6A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473B-AE3B-4CD9-AA72-8942AFC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D06DA-9D6B-4778-9AB1-D411B18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E822-53DA-4745-8C8F-1FF10040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2904-0077-4FD8-9EB6-9E2FD6E2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1298-410C-46E3-9B5F-659BAC4B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BAAE-DA17-45C6-AE5D-16F0051E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EAC-E73C-490B-82C1-3493D20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DB04-C54B-4E58-867A-4F40686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8A783-9D92-4878-BCF6-DBD1E79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1D08-EABE-4F30-8541-CB3B3F18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719B-5570-48FC-855B-1B2B4F98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AF736-14EC-436A-B110-5BA9912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BCD5A-2EE0-4C00-92A6-B3788CB1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51F25-9C5A-4CAB-8E6D-768C72B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C4C50-BEE3-47A4-BFAA-93672C0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9499-AE83-407B-8409-5C506E04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F30E0-8EF6-4D76-8B95-784C622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3F4-41DA-4275-B9CE-A5C2CCC5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1DA8-B6DC-4E6B-A5A8-1FA90936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20DF6-B568-48AE-8E2C-1BCD18CD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0F44-C851-45B4-80B1-2999D76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A170B-023D-4CBA-9A01-D16488B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F1F3-BD29-4C11-AACC-356E0D54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9A445-5728-4805-A7EB-DADDC35A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16F70-C1DA-437A-8349-6CC7004A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CD1A1-02BB-4501-82A4-45DD78A3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4C8EB-F016-4B05-92E9-CC27C0B7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83C70-551C-4DA2-97B9-4E68CFA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9528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11280" y="6597720"/>
            <a:ext cx="79246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CB2-7D4C-4378-8DD8-65E3E39AA43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BE2-5CE6-486C-A5B2-D5F54C2C0271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4E86-A81B-424E-8A54-9BCF3DAE52C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FA28-BE59-4F5B-B60D-C9F1DAC806BE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3128-9459-4BCB-A816-A5102414DFE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B7B-7123-44D8-8B6D-293672C47957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D922-F16B-4D61-A5E3-F39B8FB5050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0203-037C-4C45-9F92-7E6C9A40B29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A53F-0BCB-47CF-A83A-32607DF33877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91E0-8A8A-4398-BA8B-66874BD76DC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D27-FC81-435C-886B-FB00D2E289B7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39E-7863-4B2A-BC9E-81A95CD2EF4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DCA8-B0D6-405C-A42E-2D1B4E4FF2AE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4D2D-9F3C-4A9F-9E3B-789197EFC702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-214200" y="1143000"/>
            <a:ext cx="933444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Aft>
                <a:spcPts val="1012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Aft>
                <a:spcPts val="1012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Aft>
                <a:spcPts val="1012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ASOS DIVERSOS</a:t>
            </a:r>
            <a:endParaRPr b="1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5" name="Group 5"/>
          <p:cNvGrpSpPr/>
          <p:nvPr/>
        </p:nvGrpSpPr>
        <p:grpSpPr>
          <a:xfrm>
            <a:off x="611280" y="476280"/>
            <a:ext cx="7992720" cy="792000"/>
            <a:chOff x="611280" y="476280"/>
            <a:chExt cx="7992720" cy="792000"/>
          </a:xfrm>
        </p:grpSpPr>
        <p:grpSp>
          <p:nvGrpSpPr>
            <p:cNvPr id="546" name="Group 6"/>
            <p:cNvGrpSpPr/>
            <p:nvPr/>
          </p:nvGrpSpPr>
          <p:grpSpPr>
            <a:xfrm>
              <a:off x="611280" y="476280"/>
              <a:ext cx="1024560" cy="792000"/>
              <a:chOff x="611280" y="476280"/>
              <a:chExt cx="1024560" cy="792000"/>
            </a:xfrm>
          </p:grpSpPr>
          <p:pic>
            <p:nvPicPr>
              <p:cNvPr id="547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611280" y="605520"/>
                <a:ext cx="102456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WordArt 8"/>
              <p:cNvSpPr txBox="1"/>
              <p:nvPr/>
            </p:nvSpPr>
            <p:spPr>
              <a:xfrm>
                <a:off x="708120" y="476280"/>
                <a:ext cx="774360" cy="2584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549" name="Rectangle 9"/>
            <p:cNvSpPr/>
            <p:nvPr/>
          </p:nvSpPr>
          <p:spPr>
            <a:xfrm>
              <a:off x="5870160" y="498960"/>
              <a:ext cx="2733840" cy="768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Rectangle 10"/>
            <p:cNvSpPr/>
            <p:nvPr/>
          </p:nvSpPr>
          <p:spPr>
            <a:xfrm>
              <a:off x="3136320" y="498960"/>
              <a:ext cx="2733840" cy="768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Rectangle 11"/>
            <p:cNvSpPr/>
            <p:nvPr/>
          </p:nvSpPr>
          <p:spPr>
            <a:xfrm>
              <a:off x="1663920" y="498960"/>
              <a:ext cx="1565280" cy="768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 algn="ctr"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B22-2EF9-438E-AC0A-00632E628A6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3326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CEDIMIENTO CONTABLE DE TRANSFERENCIAS FINANCIERAS RECIBI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24000" y="1125360"/>
          <a:ext cx="8288280" cy="706680"/>
        </p:xfrm>
        <a:graphic>
          <a:graphicData uri="http://schemas.openxmlformats.org/drawingml/2006/table">
            <a:tbl>
              <a:tblPr/>
              <a:tblGrid>
                <a:gridCol w="1612800"/>
                <a:gridCol w="3805200"/>
                <a:gridCol w="1492200"/>
                <a:gridCol w="137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DO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24000" y="1989000"/>
          <a:ext cx="8280360" cy="4365720"/>
        </p:xfrm>
        <a:graphic>
          <a:graphicData uri="http://schemas.openxmlformats.org/drawingml/2006/table">
            <a:tbl>
              <a:tblPr/>
              <a:tblGrid>
                <a:gridCol w="1627200"/>
                <a:gridCol w="3863880"/>
                <a:gridCol w="1536480"/>
                <a:gridCol w="1252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AUDAD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a y Banc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.01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a M/N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. y Transferencias Ctes. Recib.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1.0103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los Gobiernos Local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Ingres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.0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y Transferenci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.04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enci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de Ingres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.0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y Transferenci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.04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enci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DE8-344E-4A6F-91F5-F535D4B5E72F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3326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CEDIMIENTO CONTABLE – FONCOMUN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RD Nº 044-2010-EF/77.15 ASIGNACIÓN PRESUPUEST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324000" y="1125360"/>
          <a:ext cx="8288280" cy="706680"/>
        </p:xfrm>
        <a:graphic>
          <a:graphicData uri="http://schemas.openxmlformats.org/drawingml/2006/table">
            <a:tbl>
              <a:tblPr/>
              <a:tblGrid>
                <a:gridCol w="1612800"/>
                <a:gridCol w="3805200"/>
                <a:gridCol w="1492200"/>
                <a:gridCol w="137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DO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14.5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OMU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24000" y="1989000"/>
          <a:ext cx="8280360" cy="2899080"/>
        </p:xfrm>
        <a:graphic>
          <a:graphicData uri="http://schemas.openxmlformats.org/drawingml/2006/table">
            <a:tbl>
              <a:tblPr/>
              <a:tblGrid>
                <a:gridCol w="1627200"/>
                <a:gridCol w="3863880"/>
                <a:gridCol w="1536480"/>
                <a:gridCol w="1252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AUDAD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Ingres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.0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Determinad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.05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de Compensación Municipal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de Ingres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.0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Determinad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.05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de Compensación Municipal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sp>
        <p:nvSpPr>
          <p:cNvPr id="592" name="6 Flecha curvada hacia la derecha"/>
          <p:cNvSpPr/>
          <p:nvPr/>
        </p:nvSpPr>
        <p:spPr>
          <a:xfrm>
            <a:off x="0" y="1628640"/>
            <a:ext cx="324000" cy="1295640"/>
          </a:xfrm>
          <a:custGeom>
            <a:avLst/>
            <a:gdLst>
              <a:gd name="textAreaLeft" fmla="*/ 43200 w 324000"/>
              <a:gd name="textAreaRight" fmla="*/ 280800 w 324000"/>
              <a:gd name="textAreaTop" fmla="*/ 293400 h 1295640"/>
              <a:gd name="textAreaBottom" fmla="*/ 9615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89" stAng="-5400000" swAng="-5400000"/>
                <a:lnTo>
                  <a:pt x="0" y="11137"/>
                </a:lnTo>
                <a:arcTo wR="21600" hR="9789" stAng="10800000" swAng="-3619710"/>
                <a:lnTo>
                  <a:pt x="16200" y="21289"/>
                </a:lnTo>
                <a:lnTo>
                  <a:pt x="21600" y="20252"/>
                </a:lnTo>
                <a:lnTo>
                  <a:pt x="16200" y="18593"/>
                </a:lnTo>
                <a:lnTo>
                  <a:pt x="16200" y="19267"/>
                </a:lnTo>
                <a:arcTo wR="21600" hR="9789" stAng="7180290" swAng="3512219"/>
                <a:lnTo>
                  <a:pt x="51" y="10463"/>
                </a:lnTo>
                <a:arcTo wR="21600" hR="9789" stAng="-10692509" swAng="5292509"/>
                <a:close/>
              </a:path>
              <a:path fill="darkenLess" w="21600" h="21600">
                <a:moveTo>
                  <a:pt x="21600" y="0"/>
                </a:moveTo>
                <a:arcTo wR="21600" hR="9789" stAng="-5400000" swAng="-5400000"/>
                <a:lnTo>
                  <a:pt x="0" y="9789"/>
                </a:lnTo>
                <a:arcTo wR="21600" hR="9789" stAng="10800000" swAng="-107491"/>
                <a:lnTo>
                  <a:pt x="51" y="10463"/>
                </a:lnTo>
                <a:arcTo wR="21600" hR="9789" stAng="-10692509" swAng="5292509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C9C-E61A-42E0-BCB3-2F75D9E6AAD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71280" y="-27360"/>
            <a:ext cx="9332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LASIFICADOR / T. OPERACIÓN / FTE.  FTO. / RUBRO / T. RECURSO /  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T. DOC. / PROC. CONTABLE  FONCOM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0" y="620640"/>
          <a:ext cx="9144000" cy="6296040"/>
        </p:xfrm>
        <a:graphic>
          <a:graphicData uri="http://schemas.openxmlformats.org/drawingml/2006/table">
            <a:tbl>
              <a:tblPr/>
              <a:tblGrid>
                <a:gridCol w="1301760"/>
                <a:gridCol w="512640"/>
                <a:gridCol w="507960"/>
                <a:gridCol w="508320"/>
                <a:gridCol w="419040"/>
                <a:gridCol w="479160"/>
                <a:gridCol w="1028880"/>
                <a:gridCol w="2878200"/>
                <a:gridCol w="753840"/>
                <a:gridCol w="754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DOR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O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O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-BRO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R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. DE CUENTA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CIÓ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1.11 Funcionarios Elegidos por Elección Polític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A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ROMISO</a:t>
                      </a: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1.05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de Gastos –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.05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ones Comprometidas –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VENGADO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.01010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rios Elegidos por Elección Polític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dor / Cuenta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2.0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ones por Paga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.05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ones Comprometidas –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1.05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Gastos  -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IRAD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2.0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ones por Paga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5.0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Tesoro  Público – Gto. Cte.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GAD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0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Tesoro  Público – Gto. Cte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2.03050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y Remesas Corrientes Recibidas – FONCOMUN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sp>
        <p:nvSpPr>
          <p:cNvPr id="596" name="4 Flecha izquierda y arriba"/>
          <p:cNvSpPr/>
          <p:nvPr/>
        </p:nvSpPr>
        <p:spPr>
          <a:xfrm rot="5400000">
            <a:off x="1007640" y="1808280"/>
            <a:ext cx="863640" cy="2089080"/>
          </a:xfrm>
          <a:custGeom>
            <a:avLst/>
            <a:gdLst>
              <a:gd name="textAreaLeft" fmla="*/ 152280 w 863640"/>
              <a:gd name="textAreaRight" fmla="*/ 648000 w 863640"/>
              <a:gd name="textAreaTop" fmla="*/ 1765440 h 2089080"/>
              <a:gd name="textAreaBottom" fmla="*/ 1981440 h 2089080"/>
            </a:gdLst>
            <a:ahLst/>
            <a:rect l="textAreaLeft" t="textAreaTop" r="textAreaRight" b="textAreaBottom"/>
            <a:pathLst>
              <a:path w="863600" h="2089150">
                <a:moveTo>
                  <a:pt x="0" y="1873250"/>
                </a:moveTo>
                <a:lnTo>
                  <a:pt x="304626" y="1657350"/>
                </a:lnTo>
                <a:lnTo>
                  <a:pt x="304626" y="1765300"/>
                </a:lnTo>
                <a:lnTo>
                  <a:pt x="539750" y="1765300"/>
                </a:lnTo>
                <a:lnTo>
                  <a:pt x="539750" y="304626"/>
                </a:lnTo>
                <a:lnTo>
                  <a:pt x="431800" y="304626"/>
                </a:lnTo>
                <a:lnTo>
                  <a:pt x="647700" y="0"/>
                </a:lnTo>
                <a:lnTo>
                  <a:pt x="863600" y="304626"/>
                </a:lnTo>
                <a:lnTo>
                  <a:pt x="755650" y="304626"/>
                </a:lnTo>
                <a:lnTo>
                  <a:pt x="755650" y="1981200"/>
                </a:lnTo>
                <a:lnTo>
                  <a:pt x="304626" y="1981200"/>
                </a:lnTo>
                <a:lnTo>
                  <a:pt x="304626" y="208915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6 Flecha doblada hacia arriba"/>
          <p:cNvSpPr/>
          <p:nvPr/>
        </p:nvSpPr>
        <p:spPr>
          <a:xfrm rot="5400000">
            <a:off x="2232000" y="1447560"/>
            <a:ext cx="934920" cy="1440000"/>
          </a:xfrm>
          <a:custGeom>
            <a:avLst/>
            <a:gdLst>
              <a:gd name="textAreaLeft" fmla="*/ 0 w 934920"/>
              <a:gd name="textAreaRight" fmla="*/ 738360 w 934920"/>
              <a:gd name="textAreaTop" fmla="*/ 1351440 h 1440000"/>
              <a:gd name="textAreaBottom" fmla="*/ 1440360 h 1440000"/>
            </a:gdLst>
            <a:ahLst/>
            <a:rect l="textAreaLeft" t="textAreaTop" r="textAreaRight" b="textAreaBottom"/>
            <a:pathLst>
              <a:path w="935037" h="1439862">
                <a:moveTo>
                  <a:pt x="0" y="1351080"/>
                </a:moveTo>
                <a:lnTo>
                  <a:pt x="649631" y="1351080"/>
                </a:lnTo>
                <a:lnTo>
                  <a:pt x="649631" y="217714"/>
                </a:lnTo>
                <a:lnTo>
                  <a:pt x="453007" y="217714"/>
                </a:lnTo>
                <a:lnTo>
                  <a:pt x="694022" y="0"/>
                </a:lnTo>
                <a:lnTo>
                  <a:pt x="935037" y="217714"/>
                </a:lnTo>
                <a:lnTo>
                  <a:pt x="738413" y="217714"/>
                </a:lnTo>
                <a:lnTo>
                  <a:pt x="738413" y="1439862"/>
                </a:lnTo>
                <a:lnTo>
                  <a:pt x="0" y="1439862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7 Flecha izquierda y arriba"/>
          <p:cNvSpPr/>
          <p:nvPr/>
        </p:nvSpPr>
        <p:spPr>
          <a:xfrm flipH="1">
            <a:off x="2987640" y="1989000"/>
            <a:ext cx="216000" cy="4321440"/>
          </a:xfrm>
          <a:custGeom>
            <a:avLst/>
            <a:gdLst>
              <a:gd name="textAreaLeft" fmla="*/ 45360 w 216000"/>
              <a:gd name="textAreaRight" fmla="*/ 162000 w 216000"/>
              <a:gd name="textAreaTop" fmla="*/ 4222440 h 4321440"/>
              <a:gd name="textAreaBottom" fmla="*/ 4312800 h 4321440"/>
            </a:gdLst>
            <a:ahLst/>
            <a:rect l="textAreaLeft" t="textAreaTop" r="textAreaRight" b="textAreaBottom"/>
            <a:pathLst>
              <a:path w="215900" h="4321175">
                <a:moveTo>
                  <a:pt x="0" y="4267200"/>
                </a:moveTo>
                <a:lnTo>
                  <a:pt x="53975" y="4213225"/>
                </a:lnTo>
                <a:lnTo>
                  <a:pt x="53975" y="4221929"/>
                </a:lnTo>
                <a:lnTo>
                  <a:pt x="116654" y="4221929"/>
                </a:lnTo>
                <a:lnTo>
                  <a:pt x="116654" y="53975"/>
                </a:lnTo>
                <a:lnTo>
                  <a:pt x="107950" y="53975"/>
                </a:lnTo>
                <a:lnTo>
                  <a:pt x="161925" y="0"/>
                </a:lnTo>
                <a:lnTo>
                  <a:pt x="215900" y="53975"/>
                </a:lnTo>
                <a:lnTo>
                  <a:pt x="207196" y="53975"/>
                </a:lnTo>
                <a:lnTo>
                  <a:pt x="207196" y="4312471"/>
                </a:lnTo>
                <a:lnTo>
                  <a:pt x="53975" y="4312471"/>
                </a:lnTo>
                <a:lnTo>
                  <a:pt x="53975" y="432117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10 Flecha doblada hacia arriba"/>
          <p:cNvSpPr/>
          <p:nvPr/>
        </p:nvSpPr>
        <p:spPr>
          <a:xfrm>
            <a:off x="1116000" y="1773360"/>
            <a:ext cx="504720" cy="287280"/>
          </a:xfrm>
          <a:custGeom>
            <a:avLst/>
            <a:gdLst>
              <a:gd name="textAreaLeft" fmla="*/ 0 w 504720"/>
              <a:gd name="textAreaRight" fmla="*/ 469080 w 504720"/>
              <a:gd name="textAreaTop" fmla="*/ 215640 h 287280"/>
              <a:gd name="textAreaBottom" fmla="*/ 287640 h 287280"/>
            </a:gdLst>
            <a:ahLst/>
            <a:rect l="textAreaLeft" t="textAreaTop" r="textAreaRight" b="textAreaBottom"/>
            <a:pathLst>
              <a:path w="504825" h="287337">
                <a:moveTo>
                  <a:pt x="0" y="215503"/>
                </a:moveTo>
                <a:lnTo>
                  <a:pt x="397074" y="215503"/>
                </a:lnTo>
                <a:lnTo>
                  <a:pt x="397074" y="71834"/>
                </a:lnTo>
                <a:lnTo>
                  <a:pt x="361157" y="71834"/>
                </a:lnTo>
                <a:lnTo>
                  <a:pt x="432991" y="0"/>
                </a:lnTo>
                <a:lnTo>
                  <a:pt x="504825" y="71834"/>
                </a:lnTo>
                <a:lnTo>
                  <a:pt x="468908" y="71834"/>
                </a:lnTo>
                <a:lnTo>
                  <a:pt x="468908" y="287337"/>
                </a:lnTo>
                <a:lnTo>
                  <a:pt x="0" y="287337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11 Flecha curvada hacia abajo"/>
          <p:cNvSpPr/>
          <p:nvPr/>
        </p:nvSpPr>
        <p:spPr>
          <a:xfrm>
            <a:off x="1619280" y="1052640"/>
            <a:ext cx="1728720" cy="358560"/>
          </a:xfrm>
          <a:custGeom>
            <a:avLst/>
            <a:gdLst>
              <a:gd name="textAreaLeft" fmla="*/ 398160 w 1728720"/>
              <a:gd name="textAreaRight" fmla="*/ 1285200 w 17287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56" hR="21600" stAng="10800000" swAng="5400000"/>
                <a:lnTo>
                  <a:pt x="11081" y="0"/>
                </a:lnTo>
                <a:arcTo wR="9956" hR="21600" stAng="-5400000" swAng="3644614"/>
                <a:lnTo>
                  <a:pt x="21284" y="16200"/>
                </a:lnTo>
                <a:lnTo>
                  <a:pt x="20475" y="21600"/>
                </a:lnTo>
                <a:lnTo>
                  <a:pt x="19033" y="16200"/>
                </a:lnTo>
                <a:lnTo>
                  <a:pt x="19596" y="16200"/>
                </a:lnTo>
                <a:arcTo wR="9956" hR="21600" stAng="-1755386" swAng="-3554967"/>
                <a:lnTo>
                  <a:pt x="10519" y="35"/>
                </a:lnTo>
                <a:arcTo wR="9956" hR="21600" stAng="-5489648" swAng="-5310352"/>
                <a:close/>
              </a:path>
              <a:path fill="darkenLess" w="21600" h="21600">
                <a:moveTo>
                  <a:pt x="0" y="21600"/>
                </a:moveTo>
                <a:arcTo wR="9956" hR="21600" stAng="10800000" swAng="5400000"/>
                <a:lnTo>
                  <a:pt x="9956" y="0"/>
                </a:lnTo>
                <a:arcTo wR="9956" hR="21600" stAng="-5400000" swAng="89648"/>
                <a:lnTo>
                  <a:pt x="10519" y="35"/>
                </a:lnTo>
                <a:arcTo wR="9956" hR="21600" stAng="-5489648" swAng="-5310352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11 Flecha abajo"/>
          <p:cNvSpPr/>
          <p:nvPr/>
        </p:nvSpPr>
        <p:spPr>
          <a:xfrm>
            <a:off x="2411280" y="1844640"/>
            <a:ext cx="144720" cy="360360"/>
          </a:xfrm>
          <a:prstGeom prst="downArrow">
            <a:avLst>
              <a:gd name="adj1" fmla="val 50000"/>
              <a:gd name="adj2" fmla="val 49801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12 Rectángulo redondeado"/>
          <p:cNvSpPr/>
          <p:nvPr/>
        </p:nvSpPr>
        <p:spPr>
          <a:xfrm>
            <a:off x="179280" y="6524640"/>
            <a:ext cx="3492720" cy="333360"/>
          </a:xfrm>
          <a:prstGeom prst="roundRect">
            <a:avLst>
              <a:gd name="adj" fmla="val 16667"/>
            </a:avLst>
          </a:prstGeom>
          <a:solidFill>
            <a:srgbClr val="fdc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MODULO ADMINISTRATIVO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13 Rectángulo redondeado"/>
          <p:cNvSpPr/>
          <p:nvPr/>
        </p:nvSpPr>
        <p:spPr>
          <a:xfrm>
            <a:off x="3995640" y="6497640"/>
            <a:ext cx="5148360" cy="360360"/>
          </a:xfrm>
          <a:prstGeom prst="roundRect">
            <a:avLst>
              <a:gd name="adj" fmla="val 16667"/>
            </a:avLst>
          </a:prstGeom>
          <a:solidFill>
            <a:srgbClr val="fdc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MODULO  CONTABLE 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9F1-23EA-4694-B7A8-C69009AB8C0E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3326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CED. CONT.  FONCOMUN CON DEPÓSITO EN LA CTA CENTRAL RECURSOS DETERMIN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24000" y="1125360"/>
          <a:ext cx="8288280" cy="706680"/>
        </p:xfrm>
        <a:graphic>
          <a:graphicData uri="http://schemas.openxmlformats.org/drawingml/2006/table">
            <a:tbl>
              <a:tblPr/>
              <a:tblGrid>
                <a:gridCol w="1612800"/>
                <a:gridCol w="3805200"/>
                <a:gridCol w="1492200"/>
                <a:gridCol w="137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IFICADOR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14.5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OMU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24000" y="1989000"/>
          <a:ext cx="8280360" cy="4365720"/>
        </p:xfrm>
        <a:graphic>
          <a:graphicData uri="http://schemas.openxmlformats.org/drawingml/2006/table">
            <a:tbl>
              <a:tblPr/>
              <a:tblGrid>
                <a:gridCol w="1627200"/>
                <a:gridCol w="3863880"/>
                <a:gridCol w="1536480"/>
                <a:gridCol w="1252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AUDAD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a y Banc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.030108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Determinados – FONCOMUN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. y Transferencias Ctes. Recib.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1.0103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Gobierno Nacional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Ingres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.0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Determinad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1.05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de Compensación Municipal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de Ingres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.0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Determinad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1.05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de Compensación Municipal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sp>
        <p:nvSpPr>
          <p:cNvPr id="608" name="6 Flecha curvada hacia la derecha"/>
          <p:cNvSpPr/>
          <p:nvPr/>
        </p:nvSpPr>
        <p:spPr>
          <a:xfrm>
            <a:off x="0" y="1628640"/>
            <a:ext cx="324000" cy="2016360"/>
          </a:xfrm>
          <a:custGeom>
            <a:avLst/>
            <a:gdLst>
              <a:gd name="textAreaLeft" fmla="*/ 43200 w 324000"/>
              <a:gd name="textAreaRight" fmla="*/ 280800 w 324000"/>
              <a:gd name="textAreaTop" fmla="*/ 473760 h 2016360"/>
              <a:gd name="textAreaBottom" fmla="*/ 150228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50" stAng="-5400000" swAng="-5400000"/>
                <a:lnTo>
                  <a:pt x="0" y="11017"/>
                </a:lnTo>
                <a:arcTo wR="21600" hR="10150" stAng="10800000" swAng="-3672758"/>
                <a:lnTo>
                  <a:pt x="16200" y="21278"/>
                </a:lnTo>
                <a:lnTo>
                  <a:pt x="21600" y="20734"/>
                </a:lnTo>
                <a:lnTo>
                  <a:pt x="16200" y="19545"/>
                </a:lnTo>
                <a:lnTo>
                  <a:pt x="16200" y="19978"/>
                </a:lnTo>
                <a:arcTo wR="21600" hR="10150" stAng="7127242" swAng="3603711"/>
                <a:lnTo>
                  <a:pt x="20" y="10584"/>
                </a:lnTo>
                <a:arcTo wR="21600" hR="10150" stAng="-10730953" swAng="5330953"/>
                <a:close/>
              </a:path>
              <a:path fill="darkenLess" w="21600" h="21600">
                <a:moveTo>
                  <a:pt x="21600" y="0"/>
                </a:moveTo>
                <a:arcTo wR="21600" hR="10150" stAng="-5400000" swAng="-5400000"/>
                <a:lnTo>
                  <a:pt x="0" y="10150"/>
                </a:lnTo>
                <a:arcTo wR="21600" hR="10150" stAng="10800000" swAng="-69047"/>
                <a:lnTo>
                  <a:pt x="20" y="10584"/>
                </a:lnTo>
                <a:arcTo wR="21600" hR="10150" stAng="-10730953" swAng="5330953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5371-B5B2-417A-B4DD-8C3BC3B49BD0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71280" y="-27360"/>
            <a:ext cx="9332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LASIFICADOR / T. OPERACIÓN / FTE.  FTO. / RUBRO / T. RECURSO /  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T. DOC. / PROC. CONTABLE  FONCOM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0" y="620640"/>
          <a:ext cx="8964720" cy="5881680"/>
        </p:xfrm>
        <a:graphic>
          <a:graphicData uri="http://schemas.openxmlformats.org/drawingml/2006/table">
            <a:tbl>
              <a:tblPr/>
              <a:tblGrid>
                <a:gridCol w="1276200"/>
                <a:gridCol w="501840"/>
                <a:gridCol w="498600"/>
                <a:gridCol w="498240"/>
                <a:gridCol w="411120"/>
                <a:gridCol w="522360"/>
                <a:gridCol w="1079640"/>
                <a:gridCol w="2698560"/>
                <a:gridCol w="738360"/>
                <a:gridCol w="7398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DOR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O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E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O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-BRO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R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D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. DE CUENTAS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CIÓ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1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.12.31 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Banco de la Nació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 DE CARGO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ROMISO </a:t>
                      </a: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1.0502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de Gastos – 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.0502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ones Comprometidas 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– FONCOMU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VENGADO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2.01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s Directas a Largo Plazo - Internas 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dor / Cuenta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3.98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 Directa Devengada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.0502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ones Comprometidas 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1.0502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Gastos  - 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- FONCOMU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IRADO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3.98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 Directa Devengada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 de la Nació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.030108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Determinados – FONCOMUN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sp>
        <p:nvSpPr>
          <p:cNvPr id="612" name="6 Flecha doblada hacia arriba"/>
          <p:cNvSpPr/>
          <p:nvPr/>
        </p:nvSpPr>
        <p:spPr>
          <a:xfrm rot="5400000">
            <a:off x="2411640" y="1844640"/>
            <a:ext cx="576000" cy="1440000"/>
          </a:xfrm>
          <a:custGeom>
            <a:avLst/>
            <a:gdLst>
              <a:gd name="textAreaLeft" fmla="*/ 0 w 576000"/>
              <a:gd name="textAreaRight" fmla="*/ 455040 w 576000"/>
              <a:gd name="textAreaTop" fmla="*/ 1385640 h 1440000"/>
              <a:gd name="textAreaBottom" fmla="*/ 1440360 h 1440000"/>
            </a:gdLst>
            <a:ahLst/>
            <a:rect l="textAreaLeft" t="textAreaTop" r="textAreaRight" b="textAreaBottom"/>
            <a:pathLst>
              <a:path w="576064" h="1439862">
                <a:moveTo>
                  <a:pt x="0" y="1385165"/>
                </a:moveTo>
                <a:lnTo>
                  <a:pt x="400229" y="1385165"/>
                </a:lnTo>
                <a:lnTo>
                  <a:pt x="400229" y="160958"/>
                </a:lnTo>
                <a:lnTo>
                  <a:pt x="279091" y="160958"/>
                </a:lnTo>
                <a:lnTo>
                  <a:pt x="427578" y="0"/>
                </a:lnTo>
                <a:lnTo>
                  <a:pt x="576064" y="160958"/>
                </a:lnTo>
                <a:lnTo>
                  <a:pt x="454926" y="160958"/>
                </a:lnTo>
                <a:lnTo>
                  <a:pt x="454926" y="1439862"/>
                </a:lnTo>
                <a:lnTo>
                  <a:pt x="0" y="1439862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7 Flecha izquierda y arriba"/>
          <p:cNvSpPr/>
          <p:nvPr/>
        </p:nvSpPr>
        <p:spPr>
          <a:xfrm flipH="1">
            <a:off x="2915640" y="2060640"/>
            <a:ext cx="142920" cy="4248000"/>
          </a:xfrm>
          <a:custGeom>
            <a:avLst/>
            <a:gdLst>
              <a:gd name="textAreaLeft" fmla="*/ 29880 w 142920"/>
              <a:gd name="textAreaRight" fmla="*/ 107280 w 142920"/>
              <a:gd name="textAreaTop" fmla="*/ 4182120 h 4248000"/>
              <a:gd name="textAreaBottom" fmla="*/ 4242240 h 4248000"/>
            </a:gdLst>
            <a:ahLst/>
            <a:rect l="textAreaLeft" t="textAreaTop" r="textAreaRight" b="textAreaBottom"/>
            <a:pathLst>
              <a:path w="144016" h="4248472">
                <a:moveTo>
                  <a:pt x="0" y="4212468"/>
                </a:moveTo>
                <a:lnTo>
                  <a:pt x="36004" y="4176464"/>
                </a:lnTo>
                <a:lnTo>
                  <a:pt x="36004" y="4182270"/>
                </a:lnTo>
                <a:lnTo>
                  <a:pt x="77814" y="4182270"/>
                </a:lnTo>
                <a:lnTo>
                  <a:pt x="77814" y="36004"/>
                </a:lnTo>
                <a:lnTo>
                  <a:pt x="72008" y="36004"/>
                </a:lnTo>
                <a:lnTo>
                  <a:pt x="108012" y="0"/>
                </a:lnTo>
                <a:lnTo>
                  <a:pt x="144016" y="36004"/>
                </a:lnTo>
                <a:lnTo>
                  <a:pt x="138210" y="36004"/>
                </a:lnTo>
                <a:lnTo>
                  <a:pt x="138210" y="4242666"/>
                </a:lnTo>
                <a:lnTo>
                  <a:pt x="36004" y="4242666"/>
                </a:lnTo>
                <a:lnTo>
                  <a:pt x="36004" y="4248472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10 Flecha doblada hacia arriba"/>
          <p:cNvSpPr/>
          <p:nvPr/>
        </p:nvSpPr>
        <p:spPr>
          <a:xfrm>
            <a:off x="1187280" y="1989000"/>
            <a:ext cx="505080" cy="287640"/>
          </a:xfrm>
          <a:custGeom>
            <a:avLst/>
            <a:gdLst>
              <a:gd name="textAreaLeft" fmla="*/ 0 w 505080"/>
              <a:gd name="textAreaRight" fmla="*/ 469440 w 505080"/>
              <a:gd name="textAreaTop" fmla="*/ 216000 h 287640"/>
              <a:gd name="textAreaBottom" fmla="*/ 288000 h 287640"/>
            </a:gdLst>
            <a:ahLst/>
            <a:rect l="textAreaLeft" t="textAreaTop" r="textAreaRight" b="textAreaBottom"/>
            <a:pathLst>
              <a:path w="504825" h="287337">
                <a:moveTo>
                  <a:pt x="0" y="215503"/>
                </a:moveTo>
                <a:lnTo>
                  <a:pt x="397074" y="215503"/>
                </a:lnTo>
                <a:lnTo>
                  <a:pt x="397074" y="71834"/>
                </a:lnTo>
                <a:lnTo>
                  <a:pt x="361157" y="71834"/>
                </a:lnTo>
                <a:lnTo>
                  <a:pt x="432991" y="0"/>
                </a:lnTo>
                <a:lnTo>
                  <a:pt x="504825" y="71834"/>
                </a:lnTo>
                <a:lnTo>
                  <a:pt x="468908" y="71834"/>
                </a:lnTo>
                <a:lnTo>
                  <a:pt x="468908" y="287337"/>
                </a:lnTo>
                <a:lnTo>
                  <a:pt x="0" y="287337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11 Flecha abajo"/>
          <p:cNvSpPr/>
          <p:nvPr/>
        </p:nvSpPr>
        <p:spPr>
          <a:xfrm>
            <a:off x="2411280" y="1989000"/>
            <a:ext cx="144720" cy="360360"/>
          </a:xfrm>
          <a:prstGeom prst="downArrow">
            <a:avLst>
              <a:gd name="adj1" fmla="val 50000"/>
              <a:gd name="adj2" fmla="val 49801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12 Rectángulo redondeado"/>
          <p:cNvSpPr/>
          <p:nvPr/>
        </p:nvSpPr>
        <p:spPr>
          <a:xfrm>
            <a:off x="179280" y="6570720"/>
            <a:ext cx="3492720" cy="287280"/>
          </a:xfrm>
          <a:prstGeom prst="roundRect">
            <a:avLst>
              <a:gd name="adj" fmla="val 16667"/>
            </a:avLst>
          </a:prstGeom>
          <a:solidFill>
            <a:srgbClr val="fdc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MODULO ADMINISTRATIVO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13 Rectángulo redondeado"/>
          <p:cNvSpPr/>
          <p:nvPr/>
        </p:nvSpPr>
        <p:spPr>
          <a:xfrm>
            <a:off x="3924360" y="6570720"/>
            <a:ext cx="4968720" cy="287280"/>
          </a:xfrm>
          <a:prstGeom prst="roundRect">
            <a:avLst>
              <a:gd name="adj" fmla="val 16667"/>
            </a:avLst>
          </a:prstGeom>
          <a:solidFill>
            <a:srgbClr val="fdc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MODULO  CONTABLE 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13 Flecha izquierda y arriba"/>
          <p:cNvSpPr/>
          <p:nvPr/>
        </p:nvSpPr>
        <p:spPr>
          <a:xfrm rot="5400000">
            <a:off x="1224000" y="1952280"/>
            <a:ext cx="1295280" cy="2232000"/>
          </a:xfrm>
          <a:custGeom>
            <a:avLst/>
            <a:gdLst>
              <a:gd name="textAreaLeft" fmla="*/ 207360 w 1295280"/>
              <a:gd name="textAreaRight" fmla="*/ 1042920 w 1295280"/>
              <a:gd name="textAreaTop" fmla="*/ 1817280 h 2232000"/>
              <a:gd name="textAreaBottom" fmla="*/ 2141280 h 2232000"/>
            </a:gdLst>
            <a:ahLst/>
            <a:rect l="textAreaLeft" t="textAreaTop" r="textAreaRight" b="textAreaBottom"/>
            <a:pathLst>
              <a:path w="1296144" h="2232248">
                <a:moveTo>
                  <a:pt x="0" y="1979461"/>
                </a:moveTo>
                <a:lnTo>
                  <a:pt x="324036" y="1726674"/>
                </a:lnTo>
                <a:lnTo>
                  <a:pt x="324036" y="1817443"/>
                </a:lnTo>
                <a:lnTo>
                  <a:pt x="881339" y="1817443"/>
                </a:lnTo>
                <a:lnTo>
                  <a:pt x="881339" y="324036"/>
                </a:lnTo>
                <a:lnTo>
                  <a:pt x="790570" y="324036"/>
                </a:lnTo>
                <a:lnTo>
                  <a:pt x="1043357" y="0"/>
                </a:lnTo>
                <a:lnTo>
                  <a:pt x="1296144" y="324036"/>
                </a:lnTo>
                <a:lnTo>
                  <a:pt x="1205375" y="324036"/>
                </a:lnTo>
                <a:lnTo>
                  <a:pt x="1205375" y="2141479"/>
                </a:lnTo>
                <a:lnTo>
                  <a:pt x="324036" y="2141479"/>
                </a:lnTo>
                <a:lnTo>
                  <a:pt x="324036" y="223224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53AF-DDE3-4F03-BDFB-9357F5072EF0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REGISTRO CONTABLE POR TRASPASO DE FONDOS ENTRE UNIDADES EJECUTORAS DE UN MISMO PLIEGO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E QUE ENTREG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68360" y="1773360"/>
          <a:ext cx="8353440" cy="1854000"/>
        </p:xfrm>
        <a:graphic>
          <a:graphicData uri="http://schemas.openxmlformats.org/drawingml/2006/table">
            <a:tbl>
              <a:tblPr/>
              <a:tblGrid>
                <a:gridCol w="1730160"/>
                <a:gridCol w="3946680"/>
                <a:gridCol w="1320840"/>
                <a:gridCol w="1355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CIÓ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Y REMESA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.0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Interno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A Y BANCO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.030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R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sp>
        <p:nvSpPr>
          <p:cNvPr id="555" name="Rectangle 2"/>
          <p:cNvSpPr/>
          <p:nvPr/>
        </p:nvSpPr>
        <p:spPr>
          <a:xfrm>
            <a:off x="0" y="393372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E QUE RECIBE: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95280" y="4653000"/>
          <a:ext cx="8353440" cy="1854000"/>
        </p:xfrm>
        <a:graphic>
          <a:graphicData uri="http://schemas.openxmlformats.org/drawingml/2006/table">
            <a:tbl>
              <a:tblPr/>
              <a:tblGrid>
                <a:gridCol w="1730520"/>
                <a:gridCol w="3946320"/>
                <a:gridCol w="1320840"/>
                <a:gridCol w="1355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CIÓ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A Y BANCO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.030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R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Y REMESA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.0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Interno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C87-B4B8-416C-9CCE-42E33BC997AF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0360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ESENTACIÓN EN EL ANEXO HACIENDA NACIONAL ADICIONAL AF-7 NIVEL PLIE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9280" y="1197000"/>
          <a:ext cx="8856720" cy="156996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1008000"/>
                <a:gridCol w="1224000"/>
                <a:gridCol w="1224000"/>
                <a:gridCol w="1152720"/>
                <a:gridCol w="1079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ALDO AL 31-12-200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MINUCIÓ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SLADO A LA HAC. NAC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SLADO POR FUSIÓN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AL 31-12-20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Intern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Intern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sp>
        <p:nvSpPr>
          <p:cNvPr id="560" name="Rectangle 2"/>
          <p:cNvSpPr/>
          <p:nvPr/>
        </p:nvSpPr>
        <p:spPr>
          <a:xfrm>
            <a:off x="0" y="306864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TADO DE CAMBIOS EN EL PATRIMONIO NETO EF-3 HACIENDA NACIONAL ADICIONAL  NIVEL PLIEG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692360" y="4076640"/>
          <a:ext cx="5452920" cy="2440080"/>
        </p:xfrm>
        <a:graphic>
          <a:graphicData uri="http://schemas.openxmlformats.org/drawingml/2006/table">
            <a:tbl>
              <a:tblPr/>
              <a:tblGrid>
                <a:gridCol w="3560760"/>
                <a:gridCol w="189216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S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ALDO AL 31-12-200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IENDA NACIONAL ADICIONAL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Operaciones Patrimonial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-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do entre Cuentas Patrimonial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.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al 31 de diciembre de 201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-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E6B-8D80-44DF-85D9-ECFE91BB7B10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REGISTRO CONTABLE DE TRANSFERENCIA DE BIENES ENTRE UNIDADES EJECUTORAS DE UN MISMO PLIEG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E QUE ENTREG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68360" y="1197000"/>
          <a:ext cx="8353440" cy="2408040"/>
        </p:xfrm>
        <a:graphic>
          <a:graphicData uri="http://schemas.openxmlformats.org/drawingml/2006/table">
            <a:tbl>
              <a:tblPr/>
              <a:tblGrid>
                <a:gridCol w="1368360"/>
                <a:gridCol w="4535640"/>
                <a:gridCol w="1225440"/>
                <a:gridCol w="122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CIÓ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Y TRASFERENCIAS DE CAPITAL OTORGAD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3.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ien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3.020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tras Unidades de Gobiern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3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ÍCULOS, MAQUINARIAS Y OTR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3.0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ículos, Maquinarias y Otros por Distri.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  <p:sp>
        <p:nvSpPr>
          <p:cNvPr id="565" name="Rectangle 2"/>
          <p:cNvSpPr/>
          <p:nvPr/>
        </p:nvSpPr>
        <p:spPr>
          <a:xfrm>
            <a:off x="0" y="364500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E QUE RECIBE: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24000" y="4149720"/>
          <a:ext cx="8424720" cy="2448000"/>
        </p:xfrm>
        <a:graphic>
          <a:graphicData uri="http://schemas.openxmlformats.org/drawingml/2006/table">
            <a:tbl>
              <a:tblPr/>
              <a:tblGrid>
                <a:gridCol w="1420560"/>
                <a:gridCol w="4680000"/>
                <a:gridCol w="1162080"/>
                <a:gridCol w="116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CIÓN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ÍCULOS, MAQUINARIAS Y OTR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3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ícul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Y TRANSFERENCIAS DE CAPITAL RECIBID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3.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ien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3.02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tras Unidades de Gobiern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164B-453C-41D5-8CA1-230357FA51F2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71280" y="0"/>
            <a:ext cx="9036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ESENTACIÓN EN EL ESTADO DE GESTIÓN EF-2 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NIVEL UE Y PLIE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24000" y="1523880"/>
          <a:ext cx="8640720" cy="4429080"/>
        </p:xfrm>
        <a:graphic>
          <a:graphicData uri="http://schemas.openxmlformats.org/drawingml/2006/table">
            <a:tbl>
              <a:tblPr/>
              <a:tblGrid>
                <a:gridCol w="1645920"/>
                <a:gridCol w="1217880"/>
                <a:gridCol w="1674720"/>
                <a:gridCol w="1212840"/>
                <a:gridCol w="1703520"/>
                <a:gridCol w="118584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 QUE ENTREG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   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12-20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 QUE RECIBE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   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12-20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PLIEG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   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12-20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 y Transf. Recibida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 y Transf. Recibida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 y Transf. Recibida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.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.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 y Transf. Otorgada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.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 y Transf. Otorgada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iones  y Transf. Otorgadas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.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L EJERCICIO SUPERAVIT (DEFICIT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.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.0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-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4367-786A-43A1-B132-18E85AACD790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33264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ANSFERENCIAS FINANCIERAS OTORGADAS M.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de Opera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F   Transferencia Financi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mónico de la UE que Recepciona 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sificad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4.13.13  A Otras Unidades del Gobierno Lo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nte de Financiamien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00   Recursos Ordi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de Recur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   Normal   (Comedores, Alimentos por Trabajo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ogares y Albergu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E67-F624-4140-983A-C327F83CBF81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3326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CEDIMIENTO CONTABLE DE TRANSFERENCIAS FINANCIERAS OTORG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68360" y="1052640"/>
          <a:ext cx="8145360" cy="1819080"/>
        </p:xfrm>
        <a:graphic>
          <a:graphicData uri="http://schemas.openxmlformats.org/drawingml/2006/table">
            <a:tbl>
              <a:tblPr/>
              <a:tblGrid>
                <a:gridCol w="1584360"/>
                <a:gridCol w="3738600"/>
                <a:gridCol w="1466640"/>
                <a:gridCol w="135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ROMISO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de Gast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1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Ordinari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ones Comprometid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Ordinarios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68360" y="2924280"/>
          <a:ext cx="8145360" cy="3733560"/>
        </p:xfrm>
        <a:graphic>
          <a:graphicData uri="http://schemas.openxmlformats.org/drawingml/2006/table">
            <a:tbl>
              <a:tblPr/>
              <a:tblGrid>
                <a:gridCol w="1600200"/>
                <a:gridCol w="3699000"/>
                <a:gridCol w="1477800"/>
                <a:gridCol w="1368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NGAD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c. y Transf. Corrientes Otorgad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1.0103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Gobiernos Local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por Paga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3.9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Cuentas por Paga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ones Comprometida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1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Ordinari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Gasto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1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Ordinarios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0DC-BABF-4DEF-9AC8-1236642786E5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71280" y="-360"/>
            <a:ext cx="93326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CEDIMIENTO CONTABLE DE TRANSFERENCIAS FINANCIERAS OTORG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39640" y="765000"/>
          <a:ext cx="8145720" cy="3794400"/>
        </p:xfrm>
        <a:graphic>
          <a:graphicData uri="http://schemas.openxmlformats.org/drawingml/2006/table">
            <a:tbl>
              <a:tblPr/>
              <a:tblGrid>
                <a:gridCol w="1584360"/>
                <a:gridCol w="3738600"/>
                <a:gridCol w="1467000"/>
                <a:gridCol w="13557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RADO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por Paga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3.9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Cuentas por Paga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Tesoro Públic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5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Corrient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3.0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s Ordenes y Doc. Emit. y/o Recib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4.0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de Cartas Ordenes y Doc. Emit. y/o Recib.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4.0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de Cartas Ordenes y Doc. Emit. y/o Recib.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3.0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s Ordenes y Doc. Emit. y/o Recib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9640" y="4581360"/>
          <a:ext cx="8145720" cy="2103480"/>
        </p:xfrm>
        <a:graphic>
          <a:graphicData uri="http://schemas.openxmlformats.org/drawingml/2006/table">
            <a:tbl>
              <a:tblPr/>
              <a:tblGrid>
                <a:gridCol w="1600200"/>
                <a:gridCol w="3699000"/>
                <a:gridCol w="1477800"/>
                <a:gridCol w="1368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AD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ER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Tesoro Públic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5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Corriente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y Remesas Ctes. Recib.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2.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pasos del Tesoro Públic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B37-464C-4F16-87CF-37B9D279E9E2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ANSFERENCIAS FINANCIERAS RECIBIDAS M. 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25056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de Opera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F   Transferencia Financiera Recib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mónico de la UE que Entrega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ente de Financi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3 Donaciones y Transferenc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sificad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4.13.13 De los Gobiernos Loc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de Financi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   Transferenci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 de Recur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56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0   Normal   (Comedores, Alimentos por Trabajo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56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ogares y Albergu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56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56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Lenovo User</cp:lastModifiedBy>
  <cp:lastPrinted>2004-07-15T16:43:21Z</cp:lastPrinted>
  <dcterms:modified xsi:type="dcterms:W3CDTF">2010-12-15T21:27:48Z</dcterms:modified>
  <cp:revision>833</cp:revision>
  <dc:subject/>
  <dc:title>Presentación de PowerPoint</dc:title>
</cp:coreProperties>
</file>