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1D81-05C8-446E-A978-028640CF3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7979-EF25-41C3-A6E7-07451505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40C4B5-B060-42EC-B93D-A0EFE872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2A646-923A-4712-9093-99E93279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623520" y="304920"/>
            <a:ext cx="86677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55175-4C0B-4061-A5B9-57FFD8B6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0CB38-54D3-4665-9448-06724664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ABF62-F9B3-4BB8-85FC-4F7FDBE1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F489E-D093-453C-B3C3-28FF672F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ADA74-98DD-4511-A97B-57224296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288EA-FC37-438E-8734-480C4DE35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5449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4753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1416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5449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4753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9168B-F583-4D41-9616-FB7FE00C1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9BFD5B-D235-4CF4-968F-9AF73FEA5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C6D3-BF4E-435D-A471-9BF3EEEC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E99982-71D4-47C6-A6A6-49974F66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0E91D4-63FC-4694-B5A5-F77818C4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E1135E-3621-4958-95EC-C11B8DC0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4740A-AAC6-48DD-8AD1-F929A764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23520" y="304920"/>
            <a:ext cx="86677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CCC67A-E60D-4439-8D66-B11291A6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DDDB8-8286-4FC2-AE77-EC92C096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E05FE6-E07C-4DE4-8EF6-662FCB84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3EC817-A351-4426-BF83-A747983B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C4E47C-1F9A-44A1-9AC0-092B15E0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3CDD87-1BF1-4A6E-AE72-6085D5963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49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753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416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49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753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5D4D-AEC1-4C36-AD97-C66A8D085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5449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753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1416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5449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753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B2D1A-5FE4-4F7E-9C00-7019FB3DF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CD897-BECD-4ABD-A8CA-83C66554D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91EC9-6BEF-4525-B80C-A051C657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098B7-19E0-4902-866B-EDFB2899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83F54-7CB1-420B-8698-232F5F95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8414F-7A1F-484D-9C3F-FED66EAF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623520" y="304920"/>
            <a:ext cx="86677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AC982-E3C1-4BE8-B49C-1DBDF48E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818AF-739B-4C18-B481-8D676CEC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887C2-40F2-4026-A171-2E17706E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3F3EF-5219-44A4-B0F6-D9AD2A16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9B2E-8438-4048-9D44-DE1EB6701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67542-6508-4655-9263-BB29CA6F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8E627-511D-4A66-9623-1482AE37C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5449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4753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1416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5449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4753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C10A0-EF6D-4F10-9881-FEDC3EAEB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B4BA19-9410-4256-8E69-5D1309BE3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0128D5-4540-48E1-9B3D-6AC1CA82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72026B-C744-4309-8695-8F2DACDB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B242D-8674-4F2F-AF4A-01E611B3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E412F5-DEA7-4D49-9CFD-65675671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23520" y="304920"/>
            <a:ext cx="86677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4A391E-46F7-4AD6-BF31-4E62F121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B66EB9-A45A-4FBA-8C0C-0316E5B5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05A8-F8D7-4F16-930D-96EDF260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ECC784-3D55-42A7-AEC8-DEE1A0CA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77412-5C6D-47B8-B7D2-6E3D7790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6ACB81-A8BB-4C9D-8D87-D0EA00BE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7677F3-0A82-4A57-911E-558073B30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5449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4753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1416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5449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4753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83FF86-9619-4D1E-8BFB-AF10A46D8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B594-72E2-438C-AA0B-DD32D018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C912-01D1-4AE3-9C7E-2EFFAAF2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DFD3-C5A4-4547-9D4B-896804B6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3520" y="304920"/>
            <a:ext cx="86677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C375-B5F1-441E-B666-6E24977F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3747-2809-418A-9EC5-DE3A526E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E0B6-7E96-496C-8D19-2F386EA8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DDF8-DBCE-4EB1-AF2D-432E7DB5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3EA7-57C2-43E9-AD91-28587188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DAA8-46EA-4782-8CB8-283F93B2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142F-1684-492C-803B-6E9E2F583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449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753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1416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449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753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A67F-1C67-4EEA-A702-52D410ED3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53135-8A65-4569-8288-E3F1A8601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698A8-C199-4E46-807E-9CB79762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38603-E41C-407E-948A-D884A369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5A68A-A85C-4C20-BD1D-035DCBFA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23430-87EE-4487-BC8E-8A55EBE1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CF4D-FE39-4879-9F85-74D4B043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23520" y="304920"/>
            <a:ext cx="86677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FA44C-69DF-4AF8-9E14-1B5D4477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D1B6C-66C2-44EB-BA67-06D399A2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02A3A-3AA3-43C2-8E67-C9EBE90C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4B2D7-44E3-4CAE-80AA-84EDEAF6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A15B1-5C7C-4DC5-9905-EDA6C3B3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6A981-7230-4771-849C-B333F185C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449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4753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1416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449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4753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33B84-5EAB-4369-9065-A53CEC9B1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31B80-4531-4083-BC9C-4B273D37E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F42E7-FD34-4512-8700-133D9709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A8474-F337-487E-B8EF-A78AC05B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FF46-F67B-4284-B0F3-8175A736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39638-ABB2-4D44-85EC-608AB5B1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C5224-3F4A-4DCF-AB23-DD0D1D9C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23520" y="304920"/>
            <a:ext cx="86677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D90F1-ADC3-4949-A033-5B9EE712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580C3-0DBE-4D06-A0C3-79FC8E97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C81C5-D820-46D8-BA31-A879AFC2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CD9D2-3C09-40AD-9F76-3A63019C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C192F-D5F5-4764-93BA-30978E3B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39DE8-3B09-430C-97BA-3B5B4F57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449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4753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1416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449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4753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65318-5AA6-4EC2-9C61-43B2884B4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E8EF7-2FC0-40AD-BF94-8E6B674BD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4942-12CA-43B5-BF2E-04F185E6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909B2-2816-4C58-9E61-9B45F649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56818-D422-40EE-9B62-F7F5D559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90A41-4674-477A-AEFB-3D76C44E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B66FE-8FE0-4C2D-AB41-345A02E7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23520" y="304920"/>
            <a:ext cx="86677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BBD8A-9B52-4CB5-AEB8-9B5AC0A5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E0F81-0EDA-4538-8113-673C5A46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D56EE-16FD-4EC4-95A7-7770DE5E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11C5F-B5C4-4DBD-8D90-E06B2B23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4CC7A-075B-42AA-AC6B-1062F1D6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A7F5C-D322-4E65-9390-B7CFB82B6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23520" y="304920"/>
            <a:ext cx="86677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2A0F-0C65-4731-9166-5C17DD97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449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4753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1416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5449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4753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11F32-6023-4C09-BD1C-C1469A2F4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8256C-EA9F-444E-AE2C-D9BE43B9D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790D3-025A-403B-8DEE-443ABE77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8BEA3-F5CD-49F1-AD9E-DE1FB488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D55F3-0D31-418F-8A92-2BAD77D3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48E3F-8948-4833-ABA5-1AEEE81D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23520" y="304920"/>
            <a:ext cx="86677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10A6D-334B-4C02-9164-9A9EDF6B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BAEF2-BF15-47F9-8E5F-E9D042F6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B6CD4-41BF-421B-A276-5834E7F5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F9670-22B5-4DDF-8996-BC686F93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FBBD-B541-4001-BBB8-9CDACC72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5D332-AEF7-4A4A-8D37-382FA12E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D4AB3-28B2-4307-AE0D-CAF7E8318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5449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4753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1416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5449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4753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DA112-2818-4F24-8E20-22185525C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A6419-0F20-4753-AFDA-7C8CFF93E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687DD-E21B-499C-8D84-E4221110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426C9-3BA3-4FBF-A8B1-6AABBF16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E4A07-8BAA-4DA5-9E06-70DFA2D1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2D7F3-D7CD-466B-98FF-0E9620E7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23520" y="304920"/>
            <a:ext cx="86677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04064-9F03-4E69-AE60-616FDCA3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7A325-BBDE-47B5-BB0D-8966D8B4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7C88-230C-406A-BB4C-1379C7A7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46353-7F81-4C5E-8C31-015C68B5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190A3-1DDC-4019-A98C-CEA8E54A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9BDC4-AC19-43AF-81F3-CC8F98C1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49242-C42F-4709-AD26-A93CFB193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449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4753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1416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449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4753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82D2C-AAC9-4D07-AEC6-304FB0F61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D9834-104D-49D1-A33B-CD5BB5EB8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EF8C2-D316-4A93-AE73-098D66D4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C702E-EEE1-4409-9611-6E38F616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D1ED3-2B16-4EC1-9D82-D0A3B0B5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8B8F9-13CC-4DBD-9D73-8B970914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CE80-DE85-4234-9051-CDC3D531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623520" y="304920"/>
            <a:ext cx="86677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6F06D-7737-4956-A2F6-41E864D6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4AA08-3341-4A4E-800A-768EECA9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5E564-FB35-4B31-B176-603EA83D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8CD94-BBC3-40BA-9A8A-C99F9AF3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1DC38-12C7-44AE-98AE-8C8C7398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40B57-0AF4-4D28-9B93-A102BCCD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5449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4753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61416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5449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4753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96D56-D201-4542-ACDF-BD0A2D58D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AF6A6-8B5B-4F43-884D-E0D31CF65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7B92AF-82EE-4D98-9C29-F9D02C8E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F9A2B-D2DB-4212-B449-1DAE57EA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60240" y="1566720"/>
            <a:ext cx="862200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60240" y="6172200"/>
            <a:ext cx="858528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60240" y="6244920"/>
            <a:ext cx="214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99200" y="6244920"/>
            <a:ext cx="214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BCAB-9732-4A4C-810B-95F0B67B616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660240" y="6244920"/>
            <a:ext cx="214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7099200" y="6244920"/>
            <a:ext cx="214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D503-B0AD-4969-850A-E09FE88F98A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660240" y="6244920"/>
            <a:ext cx="214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7099200" y="6244920"/>
            <a:ext cx="214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E4A4-0903-45C6-A5A1-8CC57F8E9C6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660240" y="6244920"/>
            <a:ext cx="214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7099200" y="6244920"/>
            <a:ext cx="214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9A79-8DCA-4532-A7C6-EA9C0102F70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743040" y="2394000"/>
            <a:ext cx="842004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23E0-E86F-4339-A24A-154E566E6AA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60240" y="6244920"/>
            <a:ext cx="214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7099200" y="6244920"/>
            <a:ext cx="214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9253-0726-4B68-9CF0-BD0BE34B4F9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660240" y="6244920"/>
            <a:ext cx="214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099200" y="6244920"/>
            <a:ext cx="214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E6E7-9397-469F-9711-2A491C8375C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660240" y="6244920"/>
            <a:ext cx="214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7099200" y="6244920"/>
            <a:ext cx="214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F86B-C3E5-47AE-9A79-BE20AB21078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660240" y="6244920"/>
            <a:ext cx="214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7099200" y="6244920"/>
            <a:ext cx="214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584C-64BC-49C3-9C6F-4962114ABF0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660240" y="6244920"/>
            <a:ext cx="214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7099200" y="6244920"/>
            <a:ext cx="214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80C7-8B51-409B-BDE4-D1C9CADB026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660240" y="6244920"/>
            <a:ext cx="214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7099200" y="6244920"/>
            <a:ext cx="214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E533-BC35-4273-8A28-59A3907CB50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660240" y="6244920"/>
            <a:ext cx="214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7099200" y="6244920"/>
            <a:ext cx="214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B13A-3A53-414F-A46E-F98732DB246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5"/>
          <p:cNvGrpSpPr/>
          <p:nvPr/>
        </p:nvGrpSpPr>
        <p:grpSpPr>
          <a:xfrm>
            <a:off x="1352520" y="571680"/>
            <a:ext cx="6984720" cy="936000"/>
            <a:chOff x="1352520" y="571680"/>
            <a:chExt cx="6984720" cy="936000"/>
          </a:xfrm>
        </p:grpSpPr>
        <p:grpSp>
          <p:nvGrpSpPr>
            <p:cNvPr id="496" name="Group 6"/>
            <p:cNvGrpSpPr/>
            <p:nvPr/>
          </p:nvGrpSpPr>
          <p:grpSpPr>
            <a:xfrm>
              <a:off x="1352520" y="571680"/>
              <a:ext cx="895320" cy="936000"/>
              <a:chOff x="1352520" y="571680"/>
              <a:chExt cx="895320" cy="936000"/>
            </a:xfrm>
          </p:grpSpPr>
          <p:pic>
            <p:nvPicPr>
              <p:cNvPr id="497" name="Picture 7" descr="http://www.peruembassy-uk.com/Images/Escudo.gif"/>
              <p:cNvPicPr/>
              <p:nvPr/>
            </p:nvPicPr>
            <p:blipFill>
              <a:blip r:embed="rId1">
                <a:lum bright="12000"/>
              </a:blip>
              <a:stretch/>
            </p:blipFill>
            <p:spPr>
              <a:xfrm>
                <a:off x="1352520" y="724320"/>
                <a:ext cx="895320" cy="78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8" name="WordArt 8"/>
              <p:cNvSpPr txBox="1"/>
              <p:nvPr/>
            </p:nvSpPr>
            <p:spPr>
              <a:xfrm>
                <a:off x="1437120" y="571680"/>
                <a:ext cx="676800" cy="30564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1372617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aaaaaa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atin typeface="Arial Unicode MS"/>
                  </a:rPr>
                  <a:t>REPUBLICA DEL PERU</a:t>
                </a:r>
                <a:endParaRPr b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Unicode MS"/>
                  <a:ea typeface="Arial Unicode MS"/>
                </a:endParaRPr>
              </a:p>
            </p:txBody>
          </p:sp>
        </p:grpSp>
        <p:sp>
          <p:nvSpPr>
            <p:cNvPr id="499" name="Rectangle 9"/>
            <p:cNvSpPr/>
            <p:nvPr/>
          </p:nvSpPr>
          <p:spPr>
            <a:xfrm>
              <a:off x="5948280" y="598320"/>
              <a:ext cx="2388960" cy="909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ctr" pos="2806560"/>
                  <a:tab algn="r" pos="56116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Dirección Nacional d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ctr" pos="2806560"/>
                  <a:tab algn="r" pos="56116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Contabilidad Públic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0" name="Rectangle 10"/>
            <p:cNvSpPr/>
            <p:nvPr/>
          </p:nvSpPr>
          <p:spPr>
            <a:xfrm>
              <a:off x="3558960" y="598320"/>
              <a:ext cx="2388960" cy="90936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ctr" pos="2806560"/>
                  <a:tab algn="r" pos="56116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Ministerio d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ctr" pos="2806560"/>
                  <a:tab algn="r" pos="56116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Economía y Finanz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1" name="Rectangle 11"/>
            <p:cNvSpPr/>
            <p:nvPr/>
          </p:nvSpPr>
          <p:spPr>
            <a:xfrm>
              <a:off x="2272320" y="598320"/>
              <a:ext cx="1286640" cy="9093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ctr" pos="2806560"/>
                  <a:tab algn="r" pos="56116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PERÚ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02" name="10 CuadroTexto" descr=""/>
          <p:cNvPicPr/>
          <p:nvPr/>
        </p:nvPicPr>
        <p:blipFill>
          <a:blip r:embed="rId2"/>
          <a:stretch/>
        </p:blipFill>
        <p:spPr>
          <a:xfrm>
            <a:off x="231840" y="2962440"/>
            <a:ext cx="9813960" cy="126180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28"/>
          <p:cNvSpPr/>
          <p:nvPr/>
        </p:nvSpPr>
        <p:spPr>
          <a:xfrm>
            <a:off x="6286680" y="5789520"/>
            <a:ext cx="38811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JORGE CHICOMA RAMO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Dirección Nacional de Contabilidad Pública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Lima, Diciembre 2010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5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4" name=""/>
          <p:cNvGraphicFramePr/>
          <p:nvPr/>
        </p:nvGraphicFramePr>
        <p:xfrm>
          <a:off x="166680" y="428760"/>
          <a:ext cx="9501120" cy="6000480"/>
        </p:xfrm>
        <a:graphic>
          <a:graphicData uri="http://schemas.openxmlformats.org/drawingml/2006/table">
            <a:tbl>
              <a:tblPr/>
              <a:tblGrid>
                <a:gridCol w="54000"/>
                <a:gridCol w="963720"/>
                <a:gridCol w="542880"/>
                <a:gridCol w="541080"/>
                <a:gridCol w="543240"/>
                <a:gridCol w="963360"/>
                <a:gridCol w="2054520"/>
                <a:gridCol w="1214280"/>
                <a:gridCol w="1193760"/>
                <a:gridCol w="1430280"/>
              </a:tblGrid>
              <a:tr h="285480">
                <a:tc gridSpan="10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GASTO DE PERSON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9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GASTO DE PERSONAL SE INFORMA EN EL  REPORTE   OA 4,  GASTO DE PERSONAL  EN LAS ENTIDADES DEL SEC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9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ÚBLICO Y EL NÚMERO DE TABAJADORES, EN EL REPORTE OA 5, ESTADISTICA DEL PERSONAL EN LAS ENTIDADES 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9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OR PÚBLICO, PREPARADO DE ACUERDO AL  CUADRO DE  ASIGNACIONES  APROVADO POR EL DECRETO SUPRE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9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 043 - 2004 - PCM, QUE APRUEVA LOS LINEAMIENTOS PARA LA ELABORACIÓN DEL CUADRO PARA ASIGNACIÓN DE P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NAL - CAP  EN LAS ENTIDADES DEL SECTOR PÚBL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9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ASO PRACT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T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01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 ADMINIATRAT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580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840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420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01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S VARIABLES Y OCACIONALES(NO INCLUYE CT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786,7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32,1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918,8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RAS RETRIBU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6,037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95,2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01,237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CIONES A LA SEGURIDAD SO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183,63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825,6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009,23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01.09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5,65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230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675,65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,702,017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922,9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,624,917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01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 DEL MAGISTE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,000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000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,000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01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CIONAL DE LA SALU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000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000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,000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0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 OBR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7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7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,907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000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7,907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5" name=""/>
          <p:cNvGraphicFramePr/>
          <p:nvPr/>
        </p:nvGraphicFramePr>
        <p:xfrm>
          <a:off x="166680" y="214200"/>
          <a:ext cx="9572760" cy="6218280"/>
        </p:xfrm>
        <a:graphic>
          <a:graphicData uri="http://schemas.openxmlformats.org/drawingml/2006/table">
            <a:tbl>
              <a:tblPr/>
              <a:tblGrid>
                <a:gridCol w="979560"/>
                <a:gridCol w="549360"/>
                <a:gridCol w="550800"/>
                <a:gridCol w="549360"/>
                <a:gridCol w="974520"/>
                <a:gridCol w="2081160"/>
                <a:gridCol w="1230480"/>
                <a:gridCol w="1208160"/>
                <a:gridCol w="1449360"/>
              </a:tblGrid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1.06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ADMINISRTRACIÓN DIRECTA - PERS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1.07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ADMINISRTRACIÓN DIRECTA - PERS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1.0702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ADMINISRTRACIÓN DIRECTA - PERS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1.0703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ADMINISRTRACIÓN DIRECTA - PERS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1.0704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ADMINISRTRACIÓN DIRECTA - PERS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1.0705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ADMINISRTRACIÓN DIRECTA - PERS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1.0706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ADMINISRTRACIÓN DIRECTA - PERS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1.08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ADMINISRTRACIÓN DIRECTA - PERS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1.0802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ADMINISRTRACIÓN DIRECTA - PERS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1.0803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ADMINISRTRACIÓN DIRECTA - PERS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1.0804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ADMINISRTRACIÓN DIRECTA - PERS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1.0805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ADMINISRTRACIÓN DIRECTA - PERS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1.0806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ADMINISRTRACIÓN DIRECTA - PERS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1.0807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ADMINISRTRACIÓN DIRECTA - PERS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1.0899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ADMINISRTRACIÓN DIRECTA - PERS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4.0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S POR LA CONTRATACION DE PERS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4.03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S POR LA CONTRATACION DE PERS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4.04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S POR LA CONTRATACION DE PERS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4.05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S POR LA CONTRATACION DE PERS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4.07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S POR LA CONTRATACION DE PERS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5.03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S POR LA CONTRATACION DE PERS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S DE PERSONAL TRASLADADO AL COSTO DEL PROYE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40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S DE PERSONAL TRASLADADO A LA CTA. 5506.99 OTROS GSTOS DI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5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5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25,5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25,5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02.08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000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000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02.08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CIÓN A ESSALUD - 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50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50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150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150,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0,609,017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,298,4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2,907,417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O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 gridSpan="9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 GASTOS DE PERSONAL QUE OCURREN EN PROYECTOS DE INVERSIÓN, SÓLO SE INCLUIRA EL DEL PRESENTE EJER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240">
                <a:tc gridSpan="9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O, INCLUSO, LOS GASTOS DE PERSONAL TRASLADADOS AL  COSTO DEL PROYECTO O  A  LA CUENTA   5506.99  OTR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S  DIVERSOS DE GEST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6" name=""/>
          <p:cNvGraphicFramePr/>
          <p:nvPr/>
        </p:nvGraphicFramePr>
        <p:xfrm>
          <a:off x="0" y="162000"/>
          <a:ext cx="9906120" cy="6624720"/>
        </p:xfrm>
        <a:graphic>
          <a:graphicData uri="http://schemas.openxmlformats.org/drawingml/2006/table">
            <a:tbl>
              <a:tblPr/>
              <a:tblGrid>
                <a:gridCol w="1460520"/>
                <a:gridCol w="582480"/>
                <a:gridCol w="568440"/>
                <a:gridCol w="593640"/>
                <a:gridCol w="595440"/>
                <a:gridCol w="568440"/>
                <a:gridCol w="568080"/>
                <a:gridCol w="506520"/>
                <a:gridCol w="593640"/>
                <a:gridCol w="593640"/>
                <a:gridCol w="638280"/>
                <a:gridCol w="636480"/>
                <a:gridCol w="603360"/>
                <a:gridCol w="698400"/>
                <a:gridCol w="698760"/>
              </a:tblGrid>
              <a:tr h="128520"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STERIO DE ECONOMÍA Y FINANZAS    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ción Nacional de Contabilidad Públic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A- 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 gridSpan="15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S DE PERSONAL EN LAS ENTIDADES DEL SECTOR PÚBLICO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RCICIO 20…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dad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 Ejecutora 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88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IFICACIÓN DE CARGOS (1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1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ALIDA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GENERA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ADO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TADO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TO DE ADMINISTRACIÓN DE SERVICIOS - CA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UNERACIÓN FIJ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)GASTOS VARIABLES Y OCASIONAL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RAS RETRIBUCION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CIONES A LA SEGURIDAD SOCIA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)COMPENSACIÓN POR TIEMPO DE SERVICIO - CT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UNERACIÓN FIJ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)GASTOS VARIABLES Y OCASIONAL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TA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RAS RETRIBUCION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CIONES A LA SEGURIDAD SOCIA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)COMPENSACIÓN POR TIEMPO DE SERVICIO - CT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TACIONES DE SERVICIO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CIONES A LA SEGURIDAD SOCIA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RT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7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TIVO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58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6,7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0,4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42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35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84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2,1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5,2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55,6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104,35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8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IONARIO PÚBLICO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0,1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8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EADO DE CONFIANZA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0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5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83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DOR PÚBLICO - DIRECTIVO SUPERIOR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0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5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2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24,65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DOR PÚBLICO - EJECUTIVO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4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5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34,6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DOR PÚBLICO - ESPECIALISTA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00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2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56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0,4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172,4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DOR PÚBLICO DE APOYO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0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0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99,6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GIMEN ESPECIA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,907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01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,637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441,63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03,3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00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9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8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7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5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,427,567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7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 DEL MAGISTERIO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,00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00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85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5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00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3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5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8,94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8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 DE LA SALUD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00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0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1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00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4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0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,47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 JUDICIA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ENTES UNIVERSITARIO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 DIPLOMÁTICO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 MILITAR Y POLICIA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REROS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7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637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,63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17,567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YECTO DE INVERSIÓN (4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9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8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,2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6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25,5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8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EADO DE CONFIANZ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DOR PÚBLICO - DIRECTIVO SUPERIO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8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,1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DOR PÚBLICO - EJECUTIVO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6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6,2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DOR PÚBLICO - ESPECIALIST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2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6,2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DOR PÚBLICO DE APOYO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2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6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REROS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TO DE ADM.DE SERV. - CA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15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83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TO DE ADMINIST. DE SERVICIOS - CA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00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5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15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7,487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786,7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6,037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183,63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45,65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,92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51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12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922,8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242,6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00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50,00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2,907,417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852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 Clasificación de cargos según el D.S. N° 043-2004-PC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8520"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) No incluye el pago de Compensación por Tiempo de Servicio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080">
                <a:tc gridSpan="6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) Incluye el Gasto de Personal del ejercicio registrado en la cuenta 5101.09.02 Compensación por Tiempo de Servicio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20"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) Incluye los Gastos de Personal del ejercicio trasladado al costo del proyecto y los Gastos de Personal registrado en Inversiones Intangibles.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2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------------------------------------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----------------------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----------------------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</a:t>
                      </a: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DOR GENERAL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PERSONA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GENERAL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. N°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ADMINISTRACIÓ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7" name=""/>
          <p:cNvGraphicFramePr/>
          <p:nvPr/>
        </p:nvGraphicFramePr>
        <p:xfrm>
          <a:off x="71280" y="71280"/>
          <a:ext cx="9668160" cy="6786720"/>
        </p:xfrm>
        <a:graphic>
          <a:graphicData uri="http://schemas.openxmlformats.org/drawingml/2006/table">
            <a:tbl>
              <a:tblPr/>
              <a:tblGrid>
                <a:gridCol w="1563840"/>
                <a:gridCol w="581040"/>
                <a:gridCol w="558720"/>
                <a:gridCol w="557280"/>
                <a:gridCol w="558720"/>
                <a:gridCol w="558720"/>
                <a:gridCol w="559080"/>
                <a:gridCol w="558720"/>
                <a:gridCol w="558720"/>
                <a:gridCol w="558720"/>
                <a:gridCol w="689040"/>
                <a:gridCol w="689040"/>
                <a:gridCol w="558720"/>
                <a:gridCol w="558720"/>
                <a:gridCol w="559080"/>
              </a:tblGrid>
              <a:tr h="120960"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STERIO DE ECONOMÍA Y FINANZAS   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ción Nacional de Contabilidad Públic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A-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0600">
                <a:tc gridSpan="15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DÍSTICA DEL PERSONAL EN LAS ENTIDADES DEL SECTOR PÚBLICO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RCICIO 20…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0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dad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ódigo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0600"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 Ejecutora 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ódigo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1) CLASIFICACIÓN DE CARG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4"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DO AL 31/12/20…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IMIENTO DURANTE EL EJERCICI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DO AL 31/12/20…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MENT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MINUCION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AD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TAD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TOS DE ADM. DE SERV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AD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TAD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TOS DE ADM. DE SERV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AD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TAD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TOS DE ADM. DE SERV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AD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TAD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TOS DE ADM. DE SERV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 DE PERSONA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 DE PERSONA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 DE PERSONA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 DE PERSONA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 DE PERSONA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 DE PERSONA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 DE PERSONA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 DE PERSONA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 DE PERSONA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 DE PERSONA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 DE PERSONA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 DE PERSONA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 DE PERSONA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 DE PERSONA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0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ADMINISTRATIV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UNCIONARIO PÚBLIC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0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MPLEADO DE CONFIANZ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ERVIDOR PÚBLICO - DIRECTIVO SUPERIO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0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ERVIDOR PÚBLICO - EJECUTIV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ERVIDOR PÚBLICO - ESPECIALIST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0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ERVIDOR PÚBLICO DE APOY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ÉGIMEN ESPECI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9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ERSONAL DEL MAGISTERI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0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ERSONAL DE LA SALU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ERSONAL JUDICI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0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OCENTES UNIVERSITARI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0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ERSONAL DIPLOMÁTIC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ERSONAL MILITAR Y POLICI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0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OBREROS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ROYECTO DE INVERSIÓN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MPLEADO DE CONFIANZ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1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ERVIDOR PÚBLICO - DIRECTIVO SUPERIO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ERVIDOR PÚBLICO - EJECUTIV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1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ERVIDOR PÚBLICO - ESPECIALIST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ERVIDOR PÚBLICO DE APOY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0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OBREROS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NTRATO DE ADM.DE SERV. - CA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1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NTRATO DE ADMINIST. DE SERVICIOS - CA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OT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4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8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1560"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 Clasificación de cargos según el D.S. N° 043-2004-PC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-----------------------------------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------------------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----------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</a:t>
                      </a: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DOR GENERAL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PERSON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GENERAL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0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. N°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ADMINISTRACIÓ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1 CuadroTexto" descr=""/>
          <p:cNvPicPr/>
          <p:nvPr/>
        </p:nvPicPr>
        <p:blipFill>
          <a:blip r:embed="rId1"/>
          <a:stretch/>
        </p:blipFill>
        <p:spPr>
          <a:xfrm>
            <a:off x="1079640" y="2243160"/>
            <a:ext cx="7680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21:21:45Z</dcterms:created>
  <dc:creator>pcancino</dc:creator>
  <dc:description/>
  <dc:language>en-US</dc:language>
  <cp:lastModifiedBy>mef</cp:lastModifiedBy>
  <dcterms:modified xsi:type="dcterms:W3CDTF">2010-12-07T14:15:11Z</dcterms:modified>
  <cp:revision>180</cp:revision>
  <dc:subject/>
  <dc:title>Cuenta General de la Republica </dc:title>
</cp:coreProperties>
</file>