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FA1-8411-4955-8BC9-208FD4C7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E59-0AB7-4F93-9391-EA6EDC60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84220-89DB-46AE-8525-6AFA884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5B088-0F60-4A4B-86A2-ED6B74FE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30DF2-2592-445A-8F83-1B872FDD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5EBB-5212-4F9D-A37D-719382D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E5C6-7C19-4D7C-B165-313DF9D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BE70-B797-4C0A-B9FA-33E1ECD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5461-87E0-4920-A182-61A9083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E7E27-6306-40C8-B25E-2AAADC68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1A8FB-0C15-4016-97A6-251483D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BD97C-D83C-4422-8EB6-E6AC241F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774-98EC-4225-A021-954E7267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88F96-B21D-4C55-A125-728AF67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8602B-5001-4E0E-AAFC-9375240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E1EA7-EDF3-469F-B25D-6674625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A6A69-B378-46FC-ABCC-A3F27FD1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1C9D-23E4-4DB7-A16F-25915FDA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64B10-A71E-4E17-B6E2-59D51AB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197F9-C826-418D-8DC7-EB826AD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8DBBA-751F-4EA2-A700-523270C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FFDE8-84C5-4D1C-AD76-9666EB1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F5DF-7244-4124-85BE-9844BFC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888-F6B6-414C-B213-61B642A5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5C97C-55EE-45D8-9D23-C90C42ED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9B24C-25EE-426D-9211-BEAEAD27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253B4-C334-4A96-96B9-F69C5AB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6195A-7CD8-4686-B1E4-227583A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56415-2EE4-4417-AB54-A5C63A8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BE4A-CF3B-4664-8734-EABEF8A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D7D5A-FBEE-4C9D-9DDC-479FE18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E126-BDF0-4C23-AB50-0415D27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C8F36-8CFF-470E-882C-B191117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68B71-46F1-4F68-8CE6-4EC11A7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836-AC03-4085-A013-F6F46670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DE30F-5B0D-4825-A4F2-BA72E30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F7DD-7726-442C-AF09-0936F326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90A68-0CF9-4A02-ABB9-5EE8B0DA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8091-604B-4661-9CF0-42765FA1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213C5-2F89-4273-9368-B9C2A90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431D-757B-43AB-AECF-6A0516E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52F56-0DBF-4B7A-A6F3-5B1424DE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3E42A-A67C-45DC-B040-D3176BBB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8E724-386B-46EA-9855-816A3CC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D8588-D986-496B-B19C-942748B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F7C7-0014-4C8B-8DC8-177F785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2134E-294B-4796-B042-D93F79C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522A-72CF-4879-9B11-6CFAC2C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5A097-EB69-4742-A2F0-46FD8C1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333C-146A-49AA-B601-B9532821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B2580-9029-4421-94C9-C0F779A1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7F9A-DE0A-48A3-8EE7-701B17CE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A41-0EC3-4D9C-8340-C0B2367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B656-B233-4710-8360-3E771F0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12D0-BD0A-4EB3-A9A1-4B9D3C72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726-3C90-4753-B6F5-62C3CFDF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939-0670-4130-86EB-7317A91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27C9-2F31-4BB8-8EAA-E25B206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4A79-E403-4FD4-AEE3-2EBB8E9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FB92-D85B-42E9-A6D1-67972A0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FD1-A941-4D1A-9C70-2D453B4E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617-D11B-4A7A-92B1-70BE5F9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2D56-AB0F-4727-98BD-DF965ED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73E9-FACF-4CDC-A993-FB03A89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0C39-F812-40B5-9C7B-6C644B3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A301-0DA1-418F-A0FD-2E70932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769E-E474-4E0F-9006-D5397001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E0C-324E-4C33-974B-61851BE2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35F5-4505-4726-AEA0-887E3BA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24E8-B906-48CA-899B-E4FE5FA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52FD-38AF-4329-BE2E-586C4F4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28EA-C828-4340-88A2-5944CBE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1FCD-68A9-4226-972B-61ABA5AF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D373-C467-45FB-A816-C1C4D9CC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2A11-CD2E-4489-98C4-1D67563E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77AE-B544-43EC-B47D-81A5254E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278F-E4EE-44FF-9C24-42D1380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0E62-7992-4645-B824-DB284A42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D0F-375F-4889-891A-2018EE4C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B31B-94B2-4B10-95F6-80B1CAA4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4BBE-3995-45D4-A6AC-5CF6337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57B5-4FBB-473D-A49A-6E73D760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CFE4-945E-4F5F-BF14-3A416113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E3BAE-921A-4A3F-B208-89DA25F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B0DA-1B80-4A6A-8838-D042E7F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1CB7-4C4F-407D-B459-AAC1A66C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03A6-84B4-4068-9929-6A5D0FB7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DAEE-04CF-4C57-BA2C-22534602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FAB1-54DE-4EDB-A3BA-324C1F0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185-301D-4CF6-8AD7-AC66FEC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D464-DD9A-40F8-85BF-A4CF7F6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EEB1A-62B6-46AE-B3C3-B063E85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7D6D-AB57-4B8E-AB40-3DA9F291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5A7D-6915-412C-B141-520E180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DD3F-AD76-45AA-8226-8BE12B4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4BEF-A71C-4B6E-B582-850FFB2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4C7F-DDFB-47CF-B15E-6FC4231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2F3E-5105-43D6-83B1-6B7C1EA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55F6-05B7-481E-A2E1-BBB1B56A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D9EE-E9AB-4253-A383-06B68C67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24E-EB47-4F6B-A2F2-ADE9C01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5B9C0-67EC-4540-8F78-37862552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FC540-A973-447E-81D8-CB61432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8748-20CB-4085-89A9-01A1256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B1738-F098-488D-8B58-D3AAF02C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6C6B-1089-4E34-9281-DB98CE9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EAD2-D89C-4828-B344-77BFD12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519C4-42B0-411B-9FB3-1EB6580B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E4C7-B549-4765-85BC-5BC3C538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C6B5-2081-4802-82E6-983B566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B261-99CC-4889-8FC9-A62E58A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E16-94AC-47A6-831D-D000367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11F4-6BBB-4CAC-BC9B-8927E06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0A71-C992-4C82-8399-730FFB3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A10D-D27A-4EE8-9B1B-C43040A1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7982E-4C2B-42ED-A121-289DAE2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27D83-AB2E-4758-9FF6-A364850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ADC2-C5A6-4C25-B300-F4EFF4CA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13E4-F66D-41D7-8A72-73E1A19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C9A1-96CD-4B72-8C30-BE54CDBB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2F8D-A748-4494-947D-BDB3466A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A02B-8D8E-4A43-A745-6219368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37D-611B-4ECF-9B0E-20FF0B1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7B6E-8FB6-491E-8CD5-A0168F4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DBE5-F34D-4FA9-9947-FCA57FB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D7D5-860F-410A-A5D0-2F4CB0C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D683-BF9D-499B-93C8-CD421301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AC28-56E6-4EFE-9E18-4D55B5B9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1A444-17EC-49B1-AA65-1A98E878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033A8-D489-4581-ACA0-3DAD354C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1A17-C71C-4254-95C3-4C1C9E3F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43A2D-A042-4685-90A5-A08E9DAB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6C27-B447-4BF8-9888-73E01B8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C0D-AD87-42A4-B332-77254A7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7E11-FC08-4850-ABE2-A9E3AB19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1943-DC1F-4362-B564-933F7E5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4B53-78D5-4E21-AB16-A10E5D2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C58C-D7D4-4D39-8A8B-172AFE1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A38BF-7102-402C-82C1-76E9434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C09F-DF1F-4A9F-AF0F-5F11079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403C2-4260-496C-A74F-82FEED2D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C1B13-8B82-45B7-8705-EA0408D6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52E0-9AE9-48A4-931F-E2875DE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97B5B-5294-495F-8781-AF61183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60240" y="1566720"/>
            <a:ext cx="862200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60240" y="6172200"/>
            <a:ext cx="85852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098C-EA12-491C-885B-35A9BD20BA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3118-9EA4-4597-AB0A-86C019A28D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E217-9CE0-4486-BD5E-D40B4AE6BB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A7F2-ECA2-42F8-80FD-A78368B1F0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743040" y="2394000"/>
            <a:ext cx="842004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037B-BDFB-4BB0-A89D-3F6BC33FD2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2556-0F26-483F-9CA7-EA2E19DD3F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2D1-41C3-4C34-ABDD-EFA88C0319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ACE3-C04C-4FA8-8628-2AA115BA2A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8E1-66F5-4DB7-A4A9-CD2C3471D1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B91-2249-411E-A795-CABB111422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F077-976F-45AC-B6E2-A5EA59903C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083-27D1-4F7A-A339-38E0000CC6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pn.mef.gob.pe/" TargetMode="External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5"/>
          <p:cNvGrpSpPr/>
          <p:nvPr/>
        </p:nvGrpSpPr>
        <p:grpSpPr>
          <a:xfrm>
            <a:off x="730080" y="571680"/>
            <a:ext cx="8580240" cy="928440"/>
            <a:chOff x="730080" y="571680"/>
            <a:chExt cx="8580240" cy="928440"/>
          </a:xfrm>
        </p:grpSpPr>
        <p:grpSp>
          <p:nvGrpSpPr>
            <p:cNvPr id="496" name="Group 6"/>
            <p:cNvGrpSpPr/>
            <p:nvPr/>
          </p:nvGrpSpPr>
          <p:grpSpPr>
            <a:xfrm>
              <a:off x="730080" y="571680"/>
              <a:ext cx="1100160" cy="928440"/>
              <a:chOff x="730080" y="571680"/>
              <a:chExt cx="1100160" cy="928440"/>
            </a:xfrm>
          </p:grpSpPr>
          <p:pic>
            <p:nvPicPr>
              <p:cNvPr id="497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730080" y="723240"/>
                <a:ext cx="1100160" cy="77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WordArt 8"/>
              <p:cNvSpPr txBox="1"/>
              <p:nvPr/>
            </p:nvSpPr>
            <p:spPr>
              <a:xfrm>
                <a:off x="833760" y="571680"/>
                <a:ext cx="831600" cy="3031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499" name="Rectangle 9"/>
            <p:cNvSpPr/>
            <p:nvPr/>
          </p:nvSpPr>
          <p:spPr>
            <a:xfrm>
              <a:off x="6375600" y="598320"/>
              <a:ext cx="2934720" cy="901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Rectangle 10"/>
            <p:cNvSpPr/>
            <p:nvPr/>
          </p:nvSpPr>
          <p:spPr>
            <a:xfrm>
              <a:off x="3440520" y="598320"/>
              <a:ext cx="2934720" cy="901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Rectangle 11"/>
            <p:cNvSpPr/>
            <p:nvPr/>
          </p:nvSpPr>
          <p:spPr>
            <a:xfrm>
              <a:off x="1860120" y="598320"/>
              <a:ext cx="1580400" cy="9014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2" name="Rectangle 25"/>
          <p:cNvSpPr/>
          <p:nvPr/>
        </p:nvSpPr>
        <p:spPr>
          <a:xfrm>
            <a:off x="0" y="2897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Rectangle 26"/>
          <p:cNvSpPr/>
          <p:nvPr/>
        </p:nvSpPr>
        <p:spPr>
          <a:xfrm>
            <a:off x="0" y="3433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0" y="2897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28"/>
          <p:cNvSpPr/>
          <p:nvPr/>
        </p:nvSpPr>
        <p:spPr>
          <a:xfrm>
            <a:off x="0" y="3433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Rectangle 25"/>
          <p:cNvSpPr/>
          <p:nvPr/>
        </p:nvSpPr>
        <p:spPr>
          <a:xfrm>
            <a:off x="5929200" y="6215040"/>
            <a:ext cx="40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000000"/>
                </a:solidFill>
                <a:latin typeface="Arial"/>
                <a:ea typeface="Arial"/>
              </a:rPr>
              <a:t>ECON. LELIA  YAURICASA CHO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ima,  Diciembre del 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17 CuadroTexto" descr=""/>
          <p:cNvPicPr/>
          <p:nvPr/>
        </p:nvPicPr>
        <p:blipFill>
          <a:blip r:embed="rId2"/>
          <a:stretch/>
        </p:blipFill>
        <p:spPr>
          <a:xfrm>
            <a:off x="12600" y="2919240"/>
            <a:ext cx="9764640" cy="20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Object 2"/>
          <p:cNvGraphicFramePr/>
          <p:nvPr/>
        </p:nvGraphicFramePr>
        <p:xfrm>
          <a:off x="880920" y="928800"/>
          <a:ext cx="816768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928800"/>
                    <a:ext cx="816768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317520" y="-500040"/>
            <a:ext cx="932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HOJA DE TRABAJO DE LA TRANSFERENCIAS FINANCIERAS RECIB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0" y="642960"/>
            <a:ext cx="9906120" cy="62150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7802640" y="1071720"/>
            <a:ext cx="29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 nivel de 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Object 5"/>
          <p:cNvGraphicFramePr/>
          <p:nvPr/>
        </p:nvGraphicFramePr>
        <p:xfrm>
          <a:off x="237960" y="785880"/>
          <a:ext cx="9501480" cy="55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785880"/>
                    <a:ext cx="950148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5"/>
          <p:cNvSpPr/>
          <p:nvPr/>
        </p:nvSpPr>
        <p:spPr>
          <a:xfrm rot="10800000">
            <a:off x="5024520" y="5500440"/>
            <a:ext cx="1643040" cy="571320"/>
          </a:xfrm>
          <a:prstGeom prst="wedgeRoundRectCallout">
            <a:avLst>
              <a:gd name="adj1" fmla="val -56597"/>
              <a:gd name="adj2" fmla="val 111189"/>
              <a:gd name="adj3" fmla="val 16667"/>
            </a:avLst>
          </a:prstGeom>
          <a:solidFill>
            <a:srgbClr val="a8f6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P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5"/>
          <p:cNvSpPr/>
          <p:nvPr/>
        </p:nvSpPr>
        <p:spPr>
          <a:xfrm flipV="1">
            <a:off x="8381880" y="5500800"/>
            <a:ext cx="1309680" cy="503280"/>
          </a:xfrm>
          <a:prstGeom prst="wedgeRoundRectCallout">
            <a:avLst>
              <a:gd name="adj1" fmla="val -80615"/>
              <a:gd name="adj2" fmla="val 139199"/>
              <a:gd name="adj3" fmla="val 16667"/>
            </a:avLst>
          </a:prstGeom>
          <a:solidFill>
            <a:srgbClr val="a8f6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EP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Object 2"/>
          <p:cNvGraphicFramePr/>
          <p:nvPr/>
        </p:nvGraphicFramePr>
        <p:xfrm>
          <a:off x="23760" y="214200"/>
          <a:ext cx="9810720" cy="692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214200"/>
                    <a:ext cx="9810720" cy="69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Imagen 2" descr=""/>
          <p:cNvPicPr/>
          <p:nvPr/>
        </p:nvPicPr>
        <p:blipFill>
          <a:blip r:embed="rId1"/>
          <a:stretch/>
        </p:blipFill>
        <p:spPr>
          <a:xfrm>
            <a:off x="0" y="63360"/>
            <a:ext cx="9906120" cy="6794640"/>
          </a:xfrm>
          <a:prstGeom prst="rect">
            <a:avLst/>
          </a:prstGeom>
          <a:ln w="0">
            <a:noFill/>
          </a:ln>
        </p:spPr>
      </p:pic>
      <p:sp>
        <p:nvSpPr>
          <p:cNvPr id="625" name="3 Llamada rectangular redondeada"/>
          <p:cNvSpPr/>
          <p:nvPr/>
        </p:nvSpPr>
        <p:spPr>
          <a:xfrm flipH="1">
            <a:off x="8024760" y="4714920"/>
            <a:ext cx="1357200" cy="571320"/>
          </a:xfrm>
          <a:prstGeom prst="wedgeRoundRectCallout">
            <a:avLst>
              <a:gd name="adj1" fmla="val 55884"/>
              <a:gd name="adj2" fmla="val -99439"/>
              <a:gd name="adj3" fmla="val 16667"/>
            </a:avLst>
          </a:prstGeom>
          <a:solidFill>
            <a:srgbClr val="92d05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SAFOP</a:t>
            </a: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1 Título"/>
          <p:cNvSpPr/>
          <p:nvPr/>
        </p:nvSpPr>
        <p:spPr>
          <a:xfrm>
            <a:off x="1467000" y="-64296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Arial Black"/>
              </a:rPr>
              <a:t>SALDO DE  FONDOS  PÚBLICOS - SAFOP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3 Rectángulo redondeado"/>
          <p:cNvSpPr/>
          <p:nvPr/>
        </p:nvSpPr>
        <p:spPr>
          <a:xfrm>
            <a:off x="595440" y="2643120"/>
            <a:ext cx="8358120" cy="392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 Black"/>
              </a:rPr>
              <a:t>2.  ALC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3 Rectángulo redondeado"/>
          <p:cNvSpPr/>
          <p:nvPr/>
        </p:nvSpPr>
        <p:spPr>
          <a:xfrm>
            <a:off x="666720" y="857160"/>
            <a:ext cx="8429760" cy="142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 Black"/>
              </a:rPr>
              <a:t>BASE LEG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Verdana"/>
              </a:rPr>
              <a:t>*  Ley N° 29465 Ley de Presupuesto  del  Sector Público para el año fiscal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Verdana"/>
              </a:rPr>
              <a:t>*  Ley N° 28411 Ley General del Sistema Nacional de Presupues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Verdana"/>
              </a:rPr>
              <a:t>*  Ley 28708 Ley General del Sistema Nacional de  Contabil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Verdana"/>
              </a:rPr>
              <a:t>*  Resolución Ministerial N° 059-2010-E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5 Rectángulo"/>
          <p:cNvSpPr/>
          <p:nvPr/>
        </p:nvSpPr>
        <p:spPr>
          <a:xfrm>
            <a:off x="857160" y="3286080"/>
            <a:ext cx="7286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2.1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 Gobierno Nac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Poderes Ejecutivo, Legislativo y Judicial  y sus  organismos públic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descentralizados, universidades públicas y los organismos constitucion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autónomo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os Organismos Regulad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os Organismos Recaudadores y Supervisor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os Fondos Especiales con personería jurídic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as Beneficencias y sus dependencia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2.2 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 Gobierno Reg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os Gobiernos Regionales y sus organismos públicos descentralizado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  Gobierno Loc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Los Gobiernos Locales y sus organismos públicos descentralizado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s-ES" sz="1200" spc="-1" strike="noStrike">
                <a:solidFill>
                  <a:srgbClr val="000000"/>
                </a:solidFill>
                <a:latin typeface="Verdana"/>
              </a:rPr>
              <a:t>2.4 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</a:rPr>
              <a:t> Las Empresas de los Gobiernos Regionales y Gobiernos Locales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1 Rectángulo redondeado"/>
          <p:cNvSpPr/>
          <p:nvPr/>
        </p:nvSpPr>
        <p:spPr>
          <a:xfrm>
            <a:off x="380880" y="428760"/>
            <a:ext cx="9001080" cy="6000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3. INFORM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3.1 Conten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os  saldos  de  fondos  públicos  existentes en todas las  cu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bancarias u otros  instrumentos  de  colocación  de  fondos  q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mantenga  la   entidad   en  cualquier  institución del sistema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y  no financiero, correspondiente al  año fiscal  anterior,  señalando  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fuente  de   financiamiento   y  la   entidad depositaria  correspondiente.</a:t>
            </a: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3.2  Medio de Pres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Trasmisión vía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arpeta  con anexos  debidamente  firmados  remitidos a la  DNC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 Black"/>
              </a:rPr>
              <a:t>3.3   Fech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Hasta  el 30 de  enero de  cada  año fisc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3.4   Omi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La  relación de  omisos  se  publica  en la página  web de la DNCP: </a:t>
            </a:r>
            <a:r>
              <a:rPr b="0" lang="es-MX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cpn.mef.gob.pe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  y  será comunicado a  la  Contraloría General de  la  Repúbl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3.5   Responsabil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Del titular del Plie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1 CuadroTexto" descr=""/>
          <p:cNvPicPr/>
          <p:nvPr/>
        </p:nvPicPr>
        <p:blipFill>
          <a:blip r:embed="rId1"/>
          <a:stretch/>
        </p:blipFill>
        <p:spPr>
          <a:xfrm>
            <a:off x="1079640" y="2243160"/>
            <a:ext cx="768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5"/>
          <p:cNvGrpSpPr/>
          <p:nvPr/>
        </p:nvGrpSpPr>
        <p:grpSpPr>
          <a:xfrm>
            <a:off x="-3240" y="-3240"/>
            <a:ext cx="9909360" cy="6891480"/>
            <a:chOff x="-3240" y="-3240"/>
            <a:chExt cx="9909360" cy="6891480"/>
          </a:xfrm>
        </p:grpSpPr>
        <p:sp>
          <p:nvSpPr>
            <p:cNvPr id="509" name="AutoShape 4"/>
            <p:cNvSpPr/>
            <p:nvPr/>
          </p:nvSpPr>
          <p:spPr>
            <a:xfrm>
              <a:off x="0" y="0"/>
              <a:ext cx="9906120" cy="68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-3240" y="-3240"/>
              <a:ext cx="9909360" cy="6891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6035760" y="1576440"/>
              <a:ext cx="3484440" cy="4298760"/>
            </a:xfrm>
            <a:prstGeom prst="rect">
              <a:avLst/>
            </a:prstGeom>
            <a:solidFill>
              <a:srgbClr val="b6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6018120" y="1560600"/>
              <a:ext cx="3517920" cy="4330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6247800" y="164448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6494760" y="1639800"/>
              <a:ext cx="145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Traspasos de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8044560" y="1639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fondos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580440" y="1900080"/>
              <a:ext cx="95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públicos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6247800" y="242712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6525720" y="242244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Sin contraprestación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6499440" y="268272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alguna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6247800" y="333864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6492600" y="333360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Se efectúan,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7905960" y="33336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solo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7827840" y="3552840"/>
              <a:ext cx="4730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6570720" y="3594240"/>
              <a:ext cx="209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entre entidades  del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6561000" y="3854520"/>
              <a:ext cx="192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Gobierno Nacional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Rectangle 22"/>
            <p:cNvSpPr/>
            <p:nvPr/>
          </p:nvSpPr>
          <p:spPr>
            <a:xfrm>
              <a:off x="6687720" y="4116240"/>
              <a:ext cx="19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Regional, Local y  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Rectangle 23"/>
            <p:cNvSpPr/>
            <p:nvPr/>
          </p:nvSpPr>
          <p:spPr>
            <a:xfrm>
              <a:off x="6490440" y="437688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Rectangle 24"/>
            <p:cNvSpPr/>
            <p:nvPr/>
          </p:nvSpPr>
          <p:spPr>
            <a:xfrm>
              <a:off x="7673040" y="4376880"/>
              <a:ext cx="89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Pùblica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Rectangle 25"/>
            <p:cNvSpPr/>
            <p:nvPr/>
          </p:nvSpPr>
          <p:spPr>
            <a:xfrm>
              <a:off x="8588520" y="4376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Rectangle 26"/>
            <p:cNvSpPr/>
            <p:nvPr/>
          </p:nvSpPr>
          <p:spPr>
            <a:xfrm>
              <a:off x="6507720" y="4637160"/>
              <a:ext cx="81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para la 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Rectangle 27"/>
            <p:cNvSpPr/>
            <p:nvPr/>
          </p:nvSpPr>
          <p:spPr>
            <a:xfrm>
              <a:off x="7431480" y="4637160"/>
              <a:ext cx="1370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ejecución de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Rectangle 28"/>
            <p:cNvSpPr/>
            <p:nvPr/>
          </p:nvSpPr>
          <p:spPr>
            <a:xfrm>
              <a:off x="6606000" y="4898880"/>
              <a:ext cx="1297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actividades 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Rectangle 29"/>
            <p:cNvSpPr/>
            <p:nvPr/>
          </p:nvSpPr>
          <p:spPr>
            <a:xfrm>
              <a:off x="8031600" y="489888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y pro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Rectangle 30"/>
            <p:cNvSpPr/>
            <p:nvPr/>
          </p:nvSpPr>
          <p:spPr>
            <a:xfrm>
              <a:off x="8572680" y="48988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Rectangle 31"/>
            <p:cNvSpPr/>
            <p:nvPr/>
          </p:nvSpPr>
          <p:spPr>
            <a:xfrm>
              <a:off x="6544800" y="515952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yecto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7245360" y="515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307800" y="2008080"/>
              <a:ext cx="5186520" cy="3803760"/>
            </a:xfrm>
            <a:prstGeom prst="rect">
              <a:avLst/>
            </a:prstGeom>
            <a:solidFill>
              <a:srgbClr val="b6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290520" y="1992240"/>
              <a:ext cx="5221440" cy="3835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Rectangle 35"/>
            <p:cNvSpPr/>
            <p:nvPr/>
          </p:nvSpPr>
          <p:spPr>
            <a:xfrm>
              <a:off x="562320" y="2055960"/>
              <a:ext cx="102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BASE LEGAL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Rectangle 36"/>
            <p:cNvSpPr/>
            <p:nvPr/>
          </p:nvSpPr>
          <p:spPr>
            <a:xfrm>
              <a:off x="499320" y="2292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Rectangle 37"/>
            <p:cNvSpPr/>
            <p:nvPr/>
          </p:nvSpPr>
          <p:spPr>
            <a:xfrm>
              <a:off x="757080" y="227340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Ley 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Rectangle 38"/>
            <p:cNvSpPr/>
            <p:nvPr/>
          </p:nvSpPr>
          <p:spPr>
            <a:xfrm>
              <a:off x="1268640" y="2273400"/>
              <a:ext cx="7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Rectangle 39"/>
            <p:cNvSpPr/>
            <p:nvPr/>
          </p:nvSpPr>
          <p:spPr>
            <a:xfrm>
              <a:off x="1478160" y="2273400"/>
              <a:ext cx="48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284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Rectangle 40"/>
            <p:cNvSpPr/>
            <p:nvPr/>
          </p:nvSpPr>
          <p:spPr>
            <a:xfrm>
              <a:off x="2039760" y="227340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Rectangle 41"/>
            <p:cNvSpPr/>
            <p:nvPr/>
          </p:nvSpPr>
          <p:spPr>
            <a:xfrm>
              <a:off x="2316600" y="227340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Ley General del Sistema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Rectangle 42"/>
            <p:cNvSpPr/>
            <p:nvPr/>
          </p:nvSpPr>
          <p:spPr>
            <a:xfrm>
              <a:off x="889560" y="2484360"/>
              <a:ext cx="21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Nacional de   Presupuest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Rectangle 43"/>
            <p:cNvSpPr/>
            <p:nvPr/>
          </p:nvSpPr>
          <p:spPr>
            <a:xfrm>
              <a:off x="499320" y="29368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Rectangle 44"/>
            <p:cNvSpPr/>
            <p:nvPr/>
          </p:nvSpPr>
          <p:spPr>
            <a:xfrm>
              <a:off x="757080" y="291780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Ley 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Rectangle 45"/>
            <p:cNvSpPr/>
            <p:nvPr/>
          </p:nvSpPr>
          <p:spPr>
            <a:xfrm>
              <a:off x="1268640" y="2917800"/>
              <a:ext cx="7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Rectangle 46"/>
            <p:cNvSpPr/>
            <p:nvPr/>
          </p:nvSpPr>
          <p:spPr>
            <a:xfrm>
              <a:off x="1634760" y="2917800"/>
              <a:ext cx="25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29465 Ley de Presupuesto del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Rectangle 47"/>
            <p:cNvSpPr/>
            <p:nvPr/>
          </p:nvSpPr>
          <p:spPr>
            <a:xfrm>
              <a:off x="984600" y="3129120"/>
              <a:ext cx="320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Sector  Público para el año Fiscal 20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768240" y="33447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(Ar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130760" y="3344760"/>
              <a:ext cx="7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267560" y="334476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. 15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Rectangle 51"/>
            <p:cNvSpPr/>
            <p:nvPr/>
          </p:nvSpPr>
          <p:spPr>
            <a:xfrm>
              <a:off x="499320" y="379404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Rectangle 52"/>
            <p:cNvSpPr/>
            <p:nvPr/>
          </p:nvSpPr>
          <p:spPr>
            <a:xfrm>
              <a:off x="788760" y="377352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Directiva Nº 00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53"/>
            <p:cNvSpPr/>
            <p:nvPr/>
          </p:nvSpPr>
          <p:spPr>
            <a:xfrm>
              <a:off x="2279520" y="377352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54"/>
            <p:cNvSpPr/>
            <p:nvPr/>
          </p:nvSpPr>
          <p:spPr>
            <a:xfrm>
              <a:off x="2401920" y="3773520"/>
              <a:ext cx="123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2009 EF/76.01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55"/>
            <p:cNvSpPr/>
            <p:nvPr/>
          </p:nvSpPr>
          <p:spPr>
            <a:xfrm>
              <a:off x="877320" y="3990960"/>
              <a:ext cx="36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Directiva  para Ejecución  presupuestaria”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56"/>
            <p:cNvSpPr/>
            <p:nvPr/>
          </p:nvSpPr>
          <p:spPr>
            <a:xfrm>
              <a:off x="768240" y="42022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(Ar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57"/>
            <p:cNvSpPr/>
            <p:nvPr/>
          </p:nvSpPr>
          <p:spPr>
            <a:xfrm>
              <a:off x="1130760" y="4202280"/>
              <a:ext cx="7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58"/>
            <p:cNvSpPr/>
            <p:nvPr/>
          </p:nvSpPr>
          <p:spPr>
            <a:xfrm>
              <a:off x="1267560" y="42022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. 24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59"/>
            <p:cNvSpPr/>
            <p:nvPr/>
          </p:nvSpPr>
          <p:spPr>
            <a:xfrm>
              <a:off x="499320" y="465624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60"/>
            <p:cNvSpPr/>
            <p:nvPr/>
          </p:nvSpPr>
          <p:spPr>
            <a:xfrm>
              <a:off x="801360" y="4635360"/>
              <a:ext cx="66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R. D 00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61"/>
            <p:cNvSpPr/>
            <p:nvPr/>
          </p:nvSpPr>
          <p:spPr>
            <a:xfrm>
              <a:off x="1557360" y="463536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Rectangle 62"/>
            <p:cNvSpPr/>
            <p:nvPr/>
          </p:nvSpPr>
          <p:spPr>
            <a:xfrm>
              <a:off x="1678320" y="4635360"/>
              <a:ext cx="39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Rectangle 63"/>
            <p:cNvSpPr/>
            <p:nvPr/>
          </p:nvSpPr>
          <p:spPr>
            <a:xfrm>
              <a:off x="2130480" y="463536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Rectangle 64"/>
            <p:cNvSpPr/>
            <p:nvPr/>
          </p:nvSpPr>
          <p:spPr>
            <a:xfrm>
              <a:off x="2397960" y="4635360"/>
              <a:ext cx="20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ER/79.01 “ Metodología 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Rectangle 65"/>
            <p:cNvSpPr/>
            <p:nvPr/>
          </p:nvSpPr>
          <p:spPr>
            <a:xfrm>
              <a:off x="878040" y="4846680"/>
              <a:ext cx="292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para la elaboración de los Estados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Rectangle 66"/>
            <p:cNvSpPr/>
            <p:nvPr/>
          </p:nvSpPr>
          <p:spPr>
            <a:xfrm>
              <a:off x="910080" y="5064120"/>
              <a:ext cx="319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Financieros  Consolidados a  Nivel de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Rectangle 67"/>
            <p:cNvSpPr/>
            <p:nvPr/>
          </p:nvSpPr>
          <p:spPr>
            <a:xfrm>
              <a:off x="790200" y="5280120"/>
              <a:ext cx="141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Tahoma"/>
                </a:rPr>
                <a:t>Sector  Público “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Rectangle 68"/>
            <p:cNvSpPr/>
            <p:nvPr/>
          </p:nvSpPr>
          <p:spPr>
            <a:xfrm>
              <a:off x="1700280" y="428760"/>
              <a:ext cx="6580080" cy="788760"/>
            </a:xfrm>
            <a:prstGeom prst="rect">
              <a:avLst/>
            </a:prstGeom>
            <a:solidFill>
              <a:srgbClr val="b6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69"/>
            <p:cNvSpPr/>
            <p:nvPr/>
          </p:nvSpPr>
          <p:spPr>
            <a:xfrm>
              <a:off x="1693800" y="422280"/>
              <a:ext cx="6594480" cy="801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Rectangle 70"/>
            <p:cNvSpPr/>
            <p:nvPr/>
          </p:nvSpPr>
          <p:spPr>
            <a:xfrm>
              <a:off x="2514240" y="804960"/>
              <a:ext cx="5253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000000"/>
                  </a:solidFill>
                  <a:latin typeface="Vrinda"/>
                </a:rPr>
                <a:t>TRANSFERENCIAS FINANCIERA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71"/>
            <p:cNvSpPr/>
            <p:nvPr/>
          </p:nvSpPr>
          <p:spPr>
            <a:xfrm>
              <a:off x="5494320" y="3371760"/>
              <a:ext cx="463680" cy="48600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72"/>
            <p:cNvSpPr/>
            <p:nvPr/>
          </p:nvSpPr>
          <p:spPr>
            <a:xfrm>
              <a:off x="5483160" y="3346560"/>
              <a:ext cx="488880" cy="536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2"/>
          <p:cNvGraphicFramePr/>
          <p:nvPr/>
        </p:nvGraphicFramePr>
        <p:xfrm>
          <a:off x="23760" y="214200"/>
          <a:ext cx="9810720" cy="692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214200"/>
                    <a:ext cx="9810720" cy="69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2 Y"/>
          <p:cNvSpPr/>
          <p:nvPr/>
        </p:nvSpPr>
        <p:spPr>
          <a:xfrm>
            <a:off x="2666880" y="2786040"/>
            <a:ext cx="4857840" cy="2041560"/>
          </a:xfrm>
          <a:prstGeom prst="flowChartSummingJunction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AutoShape 55"/>
          <p:cNvSpPr/>
          <p:nvPr/>
        </p:nvSpPr>
        <p:spPr>
          <a:xfrm>
            <a:off x="380880" y="4143240"/>
            <a:ext cx="2143080" cy="1928880"/>
          </a:xfrm>
          <a:prstGeom prst="upArrow">
            <a:avLst>
              <a:gd name="adj1" fmla="val 50000"/>
              <a:gd name="adj2" fmla="val 49852"/>
            </a:avLst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AutoShape 55"/>
          <p:cNvSpPr/>
          <p:nvPr/>
        </p:nvSpPr>
        <p:spPr>
          <a:xfrm>
            <a:off x="7667640" y="3929040"/>
            <a:ext cx="2000160" cy="2071800"/>
          </a:xfrm>
          <a:prstGeom prst="upArrow">
            <a:avLst>
              <a:gd name="adj1" fmla="val 50000"/>
              <a:gd name="adj2" fmla="val 49858"/>
            </a:avLst>
          </a:prstGeom>
          <a:solidFill>
            <a:srgbClr val="ff65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30"/>
          <p:cNvSpPr/>
          <p:nvPr/>
        </p:nvSpPr>
        <p:spPr>
          <a:xfrm flipV="1">
            <a:off x="1666800" y="6071760"/>
            <a:ext cx="6858000" cy="7164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7 Rectángulo"/>
          <p:cNvSpPr/>
          <p:nvPr/>
        </p:nvSpPr>
        <p:spPr>
          <a:xfrm flipV="1" rot="10800000">
            <a:off x="3381480" y="471204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       </a:t>
            </a:r>
            <a:r>
              <a:rPr b="1" i="1" lang="es-MX" sz="2400" spc="-1" strike="noStrike">
                <a:solidFill>
                  <a:srgbClr val="000000"/>
                </a:solidFill>
                <a:latin typeface="Timbrel"/>
              </a:rPr>
              <a:t>ELIMINAC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9 Rectángulo"/>
          <p:cNvSpPr/>
          <p:nvPr/>
        </p:nvSpPr>
        <p:spPr>
          <a:xfrm flipV="1" rot="10800000">
            <a:off x="2629080" y="6008760"/>
            <a:ext cx="4952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brel"/>
              </a:rPr>
              <a:t>   </a:t>
            </a:r>
            <a:r>
              <a:rPr b="1" i="1" lang="es-MX" sz="2800" spc="-1" strike="noStrike">
                <a:solidFill>
                  <a:srgbClr val="000000"/>
                </a:solidFill>
                <a:latin typeface="Timbrel"/>
              </a:rPr>
              <a:t>S E    C O N S E R V 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523800" y="214200"/>
            <a:ext cx="9001080" cy="785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HobbyHeadline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HobbyHeadline"/>
              </a:rPr>
              <a:t>              </a:t>
            </a:r>
            <a:r>
              <a:rPr b="1" i="1" lang="es-MX" sz="2400" spc="-1" strike="noStrike">
                <a:solidFill>
                  <a:srgbClr val="000000"/>
                </a:solidFill>
                <a:latin typeface="HobbyHeadline"/>
              </a:rPr>
              <a:t>DINÁMICA DE LAS TRANSFERENCIAS FINANCIERAS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971640" y="3429000"/>
            <a:ext cx="233280" cy="358920"/>
          </a:xfrm>
          <a:custGeom>
            <a:avLst/>
            <a:gdLst>
              <a:gd name="textAreaLeft" fmla="*/ 11160 w 233280"/>
              <a:gd name="textAreaRight" fmla="*/ 222120 w 233280"/>
              <a:gd name="textAreaTop" fmla="*/ 11160 h 358920"/>
              <a:gd name="textAreaBottom" fmla="*/ 347760 h 358920"/>
            </a:gdLst>
            <a:ahLst/>
            <a:rect l="textAreaLeft" t="textAreaTop" r="textAreaRight" b="textAreaBottom"/>
            <a:pathLst>
              <a:path w="21600" h="33215">
                <a:moveTo>
                  <a:pt x="3600" y="0"/>
                </a:moveTo>
                <a:arcTo wR="3600" hR="3600" stAng="16200000" swAng="-5400000"/>
                <a:lnTo>
                  <a:pt x="0" y="29615"/>
                </a:lnTo>
                <a:arcTo wR="3600" hR="3600" stAng="10800000" swAng="-5400000"/>
                <a:lnTo>
                  <a:pt x="18000" y="33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5000760" y="1262160"/>
            <a:ext cx="3916080" cy="12016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brel"/>
              </a:rPr>
              <a:t>TRANSFERENCIAS FINANCIER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brel"/>
              </a:rPr>
              <a:t>RECIB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285840" y="2885040"/>
            <a:ext cx="4411440" cy="274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 Black"/>
              </a:rPr>
              <a:t>5  RECURSOS   DETERMIIN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bre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Canon y Sobrecacanon, Regalìas, Rentas   de Aduanas y Partricip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     </a:t>
            </a: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2.4.1.3.1. </a:t>
            </a: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A Otras Unidades Del  Gobierno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  </a:t>
            </a: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2.4.2.3.1. </a:t>
            </a: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A Otras Unidades Del Gobiern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5238720" y="2879640"/>
            <a:ext cx="4208400" cy="270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 Black"/>
              </a:rPr>
              <a:t>4  DONACIONES Y TRANSFERENCI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</a:t>
            </a: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13  Donaciones y Transferenci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 </a:t>
            </a: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1.4.1.3.1.  </a:t>
            </a: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De Otras Unidades de  Gobie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  </a:t>
            </a:r>
            <a:r>
              <a:rPr b="1" i="1" lang="es-MX" sz="1800" spc="-1" strike="noStrike">
                <a:solidFill>
                  <a:srgbClr val="000000"/>
                </a:solidFill>
                <a:latin typeface="Timbrel"/>
              </a:rPr>
              <a:t>1.4.2.3.1.</a:t>
            </a: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De Otras Unidades  de Gobiern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brel"/>
              </a:rPr>
              <a:t>        </a:t>
            </a:r>
            <a:r>
              <a:rPr b="1" i="1" lang="es-MX" sz="1600" spc="-1" strike="noStrike">
                <a:solidFill>
                  <a:srgbClr val="dddddd"/>
                </a:solidFill>
                <a:latin typeface="Timbrel"/>
              </a:rPr>
              <a:t> </a:t>
            </a:r>
            <a:r>
              <a:rPr b="0" lang="es-MX" sz="1600" spc="-1" strike="noStrike">
                <a:solidFill>
                  <a:srgbClr val="dddddd"/>
                </a:solidFill>
                <a:latin typeface="Timbre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1666800" y="2357280"/>
            <a:ext cx="933480" cy="378000"/>
          </a:xfrm>
          <a:prstGeom prst="downArrow">
            <a:avLst>
              <a:gd name="adj1" fmla="val 29269"/>
              <a:gd name="adj2" fmla="val 37546"/>
            </a:avLst>
          </a:prstGeom>
          <a:gradFill rotWithShape="0">
            <a:gsLst>
              <a:gs pos="0">
                <a:srgbClr val="ff9966"/>
              </a:gs>
              <a:gs pos="100000">
                <a:srgbClr val="3366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6804000" y="2349360"/>
            <a:ext cx="925560" cy="378000"/>
          </a:xfrm>
          <a:prstGeom prst="downArrow">
            <a:avLst>
              <a:gd name="adj1" fmla="val 29269"/>
              <a:gd name="adj2" fmla="val 37546"/>
            </a:avLst>
          </a:prstGeom>
          <a:gradFill rotWithShape="0">
            <a:gsLst>
              <a:gs pos="0">
                <a:srgbClr val="ff9966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928800" y="1261440"/>
            <a:ext cx="3835440" cy="1117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bre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brel"/>
              </a:rPr>
              <a:t>TRANSFERENCIAS   FINANCIERA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brel"/>
              </a:rPr>
              <a:t>          </a:t>
            </a:r>
            <a:r>
              <a:rPr b="1" i="1" lang="es-MX" sz="2000" spc="-1" strike="noStrike">
                <a:solidFill>
                  <a:srgbClr val="000000"/>
                </a:solidFill>
                <a:latin typeface="Timbrel"/>
              </a:rPr>
              <a:t>OTORG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14 CuadroTexto"/>
          <p:cNvSpPr/>
          <p:nvPr/>
        </p:nvSpPr>
        <p:spPr>
          <a:xfrm>
            <a:off x="3643200" y="2500200"/>
            <a:ext cx="33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CONCILI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16 Cinta perforada"/>
          <p:cNvSpPr/>
          <p:nvPr/>
        </p:nvSpPr>
        <p:spPr>
          <a:xfrm>
            <a:off x="1143000" y="5786280"/>
            <a:ext cx="860400" cy="519120"/>
          </a:xfrm>
          <a:prstGeom prst="flowChartPunchedTap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FO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17 Cinta perforada"/>
          <p:cNvSpPr/>
          <p:nvPr/>
        </p:nvSpPr>
        <p:spPr>
          <a:xfrm>
            <a:off x="1881360" y="6053040"/>
            <a:ext cx="749160" cy="519120"/>
          </a:xfrm>
          <a:prstGeom prst="flowChartPunchedTap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FO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18 Cinta perforada"/>
          <p:cNvSpPr/>
          <p:nvPr/>
        </p:nvSpPr>
        <p:spPr>
          <a:xfrm>
            <a:off x="2595600" y="6286680"/>
            <a:ext cx="809640" cy="428400"/>
          </a:xfrm>
          <a:prstGeom prst="flowChartPunchedTap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FO-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20 Cinta perforada"/>
          <p:cNvSpPr/>
          <p:nvPr/>
        </p:nvSpPr>
        <p:spPr>
          <a:xfrm>
            <a:off x="6643800" y="5929200"/>
            <a:ext cx="1023840" cy="571680"/>
          </a:xfrm>
          <a:prstGeom prst="flowChartPunchedTap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F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AutoShape 9"/>
          <p:cNvSpPr/>
          <p:nvPr/>
        </p:nvSpPr>
        <p:spPr>
          <a:xfrm>
            <a:off x="6786720" y="2357280"/>
            <a:ext cx="925200" cy="378000"/>
          </a:xfrm>
          <a:prstGeom prst="downArrow">
            <a:avLst>
              <a:gd name="adj1" fmla="val 29269"/>
              <a:gd name="adj2" fmla="val 37546"/>
            </a:avLst>
          </a:prstGeom>
          <a:gradFill rotWithShape="0">
            <a:gsLst>
              <a:gs pos="0">
                <a:srgbClr val="ff9966"/>
              </a:gs>
              <a:gs pos="100000">
                <a:srgbClr val="3366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AutoShape 8"/>
          <p:cNvSpPr/>
          <p:nvPr/>
        </p:nvSpPr>
        <p:spPr>
          <a:xfrm rot="16200000">
            <a:off x="4502160" y="3794040"/>
            <a:ext cx="809280" cy="377640"/>
          </a:xfrm>
          <a:prstGeom prst="downArrow">
            <a:avLst>
              <a:gd name="adj1" fmla="val 29269"/>
              <a:gd name="adj2" fmla="val 37546"/>
            </a:avLst>
          </a:prstGeom>
          <a:gradFill rotWithShape="0">
            <a:gsLst>
              <a:gs pos="0">
                <a:srgbClr val="ff9966"/>
              </a:gs>
              <a:gs pos="100000">
                <a:srgbClr val="3366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1860480" y="1071720"/>
            <a:ext cx="6735960" cy="866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TRANSFERENCIAS  OTORGADA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1166760" y="2357280"/>
            <a:ext cx="7858080" cy="2857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Las U.E.  deben considerar las  trans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financieras que correspondan al  ejercicio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sustentadas con Cartas Orden, no las q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están  en estado de devengo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2"/>
          <p:cNvGraphicFramePr/>
          <p:nvPr/>
        </p:nvGraphicFramePr>
        <p:xfrm>
          <a:off x="79200" y="0"/>
          <a:ext cx="98269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0"/>
                    <a:ext cx="9826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Object 5"/>
          <p:cNvGraphicFramePr/>
          <p:nvPr/>
        </p:nvGraphicFramePr>
        <p:xfrm>
          <a:off x="95400" y="142920"/>
          <a:ext cx="973908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42920"/>
                    <a:ext cx="973908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1"/>
          <p:cNvGraphicFramePr/>
          <p:nvPr/>
        </p:nvGraphicFramePr>
        <p:xfrm>
          <a:off x="523800" y="139680"/>
          <a:ext cx="8715600" cy="67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39680"/>
                    <a:ext cx="8715600" cy="67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5 Llamada rectangular redondeada"/>
          <p:cNvSpPr/>
          <p:nvPr/>
        </p:nvSpPr>
        <p:spPr>
          <a:xfrm>
            <a:off x="3309840" y="6143760"/>
            <a:ext cx="1571760" cy="571320"/>
          </a:xfrm>
          <a:prstGeom prst="wedgeRoundRectCallout">
            <a:avLst>
              <a:gd name="adj1" fmla="val 47486"/>
              <a:gd name="adj2" fmla="val -104662"/>
              <a:gd name="adj3" fmla="val 16667"/>
            </a:avLst>
          </a:prstGeom>
          <a:solidFill>
            <a:srgbClr val="a8f6d1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060"/>
                </a:solidFill>
                <a:latin typeface="Verdana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060"/>
                </a:solidFill>
                <a:latin typeface="Verdana"/>
              </a:rPr>
              <a:t>PP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6 Llamada rectangular redondeada"/>
          <p:cNvSpPr/>
          <p:nvPr/>
        </p:nvSpPr>
        <p:spPr>
          <a:xfrm>
            <a:off x="6881760" y="6215040"/>
            <a:ext cx="1714680" cy="428760"/>
          </a:xfrm>
          <a:prstGeom prst="wedgeRoundRectCallout">
            <a:avLst>
              <a:gd name="adj1" fmla="val -36078"/>
              <a:gd name="adj2" fmla="val -143023"/>
              <a:gd name="adj3" fmla="val 16667"/>
            </a:avLst>
          </a:prstGeom>
          <a:solidFill>
            <a:srgbClr val="a8f6d1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060"/>
                </a:solidFill>
                <a:latin typeface="Verdana"/>
              </a:rPr>
              <a:t>EP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060"/>
                </a:solidFill>
                <a:latin typeface="Verdana"/>
              </a:rPr>
              <a:t>(Gast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"/>
          <p:cNvGraphicFramePr/>
          <p:nvPr/>
        </p:nvGraphicFramePr>
        <p:xfrm>
          <a:off x="166680" y="0"/>
          <a:ext cx="9429840" cy="7047000"/>
        </p:xfrm>
        <a:graphic>
          <a:graphicData uri="http://schemas.openxmlformats.org/drawingml/2006/table">
            <a:tbl>
              <a:tblPr/>
              <a:tblGrid>
                <a:gridCol w="654120"/>
                <a:gridCol w="2298600"/>
                <a:gridCol w="1041480"/>
                <a:gridCol w="1868400"/>
                <a:gridCol w="1806480"/>
                <a:gridCol w="1760760"/>
              </a:tblGrid>
              <a:tr h="63972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 GEOGRÁFICA DE LAS TRANSFERENCIAS FINANCIERAS OTORG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RCICIO 20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n Nuevos Sol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: GOBIERNO REGIONAL AREQUI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FO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DE OR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INSTITUCIONAL MODIFICADO-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824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NSFERENCIAS ENTREGADAS A: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DAD  DISTRITAL DE  VIRA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QUI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NT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556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ANSFERENCIAS ENTREGADAS A: 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DAD NACIONAL DE  SAN AGUSTÍ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QUI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,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,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ENT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,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,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8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000,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9,73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r a nivel de plie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PRESUPUEST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DOR 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N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DMINISTR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5 Llamada rectangular redondeada"/>
          <p:cNvSpPr/>
          <p:nvPr/>
        </p:nvSpPr>
        <p:spPr>
          <a:xfrm flipH="1">
            <a:off x="2762280" y="5786280"/>
            <a:ext cx="2047680" cy="428760"/>
          </a:xfrm>
          <a:prstGeom prst="wedgeRoundRectCallout">
            <a:avLst>
              <a:gd name="adj1" fmla="val -60092"/>
              <a:gd name="adj2" fmla="val -161199"/>
              <a:gd name="adj3" fmla="val 16667"/>
            </a:avLst>
          </a:prstGeom>
          <a:solidFill>
            <a:srgbClr val="92d05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P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5 Llamada rectangular redondeada"/>
          <p:cNvSpPr/>
          <p:nvPr/>
        </p:nvSpPr>
        <p:spPr>
          <a:xfrm flipH="1">
            <a:off x="7095960" y="5786280"/>
            <a:ext cx="1857600" cy="428760"/>
          </a:xfrm>
          <a:prstGeom prst="wedgeRoundRectCallout">
            <a:avLst>
              <a:gd name="adj1" fmla="val 51666"/>
              <a:gd name="adj2" fmla="val -151564"/>
              <a:gd name="adj3" fmla="val 16667"/>
            </a:avLst>
          </a:prstGeom>
          <a:solidFill>
            <a:srgbClr val="92d05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EP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1:21:45Z</dcterms:created>
  <dc:creator>pcancino</dc:creator>
  <dc:description/>
  <dc:language>en-US</dc:language>
  <cp:lastModifiedBy>mef</cp:lastModifiedBy>
  <dcterms:modified xsi:type="dcterms:W3CDTF">2010-12-20T21:36:22Z</dcterms:modified>
  <cp:revision>184</cp:revision>
  <dc:subject/>
  <dc:title>Cuenta General de la Republica </dc:title>
</cp:coreProperties>
</file>