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82AA-2470-4F50-8B37-C27D34CEDC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700A-E457-45EA-8AFB-10984435DF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3520" y="6793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88D-9B67-4AD1-87CA-FD67CFEC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833-EFA2-4543-A3EF-6F9DD4D4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B5D-D8D1-43BC-A96B-7E659C17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F92-B394-4F56-8ACD-28182D37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233E-0C0B-4B82-BEF7-AA63AA33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99FB-B481-4EB1-B500-6B2BDE54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AB10-C2B0-4EAA-84DE-D9FFEB91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FD9E-7631-4825-B884-0A2E95AF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D641-7A8C-44C8-B2BB-0CC1C2B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D350-1A40-4117-9CFA-E9977346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5CB5-C271-4C13-AA2E-92F49FF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9C6-95B0-4134-B41A-A50A65A6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C3EE-1B76-4A39-9612-2352628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93E0-0001-4B41-9830-6E864EA8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DA5F-990E-4749-BFE8-CC9B4E3E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D0AC-7E01-4FE2-A41F-1CDB5149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B32C-4B1C-4289-A558-FF9313AE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672C5-3551-4859-858C-EE0623B1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C2D3-9DB0-46B5-8016-53841D3B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E4E2-B79A-4333-8ACD-7C597E1E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7DED-1349-42C8-B287-E7399C17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08F9-9C46-4808-AFE1-8E73F600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65D-D444-46FF-A8B2-E03625F1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E108-944F-4D2E-B0DC-43185B84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81D1-5496-446C-A30A-62133EB7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6231-EF31-4E39-83FE-F90D27C2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6387-AC1D-4088-9DBC-2BA456CB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400E6-9819-4738-A73D-9922E5A9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7A0B-A781-4972-A4AB-E8D030A5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02E3-428F-4BE7-B218-90364BF1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2C60-23C1-4DA2-9F89-C3609043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FCDB0-EF45-42F1-98FB-892ED17E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F4F5E-0204-4F95-8F94-5578BF22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8B5-6041-48B4-8C57-76C1FA19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DC1E-A229-4525-891F-B4FE06AC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DAA75-8752-4E00-9EE9-EB528D43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96059-0A2C-462E-9C26-7D74C8F2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CD84-C8D7-4CDB-A694-2DB0A424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D9ABB-AE8F-4705-82AE-7B89179D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2F64-D883-4D50-816B-45850DD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66E5-72A9-4FC8-B2F0-C27DABB7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8C08D-73DD-400C-9B31-3FD6603B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4C38-4E79-456F-99FD-89C33D44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EB08A-AC9E-46AA-B43D-951AAB09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E75-D103-4639-8C9C-F51F78AE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57DB2-D709-400B-8601-07751D13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4B7EF-3B08-4508-96B8-DC399876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F2148-F744-458B-88E5-AB2B5F01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1B71A-9E60-445E-9493-F350CAD5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A174-4A84-44AD-AB3A-4660B9AD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B6318-BCB5-4B90-BE03-FA3740F9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7B5C-BF27-42EA-A5EA-4C49089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D99B-4893-4E86-8BB9-644F22A6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9B605-4DD1-4C4B-B3CF-5A7F445A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9E263-E8E8-4FC2-B74D-6864E43A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8C8-D71F-4ABF-B120-B703D8EA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8EB89-8DFD-47C3-8F0C-0CF87E96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23040-40E0-489A-89DC-67F21FF2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1A8B7-2CEB-49A2-90E2-F759F17C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7D876-027C-4EB9-BCFF-3CC9861D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E409A-5BE1-422D-A0EC-7F729B44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56D42-01F9-4007-B783-8B5C3F5A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FEC08-85E5-4060-9132-ECFBF204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F73CD-2BAA-4B47-BE19-AFD0066A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DE0B7-C41B-46A1-8F6C-BEC63239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92806-3D02-48B3-BF58-18E1571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DA5-44B1-4CBB-9895-68AD7A6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6CFF1-754C-4D1A-B651-1F5B4298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F8463-69C8-4049-AF81-790466C7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094D-75DF-47C7-98DD-2F9FE9D8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1EE73-3DDD-4468-97B9-9A41AB6A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49B18-F459-4D73-987E-23B1966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58F5A-64F5-47A5-8D54-D9D80F4A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4C295-85F8-4B0E-8B99-86F40D6B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4137E-BB46-40B4-BD76-F99376CE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B5534-46D1-48EA-8670-9FB13CC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7C5CF-89AC-489B-820F-7731D310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DBC-4B44-456B-ADE0-348D8E6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97D76-4135-46EA-A5B2-11278B22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65F33-B025-410D-861D-3E789C98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D42C0-6C0A-408C-8E2F-19C96AD7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2DA96-2A2C-4662-8B18-90B66C79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08F92-47BF-4D80-BE3A-1B74B4D7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49F-1878-4E1B-8D8A-99B46C1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B3FC-CE52-4E62-809D-992731FCE8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0CE7-083B-4254-B772-A9102B660CF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DDE8-41CC-4157-962B-54B1858D7AE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18FE-B6C5-438C-B069-09A9900C59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FEB5-8927-43AC-B626-6AFC5630B03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92C5-0ECF-4773-9FFF-2C2768EF37B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565D-AD07-47C4-9516-B97214F5271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271440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l Sistema Nacional de Inversión Públ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Dirección General de Programación Multianual del Sector Públic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72314"/>
                </a:solidFill>
                <a:latin typeface="Gill Sans MT"/>
              </a:rPr>
              <a:t>Oficina de Programación e Inversiones – OPI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aa8a14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uscribir los Informes Técnicos de evaluación, así como los formatos que corresponda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aa8a14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Gill Sans MT"/>
              </a:rPr>
              <a:t>Visar los Resúmenes Ejecutivos de los estudios de preinvers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aa8a14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Velar por la aplicación de las recomendaciones que formule la DGPM, así como, cumplir con los lineamientos que dicha Dirección emi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aa8a14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Gill Sans MT"/>
              </a:rPr>
              <a:t>La persona designada como Responsable de una OPI </a:t>
            </a:r>
            <a:r>
              <a:rPr b="1" lang="es-ES" sz="2400" spc="-1" strike="noStrike" u="sng">
                <a:solidFill>
                  <a:srgbClr val="c00000"/>
                </a:solidFill>
                <a:uFillTx/>
                <a:latin typeface="Gill Sans MT"/>
              </a:rPr>
              <a:t>NO</a:t>
            </a:r>
            <a:r>
              <a:rPr b="0" lang="es-ES" sz="2400" spc="-1" strike="noStrike">
                <a:solidFill>
                  <a:srgbClr val="c00000"/>
                </a:solidFill>
                <a:latin typeface="Gill Sans MT"/>
              </a:rPr>
              <a:t> puede formar parte </a:t>
            </a:r>
            <a:r>
              <a:rPr b="0" lang="es-ES" sz="2400" spc="-1" strike="noStrike" u="sng">
                <a:solidFill>
                  <a:srgbClr val="c00000"/>
                </a:solidFill>
                <a:uFillTx/>
                <a:latin typeface="Gill Sans MT"/>
              </a:rPr>
              <a:t>directa o indirectamente</a:t>
            </a:r>
            <a:r>
              <a:rPr b="0" lang="es-ES" sz="2400" spc="-1" strike="noStrike">
                <a:solidFill>
                  <a:srgbClr val="c00000"/>
                </a:solidFill>
                <a:latin typeface="Gill Sans MT"/>
              </a:rPr>
              <a:t> de una UF ni de una U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72314"/>
                </a:solidFill>
                <a:latin typeface="Gill Sans MT"/>
              </a:rPr>
              <a:t>Oficina de Programación e Inversiones – OPI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Las nuevas UF que registre la OPI deben ten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periencia en los proyectos que debe formul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or lo menos 1 año de experiencia en proyectos, en SNI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1285920" y="1643040"/>
            <a:ext cx="7572240" cy="15570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responsable por mantener actualizada la información registrada en el B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stra, actualiza y cancela el registro de las UF, en el B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72314"/>
                </a:solidFill>
                <a:latin typeface="Gill Sans MT"/>
              </a:rPr>
              <a:t>Oficina de Programación e Inversiones – OPI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00080" y="1785960"/>
            <a:ext cx="7686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pinión técnica sobre PIP en cualquier fase del Ciclo del Proyect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pinión favorable sobre cualquier cambio de la información de un estudio o registro en el BP para PIPs que evalúa. La OPI podrá solicitar la información necesari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72314"/>
                </a:solidFill>
                <a:latin typeface="Gill Sans MT"/>
              </a:rPr>
              <a:t>Oficina de Programación e Inversiones – OPI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142640" y="1714320"/>
            <a:ext cx="7358040" cy="192852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Gill Sans MT"/>
              </a:rPr>
              <a:t>Desactiva PIP duplicados por UF de su ámbi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 PIPs duplicados son de UF de distintas OPIs, las OPI involucradas determinan al menos eficiente y lo comunican a la DGPM para que desactiv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3 CuadroTexto"/>
          <p:cNvSpPr/>
          <p:nvPr/>
        </p:nvSpPr>
        <p:spPr>
          <a:xfrm>
            <a:off x="1857240" y="4214880"/>
            <a:ext cx="6929640" cy="209232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uede cambiar en un PIP viable, la UE por otra UE de su ámbito, directamente en el B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uede cambiar la fte. financ. salvo que original sea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Unidad Formuladora - UF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28480" y="16426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Aft>
                <a:spcPts val="1199"/>
              </a:spcAft>
              <a:buClr>
                <a:srgbClr val="f63ca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abora,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suscribe y registr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los estudios de preinvers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Aft>
                <a:spcPts val="1199"/>
              </a:spcAft>
              <a:buClr>
                <a:srgbClr val="f63ca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Gill Sans MT"/>
              </a:rPr>
              <a:t>Poner a disposición de DGPM u OPI toda la información del PIP, en caso sea solicit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Aft>
                <a:spcPts val="1199"/>
              </a:spcAft>
              <a:buClr>
                <a:srgbClr val="f63ca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s UF-GR y UF-GL, solamente pueden formular proyectos que se enmarquen en las competencias de su nivel de Gobiern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Aft>
                <a:spcPts val="1199"/>
              </a:spcAft>
              <a:buClr>
                <a:srgbClr val="f63ca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alizar las coordinaciones y consultas necesarias con la entidad respectiva para evitar la duplicación de proyecto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Unidad Formuladora - UF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RECORDAR: Cuando los gastos de O&amp;M están a cargo de una entidad distinta a la que pertenece la UF del PIP, debe solicitar la opinión favorable de dicha entidad antes de remitir el Perfil para su evaluació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3 CuadroTexto"/>
          <p:cNvSpPr/>
          <p:nvPr/>
        </p:nvSpPr>
        <p:spPr>
          <a:xfrm>
            <a:off x="1928880" y="4786200"/>
            <a:ext cx="6929280" cy="94716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rebuchet MS"/>
              </a:rPr>
              <a:t>independientemente del nivel de estudio con el que se pueda declarar la v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Unidad Ejecutora - 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ualquier órgano o dependencia de las Entidades, con capacidad legal para ejecutar Proyectos de Inversión Pública </a:t>
            </a:r>
            <a:r>
              <a:rPr b="0" lang="es-ES" sz="2400" spc="-1" strike="noStrike">
                <a:solidFill>
                  <a:srgbClr val="c00000"/>
                </a:solidFill>
                <a:latin typeface="Gill Sans MT"/>
              </a:rPr>
              <a:t>de acuerdo a la normatividad presupuestal vigent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la responsable de la fase de inversión, aun cuando alguna de las acciones que se realizan en esta fase, sea realizada directamente por otro órgano o dependencia de la Entid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tá a cargo de la evaluación ex post del proyec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Unidad Ejecutora - 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186920" y="1196640"/>
            <a:ext cx="7705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be ceñirse a la viabilidad para la elaboración de Estudios Definitivos o Expedientes Técnicos y ejecución del PIP, bajo responsabilidad de quien los apruebe y del responsable de la UE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Gill Sans MT"/>
              </a:rPr>
              <a:t>Culminada la elaboración del ED o ET detallado, remitirá el Formato SNIP -15 debidamente llenado y suscrito, en el que informa que existe consistencia entre el ED o ET detallado y el estudio de preinversión por el que se otorgó la viabilida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Elabora el Informe de Cierre del PIP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Informa al órgano que declaró viabilidad, toda modificación en fase de inversió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nvenio SNIP 1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OBJETO: GL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Gill Sans MT"/>
              </a:rPr>
              <a:t>suje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al SNIP encarga la evaluación de sus PIP a otro GL sujeto al SNIP o a su G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L encargante al incorporarse informa a DGPM que no tiene OPI y que ha suscrito este Conveni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3 CuadroTexto"/>
          <p:cNvSpPr/>
          <p:nvPr/>
        </p:nvSpPr>
        <p:spPr>
          <a:xfrm>
            <a:off x="1857240" y="2928960"/>
            <a:ext cx="7072560" cy="64260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e encarga a otro GL, debe ser colindante al encargante o estar en su mismo depart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nvenio SNIP 1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857240"/>
            <a:ext cx="7499520" cy="380988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Funciones que se encargan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valuación del PIP y Verificación de viabil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gistros en el BP relacion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general todas las que deba hacer una O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OPI encargada registra Convenio en el B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4 Elipse"/>
          <p:cNvSpPr/>
          <p:nvPr/>
        </p:nvSpPr>
        <p:spPr>
          <a:xfrm>
            <a:off x="2643120" y="4857840"/>
            <a:ext cx="5072040" cy="164304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8 CuadroTexto"/>
          <p:cNvSpPr/>
          <p:nvPr/>
        </p:nvSpPr>
        <p:spPr>
          <a:xfrm>
            <a:off x="3214800" y="50720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JO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GPM remite la clave de acceso al BP a la OPI encarg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5148360" y="1557360"/>
            <a:ext cx="3456000" cy="136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Lucida Sans Unicode"/>
              </a:rPr>
              <a:t>Los Sistemas Administra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Lucida Sans Unicode"/>
              </a:rPr>
              <a:t>Nacionales son sistem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Lucida Sans Unicode"/>
              </a:rPr>
              <a:t>gestión que actúan c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Lucida Sans Unicode"/>
              </a:rPr>
              <a:t>norma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133720" y="3809880"/>
            <a:ext cx="2133360" cy="190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4f271c"/>
                </a:solidFill>
                <a:latin typeface="Lucida Sans Unicode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"/>
          <p:cNvSpPr/>
          <p:nvPr/>
        </p:nvSpPr>
        <p:spPr>
          <a:xfrm>
            <a:off x="3243240" y="2476440"/>
            <a:ext cx="1440" cy="1333440"/>
          </a:xfrm>
          <a:prstGeom prst="line">
            <a:avLst/>
          </a:prstGeom>
          <a:ln w="38160">
            <a:solidFill>
              <a:srgbClr val="dce4d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133720" y="1676520"/>
            <a:ext cx="2133360" cy="1028520"/>
          </a:xfrm>
          <a:prstGeom prst="rect">
            <a:avLst/>
          </a:prstGeom>
          <a:solidFill>
            <a:srgbClr val="dce4d4"/>
          </a:solidFill>
          <a:ln w="9360">
            <a:solidFill>
              <a:srgbClr val="dce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4f271c"/>
                </a:solidFill>
                <a:latin typeface="Lucida Sans Unicode"/>
              </a:rPr>
              <a:t>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4f271c"/>
                </a:solidFill>
                <a:latin typeface="Lucida Sans Unicode"/>
              </a:rPr>
              <a:t>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"/>
          <p:cNvSpPr/>
          <p:nvPr/>
        </p:nvSpPr>
        <p:spPr>
          <a:xfrm>
            <a:off x="6400800" y="3657600"/>
            <a:ext cx="1981080" cy="205740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4f271c"/>
                </a:solidFill>
                <a:latin typeface="Lucida Sans Unicode"/>
              </a:rPr>
              <a:t>Ciudad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3962520" y="3809880"/>
            <a:ext cx="2743200" cy="18288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4f271c"/>
                </a:solidFill>
                <a:latin typeface="Lucida Sans Unicode"/>
              </a:rPr>
              <a:t>Servic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4f271c"/>
                </a:solidFill>
                <a:latin typeface="Lucida Sans Unicode"/>
              </a:rPr>
              <a:t>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457200" y="28036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5270d2"/>
                </a:solidFill>
                <a:latin typeface="Lucida Sans Unicode"/>
              </a:rPr>
              <a:t>Reglas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5270d2"/>
                </a:solidFill>
                <a:latin typeface="Lucida Sans Unicode"/>
              </a:rPr>
              <a:t>cert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5270d2"/>
                </a:solidFill>
                <a:latin typeface="Lucida Sans Unicode"/>
              </a:rPr>
              <a:t>Conducta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4267080" y="58514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5270d2"/>
                </a:solidFill>
                <a:latin typeface="Lucida Sans Unicode"/>
              </a:rPr>
              <a:t>... a fin de garant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5270d2"/>
                </a:solidFill>
                <a:latin typeface="Lucida Sans Unicode"/>
              </a:rPr>
              <a:t>la calidad 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755640" y="549360"/>
            <a:ext cx="8209080" cy="863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f271c"/>
                </a:solidFill>
                <a:latin typeface="Arial"/>
              </a:rPr>
              <a:t>Los Sistemas Administr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nvenio SNIP 1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BJETO: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Gill Sans MT"/>
              </a:rPr>
              <a:t>GL sujeto 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al SNIP formula, evalúa y declara viable PIPs de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Gill Sans MT"/>
              </a:rPr>
              <a:t>GL no sujeto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3 CuadroTexto"/>
          <p:cNvSpPr/>
          <p:nvPr/>
        </p:nvSpPr>
        <p:spPr>
          <a:xfrm>
            <a:off x="1143000" y="3500280"/>
            <a:ext cx="7786800" cy="45972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I del GL sujeto al SNIP registra el Convenio en el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5 CuadroTexto"/>
          <p:cNvSpPr/>
          <p:nvPr/>
        </p:nvSpPr>
        <p:spPr>
          <a:xfrm>
            <a:off x="1643040" y="4643280"/>
            <a:ext cx="7215120" cy="1191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UF registra PIP del GL no sujeto, en el BP, debe dejar constancia del Convenio en la Ficha de Registro del P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nvenio SNIP 1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BJETO: GN ó GR pueden formular PIPs de competencia municipal exclusiva, siempre que firmen este Convenio con el GL respectiv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3 CuadroTexto"/>
          <p:cNvSpPr/>
          <p:nvPr/>
        </p:nvSpPr>
        <p:spPr>
          <a:xfrm>
            <a:off x="1357200" y="3857760"/>
            <a:ext cx="7572600" cy="825480"/>
          </a:xfrm>
          <a:prstGeom prst="rect">
            <a:avLst/>
          </a:prstGeom>
          <a:solidFill>
            <a:srgbClr val="b9d7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be indicarse expresamente el PIP objeto del Conv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4 CuadroTexto"/>
          <p:cNvSpPr/>
          <p:nvPr/>
        </p:nvSpPr>
        <p:spPr>
          <a:xfrm>
            <a:off x="1357200" y="5286240"/>
            <a:ext cx="7572600" cy="82548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UF que formula PIP de competencia municipal exclusiva, registra Convenio en el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3905280" y="5356080"/>
            <a:ext cx="18288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Lucida Sans Unicode"/>
              </a:rPr>
              <a:t>Retroali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3"/>
          <p:cNvSpPr/>
          <p:nvPr/>
        </p:nvSpPr>
        <p:spPr>
          <a:xfrm>
            <a:off x="8317080" y="3873600"/>
            <a:ext cx="761760" cy="380880"/>
          </a:xfrm>
          <a:prstGeom prst="roundRect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6496200" y="2155680"/>
            <a:ext cx="1676160" cy="2895840"/>
          </a:xfrm>
          <a:prstGeom prst="rect">
            <a:avLst/>
          </a:prstGeom>
          <a:solidFill>
            <a:srgbClr val="dce4d4"/>
          </a:solidFill>
          <a:ln w="9360">
            <a:solidFill>
              <a:srgbClr val="dce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Lucida Sans Unicode"/>
              </a:rPr>
              <a:t>Post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6553080" y="3316320"/>
            <a:ext cx="1600200" cy="533520"/>
          </a:xfrm>
          <a:prstGeom prst="rect">
            <a:avLst/>
          </a:prstGeom>
          <a:solidFill>
            <a:srgbClr val="a1b68c"/>
          </a:solidFill>
          <a:ln w="9360">
            <a:solidFill>
              <a:srgbClr val="dce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500" spc="-1" strike="noStrike">
                <a:solidFill>
                  <a:srgbClr val="000000"/>
                </a:solidFill>
                <a:latin typeface="Lucida Sans Unicode"/>
              </a:rPr>
              <a:t>Operació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500" spc="-1" strike="noStrike">
                <a:solidFill>
                  <a:srgbClr val="000000"/>
                </a:solidFill>
                <a:latin typeface="Lucida Sans Unicode"/>
              </a:rPr>
              <a:t>y Manteni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AutoShape 6"/>
          <p:cNvCxnSpPr>
            <a:stCxn id="406" idx="2"/>
            <a:endCxn id="404" idx="3"/>
          </p:cNvCxnSpPr>
          <p:nvPr/>
        </p:nvCxnSpPr>
        <p:spPr>
          <a:xfrm rot="5400000">
            <a:off x="6247800" y="4536720"/>
            <a:ext cx="572040" cy="1600920"/>
          </a:xfrm>
          <a:prstGeom prst="bentConnector2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409" name="AutoShape 7"/>
          <p:cNvCxnSpPr>
            <a:stCxn id="404" idx="1"/>
            <a:endCxn id="410" idx="2"/>
          </p:cNvCxnSpPr>
          <p:nvPr/>
        </p:nvCxnSpPr>
        <p:spPr>
          <a:xfrm rot="10800000">
            <a:off x="1977480" y="5039640"/>
            <a:ext cx="1927800" cy="583200"/>
          </a:xfrm>
          <a:prstGeom prst="bentConnector2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411" name="Rectangle 8"/>
          <p:cNvSpPr/>
          <p:nvPr/>
        </p:nvSpPr>
        <p:spPr>
          <a:xfrm>
            <a:off x="3730680" y="2155680"/>
            <a:ext cx="1828800" cy="2895840"/>
          </a:xfrm>
          <a:prstGeom prst="rect">
            <a:avLst/>
          </a:prstGeom>
          <a:solidFill>
            <a:srgbClr val="dce4d4"/>
          </a:solidFill>
          <a:ln w="9360">
            <a:solidFill>
              <a:srgbClr val="dce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Lucida Sans Unicode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3987720" y="2930400"/>
            <a:ext cx="129564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Estud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Definitivo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Expe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Téc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3987720" y="4294080"/>
            <a:ext cx="129708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Ejec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5746680" y="3298680"/>
            <a:ext cx="45720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977760" y="2144880"/>
            <a:ext cx="2000520" cy="2895480"/>
          </a:xfrm>
          <a:prstGeom prst="rect">
            <a:avLst/>
          </a:prstGeom>
          <a:solidFill>
            <a:srgbClr val="dce4d4"/>
          </a:solidFill>
          <a:ln w="9360">
            <a:solidFill>
              <a:srgbClr val="dce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Lucida Sans Unicode"/>
              </a:rPr>
              <a:t>Pre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1265400" y="2716200"/>
            <a:ext cx="14396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Perf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1265400" y="3478320"/>
            <a:ext cx="143964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P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fact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1265400" y="4240080"/>
            <a:ext cx="14396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Fact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6"/>
          <p:cNvSpPr/>
          <p:nvPr/>
        </p:nvSpPr>
        <p:spPr>
          <a:xfrm>
            <a:off x="108000" y="1628640"/>
            <a:ext cx="762120" cy="381240"/>
          </a:xfrm>
          <a:prstGeom prst="roundRect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7"/>
          <p:cNvSpPr/>
          <p:nvPr/>
        </p:nvSpPr>
        <p:spPr>
          <a:xfrm>
            <a:off x="3130560" y="3287880"/>
            <a:ext cx="45720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3124080" y="33526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505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0"/>
          <p:cNvSpPr/>
          <p:nvPr/>
        </p:nvSpPr>
        <p:spPr>
          <a:xfrm>
            <a:off x="762120" y="5791320"/>
            <a:ext cx="76197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18576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400" spc="-1" strike="noStrike">
                <a:solidFill>
                  <a:srgbClr val="ff5050"/>
                </a:solidFill>
                <a:latin typeface="Lucida Sans Unicode"/>
              </a:rPr>
              <a:t>*</a:t>
            </a:r>
            <a:r>
              <a:rPr b="0" i="1" lang="es-PE" sz="1800" spc="-1" strike="noStrike">
                <a:solidFill>
                  <a:srgbClr val="000000"/>
                </a:solidFill>
                <a:latin typeface="Lucida Sans Unicode"/>
              </a:rPr>
              <a:t>La declaración de viabilidad es un requisito para</a:t>
            </a:r>
            <a:r>
              <a:rPr b="0" i="1" lang="es-PE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i="1" lang="es-PE" sz="1800" spc="-1" strike="noStrike">
                <a:solidFill>
                  <a:srgbClr val="000000"/>
                </a:solidFill>
                <a:latin typeface="Lucida Sans Unicode"/>
              </a:rPr>
              <a:t>pasar de la fase de preinversión a la fase de inver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6781680" y="4191120"/>
            <a:ext cx="1219320" cy="533160"/>
          </a:xfrm>
          <a:prstGeom prst="rect">
            <a:avLst/>
          </a:prstGeom>
          <a:solidFill>
            <a:srgbClr val="a1b68c"/>
          </a:solidFill>
          <a:ln w="9360">
            <a:solidFill>
              <a:srgbClr val="dce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600" spc="-1" strike="noStrike">
                <a:solidFill>
                  <a:srgbClr val="000000"/>
                </a:solidFill>
                <a:latin typeface="Lucida Sans Unicode"/>
              </a:rPr>
              <a:t>Ex 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468360" y="33336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4f271c"/>
                </a:solidFill>
                <a:latin typeface="Arial"/>
              </a:rPr>
              <a:t>Ciclo del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742840" y="2786040"/>
            <a:ext cx="6186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572314"/>
                </a:solidFill>
                <a:latin typeface="Gill Sans MT"/>
              </a:rPr>
              <a:t>GRACIAS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3"/>
          <p:cNvGrpSpPr/>
          <p:nvPr/>
        </p:nvGrpSpPr>
        <p:grpSpPr>
          <a:xfrm>
            <a:off x="2133720" y="1676520"/>
            <a:ext cx="6324480" cy="4840560"/>
            <a:chOff x="2133720" y="1676520"/>
            <a:chExt cx="6324480" cy="4840560"/>
          </a:xfrm>
        </p:grpSpPr>
        <p:sp>
          <p:nvSpPr>
            <p:cNvPr id="337" name="Rectangle 4"/>
            <p:cNvSpPr/>
            <p:nvPr/>
          </p:nvSpPr>
          <p:spPr>
            <a:xfrm>
              <a:off x="2133720" y="3772080"/>
              <a:ext cx="2133360" cy="1904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3243240" y="2438280"/>
              <a:ext cx="1440" cy="1333800"/>
            </a:xfrm>
            <a:prstGeom prst="line">
              <a:avLst/>
            </a:prstGeom>
            <a:ln w="38160">
              <a:solidFill>
                <a:srgbClr val="dce4d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2133720" y="1676520"/>
              <a:ext cx="2133360" cy="1028520"/>
            </a:xfrm>
            <a:prstGeom prst="rect">
              <a:avLst/>
            </a:prstGeom>
            <a:solidFill>
              <a:srgbClr val="dce4d4"/>
            </a:solidFill>
            <a:ln w="9360">
              <a:solidFill>
                <a:srgbClr val="dce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7"/>
            <p:cNvSpPr/>
            <p:nvPr/>
          </p:nvSpPr>
          <p:spPr>
            <a:xfrm>
              <a:off x="6400800" y="3619440"/>
              <a:ext cx="1981080" cy="2057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Ciudad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8"/>
            <p:cNvSpPr/>
            <p:nvPr/>
          </p:nvSpPr>
          <p:spPr>
            <a:xfrm>
              <a:off x="3962520" y="3772080"/>
              <a:ext cx="2743200" cy="18288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Proyect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Inversión Públ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4267080" y="5813280"/>
              <a:ext cx="419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5270d2"/>
                  </a:solidFill>
                  <a:latin typeface="Arial"/>
                </a:rPr>
                <a:t>El SNIP busca certificar la calidad de los proye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10"/>
          <p:cNvSpPr/>
          <p:nvPr/>
        </p:nvSpPr>
        <p:spPr>
          <a:xfrm>
            <a:off x="755640" y="333360"/>
            <a:ext cx="7777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4f271c"/>
                </a:solidFill>
                <a:latin typeface="Arial"/>
              </a:rPr>
              <a:t>El Sistema Nacional de Inversión Pú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2"/>
          <p:cNvGraphicFramePr/>
          <p:nvPr/>
        </p:nvGraphicFramePr>
        <p:xfrm>
          <a:off x="2556000" y="1916280"/>
          <a:ext cx="1511280" cy="39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16280"/>
                    <a:ext cx="151128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arco Normativo actu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03280" y="1267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ey Nº 27293, modificada por las Leyes N° 28522 y 28802 y por el Decreto Legislativo N°1005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Reglamento del SNIP, aprobado por DS Nº 102-2007-EF, modificado por DS N°185-2007-EF y DS N° 038-2009-EF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Gill Sans MT"/>
              </a:rPr>
              <a:t>Ley 29465, 45° Disposición Fin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irectiva General del SNIP, aprobada por RD Nº 002-2009-EF/68.01, modificada por RD N° 003-2009-EF/68.01 y RD N° 004-2009-EF/68.01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RM delegaciones PIP con endeudamiento interno, RM Nº 314-2007-EF/15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356920" y="260028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572314"/>
                </a:solidFill>
                <a:latin typeface="Gill Sans MT"/>
              </a:rPr>
              <a:t>PRINCIPALES CONCEPTO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2627280" y="1268280"/>
            <a:ext cx="5040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Lucida Sans Unicode"/>
              </a:rPr>
              <a:t>Toda intervención limitada en el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1258920" y="1268280"/>
            <a:ext cx="1066680" cy="532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627280" y="2133720"/>
            <a:ext cx="51134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Lucida Sans Unicode"/>
              </a:rPr>
              <a:t>Que utiliza total o parcialmente recur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1258920" y="2205000"/>
            <a:ext cx="1066680" cy="5317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2627280" y="2997360"/>
            <a:ext cx="518472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Lucida Sans Unicode"/>
              </a:rPr>
              <a:t>Con el fin de crear, ampliar, mejorar o recuperar la capacidad productora de bienes o servicios de una En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1258920" y="3357720"/>
            <a:ext cx="1066680" cy="5317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2556000" y="4437000"/>
            <a:ext cx="5256000" cy="64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Lucida Sans Unicode"/>
              </a:rPr>
              <a:t>Cuyos beneficios se generen durante la vida útil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1187280" y="4437000"/>
            <a:ext cx="1067040" cy="5317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000080" y="5229360"/>
            <a:ext cx="760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Deb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constituir la solución a un problema vinculado a los fines y competencias de una Entidad, pudiendo </a:t>
            </a:r>
            <a:r>
              <a:rPr b="1" i="1" lang="es-ES" sz="2000" spc="-1" strike="noStrike" u="sng">
                <a:solidFill>
                  <a:srgbClr val="ff5050"/>
                </a:solidFill>
                <a:uFillTx/>
                <a:latin typeface="Arial"/>
              </a:rPr>
              <a:t>ejecutarse en más de un ejercicio presupuestal, conforme al cronograma de ejecución de los estudios de preinversión</a:t>
            </a:r>
            <a:r>
              <a:rPr b="1" lang="es-ES" sz="2000" spc="-1" strike="noStrike">
                <a:solidFill>
                  <a:srgbClr val="feb80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785880" y="214200"/>
            <a:ext cx="7913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4f271c"/>
                </a:solidFill>
                <a:latin typeface="Arial"/>
              </a:rPr>
              <a:t>Proyecto de Inversión Pú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572314"/>
                </a:solidFill>
                <a:latin typeface="Gill Sans MT"/>
              </a:rPr>
              <a:t>NO SON PIPs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s intervenciones que constituyen gastos de operación y mantenimien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Gill Sans MT"/>
              </a:rPr>
              <a:t>La reposición de activos</a:t>
            </a:r>
            <a:r>
              <a:rPr b="0" i="1" lang="es-MX" sz="2800" spc="-1" strike="noStrike">
                <a:solidFill>
                  <a:srgbClr val="ff0000"/>
                </a:solidFill>
                <a:latin typeface="Gill Sans MT"/>
              </a:rPr>
              <a:t> qu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0000"/>
                </a:solidFill>
                <a:latin typeface="Gill Sans MT"/>
              </a:rPr>
              <a:t>(i) se realice en el marco de las inversiones programadas de un proyecto declarado viable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0000"/>
                </a:solidFill>
                <a:latin typeface="Gill Sans MT"/>
              </a:rPr>
              <a:t>(ii) esté asociada a la operatividad de las instalaciones físicas para el funcionamiento de la entidad; 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0000"/>
                </a:solidFill>
                <a:latin typeface="Gill Sans MT"/>
              </a:rPr>
              <a:t>(iii) no implique ampliación de capacidad para la provisión de servici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3 CuadroTexto"/>
          <p:cNvSpPr/>
          <p:nvPr/>
        </p:nvSpPr>
        <p:spPr>
          <a:xfrm>
            <a:off x="2857680" y="507204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general, la reposición de activ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s el reemplazo de un activo cuyo tiempo de operación ha superado su periodo de vida útil o ha sufrido daños por factores imprevisibles que afectan la continuidad de sus 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4 Llamada de flecha a la derecha"/>
          <p:cNvSpPr/>
          <p:nvPr/>
        </p:nvSpPr>
        <p:spPr>
          <a:xfrm>
            <a:off x="1143000" y="5286240"/>
            <a:ext cx="1714680" cy="785880"/>
          </a:xfrm>
          <a:prstGeom prst="right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c58d0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5 CuadroTexto"/>
          <p:cNvSpPr/>
          <p:nvPr/>
        </p:nvSpPr>
        <p:spPr>
          <a:xfrm>
            <a:off x="1143000" y="55008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572314"/>
                </a:solidFill>
                <a:latin typeface="Gill Sans MT"/>
              </a:rPr>
              <a:t>Órgano Resolutiv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RECORDA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spcAft>
                <a:spcPts val="1624"/>
              </a:spcAft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Gill Sans MT"/>
              </a:rPr>
              <a:t>Designa al órgano que realizará las funciones de OPI en su Sector, Gobierno Regional o Local, </a:t>
            </a:r>
            <a:r>
              <a:rPr b="0" lang="es-PE" sz="2600" spc="-1" strike="noStrike">
                <a:solidFill>
                  <a:srgbClr val="c00000"/>
                </a:solidFill>
                <a:latin typeface="Gill Sans MT"/>
              </a:rPr>
              <a:t>debiendo ser distinto a los órganos encargados de la formulación y/o ejecución de los proyect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spcAft>
                <a:spcPts val="1624"/>
              </a:spcAft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Gill Sans MT"/>
              </a:rPr>
              <a:t>Designa al Responsable de la OPI, </a:t>
            </a:r>
            <a:r>
              <a:rPr b="0" lang="es-PE" sz="2600" spc="-1" strike="noStrike">
                <a:solidFill>
                  <a:srgbClr val="c00000"/>
                </a:solidFill>
                <a:latin typeface="Gill Sans MT"/>
              </a:rPr>
              <a:t>siendo de su responsabilidad que la persona cumpla con el Anexo SNIP 14</a:t>
            </a:r>
            <a:r>
              <a:rPr b="0" lang="es-PE" sz="2600" spc="-1" strike="noStrike">
                <a:solidFill>
                  <a:srgbClr val="000000"/>
                </a:solidFill>
                <a:latin typeface="Gill Sans MT"/>
              </a:rPr>
              <a:t> - Perfil Profesional del Responsable de OP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3 CuadroTexto"/>
          <p:cNvSpPr/>
          <p:nvPr/>
        </p:nvSpPr>
        <p:spPr>
          <a:xfrm>
            <a:off x="1357200" y="5500800"/>
            <a:ext cx="7286760" cy="642600"/>
          </a:xfrm>
          <a:prstGeom prst="rect">
            <a:avLst/>
          </a:prstGeom>
          <a:solidFill>
            <a:srgbClr val="d0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designación no requiere Resolución ni documento adicional. Solamente requiere el Formato SNIP 02 firmado por el 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72314"/>
                </a:solidFill>
                <a:latin typeface="Gill Sans MT"/>
              </a:rPr>
              <a:t>Oficina de Programación e Inversiones – OPI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s OPIs de los GR y GL declaran la viabilidad de los PIP o Programas de Inversión</a:t>
            </a:r>
            <a:r>
              <a:rPr b="0" lang="es-E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s-ES" sz="2800" spc="-1" strike="noStrike">
                <a:solidFill>
                  <a:srgbClr val="c00000"/>
                </a:solidFill>
                <a:latin typeface="Gill Sans MT"/>
              </a:rPr>
              <a:t>que no se financien con endeudamiento, que sean de su competencia y formulados por sus UFs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-3693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-3693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Gill Sans MT"/>
              </a:rPr>
              <a:t>Las OPI </a:t>
            </a:r>
            <a:r>
              <a:rPr b="0" lang="es-PE" sz="2800" spc="-1" strike="noStrike">
                <a:solidFill>
                  <a:srgbClr val="c00000"/>
                </a:solidFill>
                <a:latin typeface="Gill Sans MT"/>
              </a:rPr>
              <a:t>Sectoriales</a:t>
            </a:r>
            <a:r>
              <a:rPr b="0" lang="es-PE" sz="28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es-PE" sz="2800" spc="-1" strike="noStrike">
                <a:solidFill>
                  <a:srgbClr val="000000"/>
                </a:solidFill>
                <a:latin typeface="Gill Sans MT"/>
              </a:rPr>
              <a:t>aprueban los estudios de preinversión de los proyectos y Programas de Inversión financiados con endeudamien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9360" indent="-3693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785960" y="4786200"/>
            <a:ext cx="6551640" cy="1313640"/>
          </a:xfrm>
          <a:prstGeom prst="rect">
            <a:avLst/>
          </a:prstGeom>
          <a:solidFill>
            <a:srgbClr val="d0e4a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ara PIP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S/.10 millones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, la OPI puede autorizar el “salto” de Perfil a Factibilidad </a:t>
            </a:r>
            <a:r>
              <a:rPr b="0" lang="es-PE" sz="2000" spc="-1" strike="noStrike">
                <a:solidFill>
                  <a:srgbClr val="c00000"/>
                </a:solidFill>
                <a:latin typeface="Arial"/>
              </a:rPr>
              <a:t>siempre 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que en el Perfil se haya identificado, sustentado y definido la alternativa a ser analizada en el estudio de Factibilidad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3:10:30Z</dcterms:created>
  <dc:creator>sheilah miranda</dc:creator>
  <dc:description/>
  <dc:language>en-US</dc:language>
  <cp:lastModifiedBy>mef</cp:lastModifiedBy>
  <dcterms:modified xsi:type="dcterms:W3CDTF">2010-12-13T22:03:39Z</dcterms:modified>
  <cp:revision>222</cp:revision>
  <dc:subject/>
  <dc:title>Nueva Directiva General del SNIP</dc:title>
</cp:coreProperties>
</file>