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</p:sldIdLst>
  <p:sldSz cx="9144000" cy="6858000"/>
  <p:notesSz cx="9856788" cy="67865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0"/>
            <a:ext cx="9856800" cy="67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272120" cy="33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dt" idx="13"/>
          </p:nvPr>
        </p:nvSpPr>
        <p:spPr>
          <a:xfrm>
            <a:off x="5582880" y="0"/>
            <a:ext cx="4272120" cy="33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sldImg"/>
          </p:nvPr>
        </p:nvSpPr>
        <p:spPr>
          <a:xfrm>
            <a:off x="3233520" y="509760"/>
            <a:ext cx="3390840" cy="2543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body"/>
          </p:nvPr>
        </p:nvSpPr>
        <p:spPr>
          <a:xfrm>
            <a:off x="985680" y="3222720"/>
            <a:ext cx="7885440" cy="305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ftr" idx="14"/>
          </p:nvPr>
        </p:nvSpPr>
        <p:spPr>
          <a:xfrm>
            <a:off x="-360" y="6445080"/>
            <a:ext cx="4272120" cy="33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 type="sldNum" idx="15"/>
          </p:nvPr>
        </p:nvSpPr>
        <p:spPr>
          <a:xfrm>
            <a:off x="5582880" y="6445080"/>
            <a:ext cx="4272120" cy="33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6DA91-864E-4377-91B4-D3B7739F70BC}" type="slidenum"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3233880" y="509760"/>
            <a:ext cx="3390840" cy="254304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85680" y="3222720"/>
            <a:ext cx="788544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3 Marcador de número de diapositiva"/>
          <p:cNvSpPr/>
          <p:nvPr/>
        </p:nvSpPr>
        <p:spPr>
          <a:xfrm>
            <a:off x="5583240" y="6445080"/>
            <a:ext cx="427212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C1280-8245-462E-87C4-280BFEAACFB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3233880" y="509760"/>
            <a:ext cx="3390840" cy="254304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85680" y="3222720"/>
            <a:ext cx="788544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3 Marcador de número de diapositiva"/>
          <p:cNvSpPr/>
          <p:nvPr/>
        </p:nvSpPr>
        <p:spPr>
          <a:xfrm>
            <a:off x="5583240" y="6445080"/>
            <a:ext cx="427212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161A5-E69E-4D05-9EC3-BF883A7D8C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3233880" y="509760"/>
            <a:ext cx="3390840" cy="254304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85680" y="3222720"/>
            <a:ext cx="788544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3 Marcador de número de diapositiva"/>
          <p:cNvSpPr/>
          <p:nvPr/>
        </p:nvSpPr>
        <p:spPr>
          <a:xfrm>
            <a:off x="5583240" y="6445080"/>
            <a:ext cx="427212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6C337-CEB1-4FAE-BD13-67F93EE332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3233880" y="509760"/>
            <a:ext cx="3390840" cy="254304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85680" y="3222720"/>
            <a:ext cx="788544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3 Marcador de número de diapositiva"/>
          <p:cNvSpPr/>
          <p:nvPr/>
        </p:nvSpPr>
        <p:spPr>
          <a:xfrm>
            <a:off x="5583240" y="6445080"/>
            <a:ext cx="427212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531F3-F278-4070-8252-C9BF6532BC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3233880" y="509760"/>
            <a:ext cx="3390840" cy="254304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85680" y="3222720"/>
            <a:ext cx="788544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3 Marcador de número de diapositiva"/>
          <p:cNvSpPr/>
          <p:nvPr/>
        </p:nvSpPr>
        <p:spPr>
          <a:xfrm>
            <a:off x="5583240" y="6445080"/>
            <a:ext cx="427212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2F5D5-4DC7-44FB-AE59-7E85D0D6B2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3233880" y="509760"/>
            <a:ext cx="3390840" cy="254304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85680" y="3222720"/>
            <a:ext cx="788544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3 Marcador de número de diapositiva"/>
          <p:cNvSpPr/>
          <p:nvPr/>
        </p:nvSpPr>
        <p:spPr>
          <a:xfrm>
            <a:off x="5583240" y="6445080"/>
            <a:ext cx="427212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D5094-521B-4252-90CA-E57AE053B7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3233880" y="509760"/>
            <a:ext cx="3390840" cy="254304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85680" y="3222720"/>
            <a:ext cx="788544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3 Marcador de número de diapositiva"/>
          <p:cNvSpPr/>
          <p:nvPr/>
        </p:nvSpPr>
        <p:spPr>
          <a:xfrm>
            <a:off x="5583240" y="6445080"/>
            <a:ext cx="427212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7AE14-ABE3-437D-A6BA-A83533B46A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5583240" y="6445080"/>
            <a:ext cx="427212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1BE93-E19C-4906-B21C-ADB50AADE5F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Rectangle 7"/>
          <p:cNvSpPr/>
          <p:nvPr/>
        </p:nvSpPr>
        <p:spPr>
          <a:xfrm>
            <a:off x="5584680" y="6445080"/>
            <a:ext cx="42721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F6E7C-BDA4-494B-B8E9-66DB823C51AD}" type="slidenum">
              <a:rPr b="0" lang="es-E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Rectangle 7"/>
          <p:cNvSpPr/>
          <p:nvPr/>
        </p:nvSpPr>
        <p:spPr>
          <a:xfrm>
            <a:off x="5584680" y="6445080"/>
            <a:ext cx="42721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13C17-641D-45A3-89A6-1CEB8DE7AF6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Rectangle 7"/>
          <p:cNvSpPr/>
          <p:nvPr/>
        </p:nvSpPr>
        <p:spPr>
          <a:xfrm>
            <a:off x="5584680" y="6445080"/>
            <a:ext cx="42721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023E4-00E8-43BE-BA09-CEC48A194768}" type="slidenum">
              <a:rPr b="0" lang="es-E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3235320" y="511200"/>
            <a:ext cx="3386160" cy="25416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1314000" y="3224160"/>
            <a:ext cx="722628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5583240" y="6445080"/>
            <a:ext cx="427212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9FDF0-1185-4638-8304-1AB976BCDC2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5584680" y="6445080"/>
            <a:ext cx="42721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784EC-14FA-44DD-8532-F5BE36786071}" type="slidenum">
              <a:rPr b="0" lang="es-E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Rectangle 7"/>
          <p:cNvSpPr/>
          <p:nvPr/>
        </p:nvSpPr>
        <p:spPr>
          <a:xfrm>
            <a:off x="5584680" y="6445080"/>
            <a:ext cx="42721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F8A6D-13C2-429F-9E66-ABD418E3666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7"/>
          <p:cNvSpPr/>
          <p:nvPr/>
        </p:nvSpPr>
        <p:spPr>
          <a:xfrm>
            <a:off x="5584680" y="6445080"/>
            <a:ext cx="42721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B1779-4347-4F27-8F87-39FCF1D41885}" type="slidenum">
              <a:rPr b="0" lang="es-E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3235320" y="511200"/>
            <a:ext cx="3386160" cy="25416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1314000" y="3224160"/>
            <a:ext cx="722628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3233880" y="509760"/>
            <a:ext cx="3390840" cy="254304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85680" y="3222720"/>
            <a:ext cx="788544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3 Marcador de número de diapositiva"/>
          <p:cNvSpPr/>
          <p:nvPr/>
        </p:nvSpPr>
        <p:spPr>
          <a:xfrm>
            <a:off x="5583240" y="6445080"/>
            <a:ext cx="427212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43AB4-9FEC-408B-A8D1-AB6D10C7422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5583240" y="6445080"/>
            <a:ext cx="427212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8279F-4299-4753-9DD8-E97E0EA9AB6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Rectangle 7"/>
          <p:cNvSpPr/>
          <p:nvPr/>
        </p:nvSpPr>
        <p:spPr>
          <a:xfrm>
            <a:off x="5584680" y="6445080"/>
            <a:ext cx="42721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82C12-52B5-4651-92BA-62D65BAC2B0A}" type="slidenum">
              <a:rPr b="0" lang="es-E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Rectangle 7"/>
          <p:cNvSpPr/>
          <p:nvPr/>
        </p:nvSpPr>
        <p:spPr>
          <a:xfrm>
            <a:off x="5584680" y="6445080"/>
            <a:ext cx="42721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FEBC1-72ED-49AE-8A6A-BFDF3E6FAAD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Rectangle 7"/>
          <p:cNvSpPr/>
          <p:nvPr/>
        </p:nvSpPr>
        <p:spPr>
          <a:xfrm>
            <a:off x="5584680" y="6445080"/>
            <a:ext cx="42721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2AC8C-B36A-4039-B41B-3147BC8DC621}" type="slidenum">
              <a:rPr b="0" lang="es-E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3235320" y="511200"/>
            <a:ext cx="3386160" cy="25416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1314000" y="3224160"/>
            <a:ext cx="722628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5583240" y="6445080"/>
            <a:ext cx="427212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5A662-BC41-415D-BE28-0A94D3A9951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Rectangle 7"/>
          <p:cNvSpPr/>
          <p:nvPr/>
        </p:nvSpPr>
        <p:spPr>
          <a:xfrm>
            <a:off x="5584680" y="6445080"/>
            <a:ext cx="42721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CCA34-C851-41BB-A8D4-30122B10C1AF}" type="slidenum">
              <a:rPr b="0" lang="es-E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Rectangle 7"/>
          <p:cNvSpPr/>
          <p:nvPr/>
        </p:nvSpPr>
        <p:spPr>
          <a:xfrm>
            <a:off x="5584680" y="6445080"/>
            <a:ext cx="42721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7AB00-984B-48DB-B276-A87268B91A9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Rectangle 7"/>
          <p:cNvSpPr/>
          <p:nvPr/>
        </p:nvSpPr>
        <p:spPr>
          <a:xfrm>
            <a:off x="5584680" y="6445080"/>
            <a:ext cx="42721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DE8B2-B0D6-4241-8249-FB6FFB7879C5}" type="slidenum">
              <a:rPr b="0" lang="es-E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3235320" y="511200"/>
            <a:ext cx="3386160" cy="25416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314000" y="3224160"/>
            <a:ext cx="722628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3233880" y="509760"/>
            <a:ext cx="3390840" cy="254304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85680" y="3222720"/>
            <a:ext cx="788544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3 Marcador de número de diapositiva"/>
          <p:cNvSpPr/>
          <p:nvPr/>
        </p:nvSpPr>
        <p:spPr>
          <a:xfrm>
            <a:off x="5583240" y="6445080"/>
            <a:ext cx="427212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C052D-E730-4463-A65A-3248B2D4661F}" type="slidenum">
              <a:rPr b="0" lang="es-P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3233880" y="509760"/>
            <a:ext cx="3390840" cy="2543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85680" y="3222720"/>
            <a:ext cx="788544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3 Marcador de número de diapositiva"/>
          <p:cNvSpPr/>
          <p:nvPr/>
        </p:nvSpPr>
        <p:spPr>
          <a:xfrm>
            <a:off x="5583240" y="6445080"/>
            <a:ext cx="427212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2482D805-608E-4C87-A0E3-8B02D2425C7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3233880" y="509760"/>
            <a:ext cx="3390840" cy="254304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85680" y="3222720"/>
            <a:ext cx="788544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3 Marcador de número de diapositiva"/>
          <p:cNvSpPr/>
          <p:nvPr/>
        </p:nvSpPr>
        <p:spPr>
          <a:xfrm>
            <a:off x="5583240" y="6445080"/>
            <a:ext cx="427212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1B9883BA-CE9A-4785-ADCA-988F3011CD2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3233880" y="509760"/>
            <a:ext cx="3390840" cy="2543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85680" y="3222720"/>
            <a:ext cx="788544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3 Marcador de número de diapositiva"/>
          <p:cNvSpPr/>
          <p:nvPr/>
        </p:nvSpPr>
        <p:spPr>
          <a:xfrm>
            <a:off x="5583240" y="6445080"/>
            <a:ext cx="427212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5D225EC7-EEB7-4091-A09B-952B96D3588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3233880" y="509760"/>
            <a:ext cx="3390840" cy="25430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85680" y="3222720"/>
            <a:ext cx="788544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3 Marcador de número de diapositiva"/>
          <p:cNvSpPr/>
          <p:nvPr/>
        </p:nvSpPr>
        <p:spPr>
          <a:xfrm>
            <a:off x="5583240" y="6445080"/>
            <a:ext cx="427212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E25EC0E7-D5C8-4645-B21A-094A775DF05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3233880" y="509760"/>
            <a:ext cx="3390840" cy="254304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85680" y="3222720"/>
            <a:ext cx="788544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3 Marcador de número de diapositiva"/>
          <p:cNvSpPr/>
          <p:nvPr/>
        </p:nvSpPr>
        <p:spPr>
          <a:xfrm>
            <a:off x="5583240" y="6445080"/>
            <a:ext cx="427212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15E716FA-D904-4BEC-A282-5D44AF73F5D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3233880" y="509760"/>
            <a:ext cx="3390840" cy="254304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85680" y="3222720"/>
            <a:ext cx="788544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3 Marcador de número de diapositiva"/>
          <p:cNvSpPr/>
          <p:nvPr/>
        </p:nvSpPr>
        <p:spPr>
          <a:xfrm>
            <a:off x="5583240" y="6445080"/>
            <a:ext cx="427212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38859420-9527-4874-8D94-E27A9FA2600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3233880" y="509760"/>
            <a:ext cx="3390840" cy="254304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85680" y="3222720"/>
            <a:ext cx="788544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3 Marcador de número de diapositiva"/>
          <p:cNvSpPr/>
          <p:nvPr/>
        </p:nvSpPr>
        <p:spPr>
          <a:xfrm>
            <a:off x="5583240" y="6445080"/>
            <a:ext cx="427212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9F7BB-4DD4-47F6-8E82-8D5CA52DCF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3233880" y="509760"/>
            <a:ext cx="3390840" cy="254304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85680" y="3222720"/>
            <a:ext cx="788544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3 Marcador de número de diapositiva"/>
          <p:cNvSpPr/>
          <p:nvPr/>
        </p:nvSpPr>
        <p:spPr>
          <a:xfrm>
            <a:off x="5583240" y="6445080"/>
            <a:ext cx="427212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408543EB-7CF6-44B0-BE61-0297E7538A0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3233880" y="509760"/>
            <a:ext cx="3390840" cy="254304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85680" y="3222720"/>
            <a:ext cx="788544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3 Marcador de número de diapositiva"/>
          <p:cNvSpPr/>
          <p:nvPr/>
        </p:nvSpPr>
        <p:spPr>
          <a:xfrm>
            <a:off x="5583240" y="6445080"/>
            <a:ext cx="427212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0BE555EA-BA50-4BBB-B1C7-CEE6CC8170B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3233880" y="509760"/>
            <a:ext cx="3390840" cy="254304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85680" y="3222720"/>
            <a:ext cx="788544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3 Marcador de número de diapositiva"/>
          <p:cNvSpPr/>
          <p:nvPr/>
        </p:nvSpPr>
        <p:spPr>
          <a:xfrm>
            <a:off x="5583240" y="6445080"/>
            <a:ext cx="427212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35BEF-F900-4EEA-9E11-87606EF3E5CD}" type="slidenum">
              <a:rPr b="0" lang="es-P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3233880" y="509760"/>
            <a:ext cx="3390840" cy="254304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85680" y="3222720"/>
            <a:ext cx="788544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3 Marcador de número de diapositiva"/>
          <p:cNvSpPr/>
          <p:nvPr/>
        </p:nvSpPr>
        <p:spPr>
          <a:xfrm>
            <a:off x="5583240" y="6445080"/>
            <a:ext cx="427212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B3568-6122-471E-951F-22845C593B7F}" type="slidenum">
              <a:rPr b="0" lang="es-P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3233880" y="509760"/>
            <a:ext cx="3390840" cy="254304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85680" y="3222720"/>
            <a:ext cx="788544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3 Marcador de número de diapositiva"/>
          <p:cNvSpPr/>
          <p:nvPr/>
        </p:nvSpPr>
        <p:spPr>
          <a:xfrm>
            <a:off x="5583240" y="6445080"/>
            <a:ext cx="427212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BCEF8-9412-4FC0-BE79-57B5B09A3873}" type="slidenum">
              <a:rPr b="0" lang="es-P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3233880" y="509760"/>
            <a:ext cx="3390840" cy="254304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85680" y="3222720"/>
            <a:ext cx="788544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3 Marcador de número de diapositiva"/>
          <p:cNvSpPr/>
          <p:nvPr/>
        </p:nvSpPr>
        <p:spPr>
          <a:xfrm>
            <a:off x="5583240" y="6445080"/>
            <a:ext cx="427212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B0176-2FE3-4324-9303-25475C571D05}" type="slidenum">
              <a:rPr b="0" lang="es-P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3233880" y="509760"/>
            <a:ext cx="3390840" cy="254304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85680" y="3222720"/>
            <a:ext cx="788544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3 Marcador de número de diapositiva"/>
          <p:cNvSpPr/>
          <p:nvPr/>
        </p:nvSpPr>
        <p:spPr>
          <a:xfrm>
            <a:off x="5583240" y="6445080"/>
            <a:ext cx="427212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77C5B-8184-4394-8F65-6B0DDA4462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3233880" y="509760"/>
            <a:ext cx="3390840" cy="254304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85680" y="3222720"/>
            <a:ext cx="788544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3 Marcador de número de diapositiva"/>
          <p:cNvSpPr/>
          <p:nvPr/>
        </p:nvSpPr>
        <p:spPr>
          <a:xfrm>
            <a:off x="5583240" y="6445080"/>
            <a:ext cx="427212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ABAD7-3B0D-40C7-B51E-0551C48876E2}" type="slidenum">
              <a:rPr b="0" lang="es-P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3233880" y="509760"/>
            <a:ext cx="3390840" cy="254304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85680" y="3222720"/>
            <a:ext cx="788544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3 Marcador de número de diapositiva"/>
          <p:cNvSpPr/>
          <p:nvPr/>
        </p:nvSpPr>
        <p:spPr>
          <a:xfrm>
            <a:off x="5583240" y="6445080"/>
            <a:ext cx="427212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1E7FB-4969-4373-8180-BE0BE9B35D07}" type="slidenum">
              <a:rPr b="0" lang="es-P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3233880" y="509760"/>
            <a:ext cx="3390840" cy="254304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85680" y="3222720"/>
            <a:ext cx="788544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3 Marcador de número de diapositiva"/>
          <p:cNvSpPr/>
          <p:nvPr/>
        </p:nvSpPr>
        <p:spPr>
          <a:xfrm>
            <a:off x="5583240" y="6445080"/>
            <a:ext cx="427212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8F896BE2-BE61-4CCD-A2C5-84C2A6C39E3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3233880" y="509760"/>
            <a:ext cx="3390840" cy="254304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85680" y="3222720"/>
            <a:ext cx="788544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3 Marcador de número de diapositiva"/>
          <p:cNvSpPr/>
          <p:nvPr/>
        </p:nvSpPr>
        <p:spPr>
          <a:xfrm>
            <a:off x="5583240" y="6445080"/>
            <a:ext cx="427212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6721C-50B4-4452-A7BE-0AB9E969A6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3233880" y="509760"/>
            <a:ext cx="3390840" cy="254304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85680" y="3222720"/>
            <a:ext cx="788544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3 Marcador de número de diapositiva"/>
          <p:cNvSpPr/>
          <p:nvPr/>
        </p:nvSpPr>
        <p:spPr>
          <a:xfrm>
            <a:off x="5583240" y="6445080"/>
            <a:ext cx="427212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292F8-E8E9-476A-A4F1-F94BCEF3242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3233880" y="509760"/>
            <a:ext cx="3390840" cy="25430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85680" y="3222720"/>
            <a:ext cx="788544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3 Marcador de número de diapositiva"/>
          <p:cNvSpPr/>
          <p:nvPr/>
        </p:nvSpPr>
        <p:spPr>
          <a:xfrm>
            <a:off x="5583240" y="6445080"/>
            <a:ext cx="427212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275C0-DB9D-495E-9408-E9FA8EEBF87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3233880" y="509760"/>
            <a:ext cx="3390840" cy="254304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85680" y="3222720"/>
            <a:ext cx="788544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3 Marcador de número de diapositiva"/>
          <p:cNvSpPr/>
          <p:nvPr/>
        </p:nvSpPr>
        <p:spPr>
          <a:xfrm>
            <a:off x="5583240" y="6445080"/>
            <a:ext cx="427212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0B6D7-2E6A-4C80-8472-BCBBA3B8F02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3233880" y="509760"/>
            <a:ext cx="3390840" cy="254304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85680" y="3222720"/>
            <a:ext cx="788544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3 Marcador de número de diapositiva"/>
          <p:cNvSpPr/>
          <p:nvPr/>
        </p:nvSpPr>
        <p:spPr>
          <a:xfrm>
            <a:off x="5583240" y="6445080"/>
            <a:ext cx="427212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2020C-490D-42AE-B702-D2F6706DC44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BBC0-6DD0-409E-AF62-D6F132934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0FF2-4C78-41CF-8045-1F2C592F4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CA5F-0D4D-4327-8E1A-FD6C8C81F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451E-5293-44F4-A0B8-91AD0B750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9135F-83BE-46E4-B879-F2B1810F7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D55A4-E706-40E4-938E-EAFDC33BE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0E427-CD35-44EA-879E-266B805CF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3A31F-2BC1-47D8-8F9B-50AD830AC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74B06-ED0C-4D4E-8DA3-72DCCED56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13883-22F4-42F5-B719-1EA4AE06A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9E4B6-2A8B-46EF-B455-4A038FA5E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D66D-EB0B-4BDE-83DC-2390C1A76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7524B-9502-410E-8509-BDEBF4C06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08619-46B4-421E-9624-F409C6C5B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907E6-AA77-4BA9-B2E9-94EFA34AA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73343-FD63-4B1D-BFAD-21EA9034F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4E503-ADC2-42A2-B6FB-386ECE260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F6A5E-A707-4C43-B4AA-904AEF941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FE41F-CDDA-41AF-8ED1-7F45C0630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FD974-678E-4B47-8A50-18F79BE1F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3A529-A351-41BC-8A49-09E50ED63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8D8FA-DBCA-408B-9010-22C5AC0F6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DA71-78F3-4E14-B862-8379F3730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5CEE3-740D-4178-A9E3-3D1799928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2E749-9D4D-46DC-AC52-58AD8FC75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C4686-0A36-4FFF-9D02-1D6AC2AF0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27308-DF10-4CBA-B7C5-8986ED031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09E4C-C193-4934-887E-D709650A0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956AA-A2B6-4134-9A73-A09218C50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F3194-3ED7-454C-A7AD-2164B9B45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FFAA9-8A5D-4A0F-835E-395E1FFEF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19948-F210-47D6-BAC0-4AFC99EE6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148E2-EDE4-423D-B37D-FC954F6BC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FA88-FB0A-48E0-8E26-7178D0B75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8197E-DCCB-4C0A-8462-DF9679A06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35F28-8593-42D8-A278-A6C9DF26B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3BCAF-FC68-42AC-8F59-98D87EE46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DD8F1-1C88-456F-8295-2F8854467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3B0BB-91A7-4879-A0F6-04BE1B748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F85D2-5DDB-43FA-B306-B8F67758A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DC0188-60AB-492E-B2F9-28712F6CB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9AB8A-93EF-46A5-A564-411B130F0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99FD6-4D8D-4D50-854C-583E887EF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ADCF-C3E7-496B-98B6-DD7ACF78F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7DC2-6E07-4BDA-BDA7-C5ACE6420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1BD6-1C37-4CFE-9E4C-30A943256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23CA-E384-472C-B836-D850A18F6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FF6E-CA0F-46E2-92CA-0CAED2D45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C2E57-8AF9-411E-B196-2BE89DFB2C21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49394-974E-4DB1-8F67-B8E2CD75AC8E}" type="slidenum">
              <a:rPr b="0" lang="es-PE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40156-7279-4637-9D8C-B2B7918F31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6C60B-DE54-44E5-BD79-932309C1BC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6 Imagen" descr="LOGO CGR ENC.jpg"/>
          <p:cNvPicPr/>
          <p:nvPr/>
        </p:nvPicPr>
        <p:blipFill>
          <a:blip r:embed="rId3"/>
          <a:stretch/>
        </p:blipFill>
        <p:spPr>
          <a:xfrm>
            <a:off x="755640" y="476280"/>
            <a:ext cx="3240000" cy="137952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1042920" y="27082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920000"/>
                </a:solidFill>
                <a:latin typeface="Calibri"/>
              </a:rPr>
              <a:t>NORMAS DE CONTROL APLICADAS A LA LIQUIDACIÓN DE OBR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1366920" y="4941720"/>
            <a:ext cx="7777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ING. RINA GAMBOA CORTE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3059280" y="5445000"/>
            <a:ext cx="36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iciembre, 20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1 CuadroTexto"/>
          <p:cNvSpPr/>
          <p:nvPr/>
        </p:nvSpPr>
        <p:spPr>
          <a:xfrm>
            <a:off x="1000080" y="2428920"/>
            <a:ext cx="671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b48500"/>
                </a:solidFill>
                <a:latin typeface="Arial Black"/>
              </a:rPr>
              <a:t>MARCO NORMATIV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2"/>
          <p:cNvSpPr/>
          <p:nvPr/>
        </p:nvSpPr>
        <p:spPr>
          <a:xfrm>
            <a:off x="522360" y="1916280"/>
            <a:ext cx="829764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just"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Ley Orgánica del Sistema Nacional de Control y de la Contraloría General de la República - Ley N° 27785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20000"/>
                </a:solidFill>
                <a:latin typeface="Calibri"/>
              </a:rPr>
              <a:t>Artículo 3.- Ámbito de aplic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920000"/>
                </a:solidFill>
                <a:latin typeface="Calibri"/>
              </a:rPr>
              <a:t>Artículo 6° Concepto (del Control Gubernamenta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920000"/>
                </a:solidFill>
                <a:latin typeface="Calibri"/>
              </a:rPr>
              <a:t>Artículo 7° Control Inter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920000"/>
                </a:solidFill>
                <a:latin typeface="Calibri"/>
              </a:rPr>
              <a:t>Artículo 8° Control Exter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Text Box 2"/>
          <p:cNvSpPr/>
          <p:nvPr/>
        </p:nvSpPr>
        <p:spPr>
          <a:xfrm>
            <a:off x="468360" y="69372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920000"/>
                </a:solidFill>
                <a:latin typeface="Calibri"/>
              </a:rPr>
              <a:t>MARCO NORMATIV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2"/>
          <p:cNvSpPr/>
          <p:nvPr/>
        </p:nvSpPr>
        <p:spPr>
          <a:xfrm>
            <a:off x="360360" y="1627200"/>
            <a:ext cx="853272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Calibri"/>
              </a:rPr>
              <a:t>Ley Marco de la Administración Financiera del Sector Público – Ley N° 2811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Calibri"/>
              </a:rPr>
              <a:t>Principios Generales. NOVENO:   </a:t>
            </a:r>
            <a:r>
              <a:rPr b="1" i="1" lang="es-PE" sz="2400" spc="-1" strike="noStrike">
                <a:solidFill>
                  <a:srgbClr val="920000"/>
                </a:solidFill>
                <a:latin typeface="Calibri"/>
              </a:rPr>
              <a:t>La contabilidad pública consolida la información presupuestaria y patrimonial de las entidades y organismos del Sector Público para mostrar el resultado integral de la gestión del Estado a través de la Cuenta General de la Repúblic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Ley General del Sistema Nacional de Presupuesto – Ley N° 2841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20000"/>
                </a:solidFill>
                <a:latin typeface="Calibri"/>
              </a:rPr>
              <a:t>Artículo 13° Estructura de los gastos públic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20000"/>
                </a:solidFill>
                <a:latin typeface="Calibri"/>
              </a:rPr>
              <a:t>Artículo 58°  Unidades ejecutor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920000"/>
                </a:solidFill>
                <a:latin typeface="Calibri"/>
              </a:rPr>
              <a:t>Artículo 59° Tipos de ejecución presupuestal de las actividades, proyectos y component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2"/>
          <p:cNvSpPr/>
          <p:nvPr/>
        </p:nvSpPr>
        <p:spPr>
          <a:xfrm>
            <a:off x="576360" y="69228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920000"/>
                </a:solidFill>
                <a:latin typeface="Calibri"/>
              </a:rPr>
              <a:t>MARCO NORMATIV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468360" y="1555920"/>
            <a:ext cx="846144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Ley General del Sistema Nacional de Tesorería – Ley N° 28693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920000"/>
                </a:solidFill>
                <a:latin typeface="Calibri"/>
                <a:ea typeface="Times New Roman"/>
              </a:rPr>
              <a:t>Artículo 7°  De la Unidad Ejecutora y Dependenc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920000"/>
                </a:solidFill>
                <a:latin typeface="Calibri"/>
                <a:ea typeface="Times New Roman"/>
              </a:rPr>
              <a:t>                           </a:t>
            </a:r>
            <a:r>
              <a:rPr b="1" lang="es-MX" sz="2400" spc="-1" strike="noStrike">
                <a:solidFill>
                  <a:srgbClr val="920000"/>
                </a:solidFill>
                <a:latin typeface="Calibri"/>
                <a:ea typeface="Times New Roman"/>
              </a:rPr>
              <a:t>Equivalente en las Entida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920000"/>
                </a:solidFill>
                <a:latin typeface="Calibri"/>
                <a:ea typeface="Times New Roman"/>
              </a:rPr>
              <a:t>Artículo 8°  Atribuciones de la Unidad Ejecutora 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920000"/>
                </a:solidFill>
                <a:latin typeface="Calibri"/>
                <a:ea typeface="Times New Roman"/>
              </a:rPr>
              <a:t>                           </a:t>
            </a:r>
            <a:r>
              <a:rPr b="1" lang="es-MX" sz="2400" spc="-1" strike="noStrike">
                <a:solidFill>
                  <a:srgbClr val="920000"/>
                </a:solidFill>
                <a:latin typeface="Calibri"/>
                <a:ea typeface="Times New Roman"/>
              </a:rPr>
              <a:t>Dependencia  equivalente en las Entida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920000"/>
                </a:solidFill>
                <a:latin typeface="Calibri"/>
                <a:ea typeface="Times New Roman"/>
              </a:rPr>
              <a:t>Artículo 9°  Responsables de la Administración de Fond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920000"/>
                </a:solidFill>
                <a:latin typeface="Calibri"/>
                <a:ea typeface="Times New Roman"/>
              </a:rPr>
              <a:t>                           </a:t>
            </a:r>
            <a:r>
              <a:rPr b="1" lang="es-MX" sz="2400" spc="-1" strike="noStrike">
                <a:solidFill>
                  <a:srgbClr val="920000"/>
                </a:solidFill>
                <a:latin typeface="Calibri"/>
                <a:ea typeface="Times New Roman"/>
              </a:rPr>
              <a:t>Públic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Ley General del Sistema Nacional de Contabilidad – Ley N° 28708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920000"/>
                </a:solidFill>
                <a:latin typeface="Calibri"/>
                <a:ea typeface="Times New Roman"/>
              </a:rPr>
              <a:t>Artículo 25° Objetiv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920000"/>
                </a:solidFill>
                <a:latin typeface="Calibri"/>
                <a:ea typeface="Times New Roman"/>
              </a:rPr>
              <a:t>Artículo 37° Faltas Administrativ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920000"/>
                </a:solidFill>
                <a:latin typeface="Calibri"/>
                <a:ea typeface="Times New Roman"/>
              </a:rPr>
              <a:t>Artículo 38° Faltas Gra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Text Box 2"/>
          <p:cNvSpPr/>
          <p:nvPr/>
        </p:nvSpPr>
        <p:spPr>
          <a:xfrm>
            <a:off x="719280" y="62064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920000"/>
                </a:solidFill>
                <a:latin typeface="Calibri"/>
              </a:rPr>
              <a:t>MARCO NORMATIV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2"/>
          <p:cNvSpPr/>
          <p:nvPr/>
        </p:nvSpPr>
        <p:spPr>
          <a:xfrm>
            <a:off x="324000" y="1413000"/>
            <a:ext cx="856908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Ley de presupuesto del sector público para el año fiscal 2010 – Ley N° 29465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20000"/>
                </a:solidFill>
                <a:latin typeface="Calibri"/>
              </a:rPr>
              <a:t>Artículo 14°  Proyectos de inversión pública con financiamiento                           del gobierno naciona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20000"/>
                </a:solidFill>
                <a:latin typeface="Calibri"/>
              </a:rPr>
              <a:t>Artículo 15°  De las transferencias financieras permitidas </a:t>
            </a:r>
            <a:r>
              <a:rPr b="1" lang="es-PE" sz="2400" spc="-1" strike="noStrike">
                <a:solidFill>
                  <a:srgbClr val="920000"/>
                </a:solidFill>
                <a:latin typeface="Calibri"/>
              </a:rPr>
              <a:t>                           durante el año Fiscal 201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920000"/>
                </a:solidFill>
                <a:latin typeface="Calibri"/>
              </a:rPr>
              <a:t>	</a:t>
            </a:r>
            <a:r>
              <a:rPr b="1" lang="es-PE" sz="2400" spc="-1" strike="noStrike">
                <a:solidFill>
                  <a:srgbClr val="920000"/>
                </a:solidFill>
                <a:latin typeface="Calibri"/>
              </a:rPr>
              <a:t>literal 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Glosario de Terminología Básica de la Administración Financiera Gubernamental. R VM N° 013-2006-EF/11.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ad131e"/>
                </a:solidFill>
                <a:latin typeface="Calibri"/>
                <a:ea typeface="Times New Roman"/>
              </a:rPr>
              <a:t>Definición de encarg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Text Box 2"/>
          <p:cNvSpPr/>
          <p:nvPr/>
        </p:nvSpPr>
        <p:spPr>
          <a:xfrm>
            <a:off x="684360" y="59832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920000"/>
                </a:solidFill>
                <a:latin typeface="Calibri"/>
              </a:rPr>
              <a:t>MARCO NORMATIV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2"/>
          <p:cNvSpPr/>
          <p:nvPr/>
        </p:nvSpPr>
        <p:spPr>
          <a:xfrm>
            <a:off x="250920" y="1628640"/>
            <a:ext cx="853272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Directiva de Tesorería N° 001-2007-EF/77.15, aprobada mediante Resolución Directoral N° 002-2007-EF/77.15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920000"/>
                </a:solidFill>
                <a:latin typeface="Calibri"/>
                <a:ea typeface="Times New Roman"/>
              </a:rPr>
              <a:t>Artículo 62°  Del manejo de fondos en la modalidad 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920000"/>
                </a:solidFill>
                <a:latin typeface="Calibri"/>
                <a:ea typeface="Times New Roman"/>
              </a:rPr>
              <a:t>                             “</a:t>
            </a:r>
            <a:r>
              <a:rPr b="1" lang="es-MX" sz="2400" spc="-1" strike="noStrike">
                <a:solidFill>
                  <a:srgbClr val="920000"/>
                </a:solidFill>
                <a:latin typeface="Calibri"/>
                <a:ea typeface="Times New Roman"/>
              </a:rPr>
              <a:t>Encargos”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920000"/>
                </a:solidFill>
                <a:latin typeface="Calibri"/>
                <a:ea typeface="Times New Roman"/>
              </a:rPr>
              <a:t>Artículo 63°  Casos de Encarg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olución Directoral N° 004-2010-EF/77.15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920000"/>
                </a:solidFill>
                <a:latin typeface="Calibri"/>
                <a:ea typeface="Times New Roman"/>
              </a:rPr>
              <a:t>Establecen disposiciones aplicables a UE y Municipalidades que cuenten con convenios de encargo vigentes suscritos con otros pliegos presupuestarios, Entidades de Tratamiento Empresarial y Empresas Públicas durante el Año Fiscal 201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Text Box 2"/>
          <p:cNvSpPr/>
          <p:nvPr/>
        </p:nvSpPr>
        <p:spPr>
          <a:xfrm>
            <a:off x="684360" y="59832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920000"/>
                </a:solidFill>
                <a:latin typeface="Calibri"/>
              </a:rPr>
              <a:t>MARCO NORMATIV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2"/>
          <p:cNvSpPr/>
          <p:nvPr/>
        </p:nvSpPr>
        <p:spPr>
          <a:xfrm>
            <a:off x="395280" y="2133720"/>
            <a:ext cx="8494560" cy="32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Ley de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Contrataciones del Estado, aprobada por Decreto Legislativo  N° 1017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Reglamento de la Ley de Contrataciones del Estado, aprobado mediante Decreto Supremo N° 184-2008-EF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olución de Contralora N° 195-88-CG, Normas que Regulan la Ejecución de Obras por Administración Direct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Text Box 2"/>
          <p:cNvSpPr/>
          <p:nvPr/>
        </p:nvSpPr>
        <p:spPr>
          <a:xfrm>
            <a:off x="407880" y="90792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920000"/>
                </a:solidFill>
                <a:latin typeface="Calibri"/>
              </a:rPr>
              <a:t>MARCO NORMATIV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1 Rectángulo"/>
          <p:cNvSpPr/>
          <p:nvPr/>
        </p:nvSpPr>
        <p:spPr>
          <a:xfrm>
            <a:off x="396720" y="1465200"/>
            <a:ext cx="8352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Calibri"/>
              </a:rPr>
              <a:t>Ley del Sistema Nacional de Inversión Pública - Ley N° 27293 y sus modificatoria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Calibri"/>
              </a:rPr>
              <a:t>Reglamento de la Ley del Sistema Nacional de Inversión Pública - Decreto Supremo N° 102-2007-EF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Calibri"/>
              </a:rPr>
              <a:t>Directiva General del Sistema Nacional de Inversión Pública - Directiva N° 001-2009-EF/68.01, aprobada por R.D. N° 002-2009-EF/68.01 y sus modificatoria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Calibri"/>
              </a:rPr>
              <a:t>Directiva que establece disposiciones para la  elaboración del inventario de proyectos de inversión pública culminados y no culminados - Directiva Nº 004-2010-EF/68.01, aprobada por R.D. N° 005-2010-EF/68.0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2"/>
          <p:cNvSpPr/>
          <p:nvPr/>
        </p:nvSpPr>
        <p:spPr>
          <a:xfrm>
            <a:off x="611280" y="69228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920000"/>
                </a:solidFill>
                <a:latin typeface="Calibri"/>
              </a:rPr>
              <a:t>MARCO NORMATIV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657360" y="1093680"/>
            <a:ext cx="3439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PROYEC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Rectangle 4"/>
          <p:cNvSpPr/>
          <p:nvPr/>
        </p:nvSpPr>
        <p:spPr>
          <a:xfrm>
            <a:off x="154080" y="1682640"/>
            <a:ext cx="4311720" cy="5023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3302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Rectangle 5"/>
          <p:cNvSpPr/>
          <p:nvPr/>
        </p:nvSpPr>
        <p:spPr>
          <a:xfrm>
            <a:off x="270000" y="1701720"/>
            <a:ext cx="4195800" cy="376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 algn="just">
              <a:spcBef>
                <a:spcPts val="125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CONJUNTO DE INTERVENCIONES LIMITADAS EN EL TIEMP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125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REPRESENTA LA CREACION, AMPLIACIÓN, MEJORA, MODERNIZACIÓN Y/O RECUPERACIÓN DE LA CAPACIDAD DE PRODUCCIÓN DE BIENES Y SERVICI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125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LUEGO DE SU CULMINACIÓN SE INTEGRA O DA ORIGEN A UNA ACTIVID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17"/>
          <p:cNvSpPr/>
          <p:nvPr/>
        </p:nvSpPr>
        <p:spPr>
          <a:xfrm>
            <a:off x="5364000" y="1131840"/>
            <a:ext cx="3206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ACTIVID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Rectangle 18"/>
          <p:cNvSpPr/>
          <p:nvPr/>
        </p:nvSpPr>
        <p:spPr>
          <a:xfrm>
            <a:off x="4848120" y="1714680"/>
            <a:ext cx="3936960" cy="376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 algn="just">
              <a:spcBef>
                <a:spcPts val="125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REUNE ACCIONES QUE CONCURREN EN LA OPERATIVIDAD Y MANTENIMIENTO DE LOS SERVICIOS PÚBLICOS O ADMINISTRATIVOS EXISTEN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125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REPRESENTA LA PRODUCCIÓN DE BIENES Y SERVICIOS QUE LA ENTIDAD LLEVA A CAB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125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ES PERMANENTE Y CONTINUA EN EL TIEMP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Rectangle 19"/>
          <p:cNvSpPr/>
          <p:nvPr/>
        </p:nvSpPr>
        <p:spPr>
          <a:xfrm>
            <a:off x="4600440" y="1676520"/>
            <a:ext cx="4432320" cy="50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29 CuadroTexto"/>
          <p:cNvSpPr/>
          <p:nvPr/>
        </p:nvSpPr>
        <p:spPr>
          <a:xfrm>
            <a:off x="395280" y="5732640"/>
            <a:ext cx="8210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s-PE" sz="1600" spc="-1" strike="noStrike">
                <a:solidFill>
                  <a:srgbClr val="000000"/>
                </a:solidFill>
                <a:latin typeface="Calibri"/>
              </a:rPr>
              <a:t>Glosario de Terminología Básica de la Administración Financiera Gubernamental, aprobado mediante Resolución Viceministerial n.° 013-2006-EF/11.01 del 10.Nov.2006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2"/>
          <p:cNvSpPr/>
          <p:nvPr/>
        </p:nvSpPr>
        <p:spPr>
          <a:xfrm>
            <a:off x="611280" y="476280"/>
            <a:ext cx="78120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920000"/>
                </a:solidFill>
                <a:latin typeface="Calibri"/>
              </a:rPr>
              <a:t>CATEGORÍA PRESUPUESTAR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3"/>
          <p:cNvSpPr/>
          <p:nvPr/>
        </p:nvSpPr>
        <p:spPr>
          <a:xfrm>
            <a:off x="468360" y="1341360"/>
            <a:ext cx="835344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Ejecución Presupuestaria Directa: </a:t>
            </a:r>
            <a:r>
              <a:rPr b="1" lang="es-ES" sz="2400" spc="-1" strike="noStrike">
                <a:solidFill>
                  <a:srgbClr val="920000"/>
                </a:solidFill>
                <a:latin typeface="Calibri"/>
              </a:rPr>
              <a:t>Se produce cuando la Entidad con su personal e infraestructura es el ejecutor presupuestal y financiero de las Actividades y Proyectos así como de sus respectivos Component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Ejecución Presupuestaria Indirecta: </a:t>
            </a:r>
            <a:r>
              <a:rPr b="1" lang="es-ES" sz="2400" spc="-1" strike="noStrike">
                <a:solidFill>
                  <a:srgbClr val="920000"/>
                </a:solidFill>
                <a:latin typeface="Calibri"/>
              </a:rPr>
              <a:t>Se produce cuando la ejecución física y/o financiera de las Actividades y Proyectos así como de sus respectivos Componentes, es realizada por una Entidad distinta al pliego; sea por efecto de un contrato o convenio celebrado con una Entidad privada, o con una Entidad pública, sea a título oneroso o gratuit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2"/>
          <p:cNvSpPr/>
          <p:nvPr/>
        </p:nvSpPr>
        <p:spPr>
          <a:xfrm>
            <a:off x="287280" y="549360"/>
            <a:ext cx="87487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920000"/>
                </a:solidFill>
                <a:latin typeface="Calibri"/>
              </a:rPr>
              <a:t>TIPOS DE EJECUCIÓN PRESUPUEST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1 Rectángulo"/>
          <p:cNvSpPr/>
          <p:nvPr/>
        </p:nvSpPr>
        <p:spPr>
          <a:xfrm>
            <a:off x="493560" y="5662440"/>
            <a:ext cx="8302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alibri"/>
              </a:rPr>
              <a:t>Ley General del Sistema Nacional de Presupuesto – Ley N° 2841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00"/>
                </a:solidFill>
                <a:latin typeface="Calibri"/>
              </a:rPr>
              <a:t>Artículo 59° Tipos de ejecución presupuestal de las actividades, proyectos y component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2"/>
          <p:cNvSpPr/>
          <p:nvPr/>
        </p:nvSpPr>
        <p:spPr>
          <a:xfrm>
            <a:off x="611280" y="907920"/>
            <a:ext cx="777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920000"/>
                </a:solidFill>
                <a:latin typeface="Calibri"/>
              </a:rPr>
              <a:t>Objetivo de la exposición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Text Box 2"/>
          <p:cNvSpPr/>
          <p:nvPr/>
        </p:nvSpPr>
        <p:spPr>
          <a:xfrm>
            <a:off x="1022400" y="1657440"/>
            <a:ext cx="709128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Calibri"/>
              </a:rPr>
              <a:t>Proporcionar bases conceptuales, con un enfoque normativo, a fin de contribuir a que los participantes se desenvuelvan adecuadamente en sus funciones, en los aspectos vinculados con la liquidación de obras pública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3"/>
          <p:cNvSpPr/>
          <p:nvPr/>
        </p:nvSpPr>
        <p:spPr>
          <a:xfrm>
            <a:off x="324000" y="1557360"/>
            <a:ext cx="848016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 algn="just">
              <a:buClr>
                <a:srgbClr val="92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920000"/>
                </a:solidFill>
                <a:latin typeface="Calibri"/>
              </a:rPr>
              <a:t>Gasto Corriente: </a:t>
            </a: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destinados al mantenimiento u operación de los servicios que presta el Estado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buClr>
                <a:srgbClr val="92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920000"/>
                </a:solidFill>
                <a:latin typeface="Calibri"/>
              </a:rPr>
              <a:t>Gastos de Capital:</a:t>
            </a:r>
            <a:r>
              <a:rPr b="1" lang="es-ES_tradnl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destinados al aumento de la producción o al incremento inmediato o futuro del Patrimonio del Estad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buClr>
                <a:srgbClr val="92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920000"/>
                </a:solidFill>
                <a:latin typeface="Calibri"/>
              </a:rPr>
              <a:t>Servicio de la Deuda: </a:t>
            </a: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destinados al cumplimiento de las obligaciones originadas por la deuda pública, sea interna o exter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1 Rectángulo"/>
          <p:cNvSpPr/>
          <p:nvPr/>
        </p:nvSpPr>
        <p:spPr>
          <a:xfrm>
            <a:off x="1491840" y="603360"/>
            <a:ext cx="587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920000"/>
                </a:solidFill>
                <a:latin typeface="Calibri"/>
              </a:rPr>
              <a:t>GASTOS DEL SECTOR PÚBLIC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29 CuadroTexto"/>
          <p:cNvSpPr/>
          <p:nvPr/>
        </p:nvSpPr>
        <p:spPr>
          <a:xfrm>
            <a:off x="414360" y="5450040"/>
            <a:ext cx="820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00"/>
                </a:solidFill>
                <a:latin typeface="Calibri"/>
              </a:rPr>
              <a:t>Ley Marco de la Administración Financiera del Sector  Públic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00"/>
                </a:solidFill>
                <a:latin typeface="Calibri"/>
              </a:rPr>
              <a:t>Artículo 16°.- Gastos del Sector Públic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2"/>
          <p:cNvSpPr/>
          <p:nvPr/>
        </p:nvSpPr>
        <p:spPr>
          <a:xfrm>
            <a:off x="414360" y="907920"/>
            <a:ext cx="82090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920000"/>
                </a:solidFill>
                <a:latin typeface="Calibri"/>
              </a:rPr>
              <a:t>CATEGORÍA DEL GAST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29 CuadroTexto"/>
          <p:cNvSpPr/>
          <p:nvPr/>
        </p:nvSpPr>
        <p:spPr>
          <a:xfrm>
            <a:off x="414360" y="5157720"/>
            <a:ext cx="820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s-PE" sz="1600" spc="-1" strike="noStrike">
                <a:solidFill>
                  <a:srgbClr val="000000"/>
                </a:solidFill>
                <a:latin typeface="Calibri"/>
              </a:rPr>
              <a:t>Glosario de Terminología Básica de la Administración Financiera Gubernamental, aprobado mediante Resolución Viceministerial n.° 013-2006-EF/11.01 del 10.Nov.2006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Text Box 1037"/>
          <p:cNvSpPr/>
          <p:nvPr/>
        </p:nvSpPr>
        <p:spPr>
          <a:xfrm>
            <a:off x="414360" y="19890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ELEMENTO DE LA CADENA DEL GASTO QUE COMPRENDE LOS CRÉDITOS PRESUPUESTARIOS AGRUPADOS E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2 Rectángulo"/>
          <p:cNvSpPr/>
          <p:nvPr/>
        </p:nvSpPr>
        <p:spPr>
          <a:xfrm>
            <a:off x="2286000" y="31050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9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20000"/>
                </a:solidFill>
                <a:latin typeface="Calibri"/>
              </a:rPr>
              <a:t>GASTOS CORRIEN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9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20000"/>
                </a:solidFill>
                <a:latin typeface="Calibri"/>
              </a:rPr>
              <a:t>GASTOS DE CAPIT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9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20000"/>
                </a:solidFill>
                <a:latin typeface="Calibri"/>
              </a:rPr>
              <a:t>SERVICIO DE DEU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1030"/>
          <p:cNvSpPr/>
          <p:nvPr/>
        </p:nvSpPr>
        <p:spPr>
          <a:xfrm>
            <a:off x="685800" y="620640"/>
            <a:ext cx="8082000" cy="63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c7c7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600" spc="-1" strike="noStrike">
                <a:solidFill>
                  <a:srgbClr val="920000"/>
                </a:solidFill>
                <a:latin typeface="Calibri"/>
              </a:rPr>
              <a:t>CLASIFICADORES DE GAST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Rectangle 1036"/>
          <p:cNvSpPr/>
          <p:nvPr/>
        </p:nvSpPr>
        <p:spPr>
          <a:xfrm>
            <a:off x="250920" y="2276640"/>
            <a:ext cx="3960720" cy="2664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531720" indent="-531720">
              <a:tabLst>
                <a:tab algn="l" pos="0"/>
                <a:tab algn="l" pos="5317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bc1420"/>
                </a:solidFill>
                <a:latin typeface="Calibri"/>
              </a:rPr>
              <a:t>2.1- Personal y Obligaciones     Soci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1720" indent="-531720">
              <a:tabLst>
                <a:tab algn="l" pos="0"/>
                <a:tab algn="l" pos="5317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531720" indent="-531720">
              <a:tabLst>
                <a:tab algn="l" pos="0"/>
                <a:tab algn="l" pos="5317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bc1420"/>
                </a:solidFill>
                <a:latin typeface="Calibri"/>
              </a:rPr>
              <a:t>2.2- Pensiones y Otras Prestaciones Soci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1720" indent="-531720">
              <a:tabLst>
                <a:tab algn="l" pos="0"/>
                <a:tab algn="l" pos="5317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531720" indent="-531720">
              <a:tabLst>
                <a:tab algn="l" pos="0"/>
                <a:tab algn="l" pos="5317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bc1420"/>
                </a:solidFill>
                <a:latin typeface="Calibri"/>
              </a:rPr>
              <a:t>2.3- Bienes y Servici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1720" indent="-531720">
              <a:tabLst>
                <a:tab algn="l" pos="0"/>
                <a:tab algn="l" pos="5317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531720" indent="-531720">
              <a:tabLst>
                <a:tab algn="l" pos="0"/>
                <a:tab algn="l" pos="5317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bc1420"/>
                </a:solidFill>
                <a:latin typeface="Calibri"/>
              </a:rPr>
              <a:t>2.5- Otros Gast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Text Box 1037"/>
          <p:cNvSpPr/>
          <p:nvPr/>
        </p:nvSpPr>
        <p:spPr>
          <a:xfrm>
            <a:off x="320760" y="127008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AGRUPA LOS GASTOS SEGÚN SU OBJETO, DE ACUERDO CON DETERMINADAS CARACTERÍSTICAS COMU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29 CuadroTexto"/>
          <p:cNvSpPr/>
          <p:nvPr/>
        </p:nvSpPr>
        <p:spPr>
          <a:xfrm>
            <a:off x="371520" y="6157800"/>
            <a:ext cx="820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00"/>
                </a:solidFill>
                <a:latin typeface="Calibri"/>
              </a:rPr>
              <a:t>Página web del Ministerio de Economía y Finanzas – Vice Ministerio de Hacienda – Dirección Nacional de Presupuesto Públic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Rectangle 1036"/>
          <p:cNvSpPr/>
          <p:nvPr/>
        </p:nvSpPr>
        <p:spPr>
          <a:xfrm>
            <a:off x="4427640" y="2276640"/>
            <a:ext cx="4429080" cy="277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533520" indent="-533520"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bc1420"/>
                </a:solidFill>
                <a:latin typeface="Calibri"/>
              </a:rPr>
              <a:t>2.6- Adquisición de Activos No Financieros: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bc1420"/>
                </a:solidFill>
                <a:latin typeface="Calibri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(entre otros, construcción de edificios y estructuras - 2.6.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bc1420"/>
                </a:solidFill>
                <a:latin typeface="Calibri"/>
              </a:rPr>
              <a:t>2.7- Adquisición de Activos no Financie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bc1420"/>
                </a:solidFill>
                <a:latin typeface="Calibri"/>
              </a:rPr>
              <a:t>2.8- Servicios de la Deuda Públ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 Box 3"/>
          <p:cNvSpPr/>
          <p:nvPr/>
        </p:nvSpPr>
        <p:spPr>
          <a:xfrm>
            <a:off x="468360" y="2071800"/>
            <a:ext cx="7772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Calibri"/>
              </a:rPr>
              <a:t>TIPOS DE LIQUIDACIÓ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920000"/>
                </a:solidFill>
                <a:latin typeface="Calibri"/>
              </a:rPr>
              <a:t>Liquidación de Cuent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Calibri"/>
              </a:rPr>
              <a:t>Cuando se trata de una obra que no se concluye, por resolución del contrat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920000"/>
                </a:solidFill>
                <a:latin typeface="Calibri"/>
              </a:rPr>
              <a:t>Liquidación fi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Calibri"/>
              </a:rPr>
              <a:t>Cuando se trata de una obra concluid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Rectangle 1030"/>
          <p:cNvSpPr/>
          <p:nvPr/>
        </p:nvSpPr>
        <p:spPr>
          <a:xfrm>
            <a:off x="685800" y="782640"/>
            <a:ext cx="8082000" cy="63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c7c7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600" spc="-1" strike="noStrike">
                <a:solidFill>
                  <a:srgbClr val="920000"/>
                </a:solidFill>
                <a:latin typeface="Calibri"/>
              </a:rPr>
              <a:t>OBRA POR CONTRAT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539280" y="1267920"/>
            <a:ext cx="8001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Calibri"/>
              </a:rPr>
              <a:t>Definir los metrados fin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 u="sng">
                <a:solidFill>
                  <a:srgbClr val="000000"/>
                </a:solidFill>
                <a:uFillTx/>
                <a:latin typeface="Calibri"/>
              </a:rPr>
              <a:t>A precios unitarios: </a:t>
            </a:r>
            <a:r>
              <a:rPr b="0" lang="es-PE" sz="2400" spc="-1" strike="noStrike">
                <a:solidFill>
                  <a:srgbClr val="000000"/>
                </a:solidFill>
                <a:latin typeface="Calibri"/>
              </a:rPr>
              <a:t>Los metrados realmente ejecutados finales, según los planos de replante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 u="sng">
                <a:solidFill>
                  <a:srgbClr val="000000"/>
                </a:solidFill>
                <a:uFillTx/>
                <a:latin typeface="Calibri"/>
              </a:rPr>
              <a:t>A suma alzada: </a:t>
            </a:r>
            <a:r>
              <a:rPr b="0" lang="es-PE" sz="2400" spc="-1" strike="noStrike">
                <a:solidFill>
                  <a:srgbClr val="000000"/>
                </a:solidFill>
                <a:latin typeface="Calibri"/>
              </a:rPr>
              <a:t>Los metrados contratad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Calibri"/>
              </a:rPr>
              <a:t>Definir precios unitarios, gastos generales y util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 u="sng">
                <a:solidFill>
                  <a:srgbClr val="000000"/>
                </a:solidFill>
                <a:uFillTx/>
                <a:latin typeface="Calibri"/>
              </a:rPr>
              <a:t>A precios unitarios: </a:t>
            </a:r>
            <a:r>
              <a:rPr b="0" lang="es-PE" sz="2400" spc="-1" strike="noStrike">
                <a:solidFill>
                  <a:srgbClr val="000000"/>
                </a:solidFill>
                <a:latin typeface="Calibri"/>
              </a:rPr>
              <a:t>Los consignados en la oferta del contratist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 u="sng">
                <a:solidFill>
                  <a:srgbClr val="000000"/>
                </a:solidFill>
                <a:uFillTx/>
                <a:latin typeface="Calibri"/>
              </a:rPr>
              <a:t>A suma alzada: </a:t>
            </a:r>
            <a:r>
              <a:rPr b="0" lang="es-PE" sz="2400" spc="-1" strike="noStrike">
                <a:solidFill>
                  <a:srgbClr val="000000"/>
                </a:solidFill>
                <a:latin typeface="Calibri"/>
              </a:rPr>
              <a:t>Los consignados en el expediente técnico (es decir los del valor referencial), multiplicados por el factor de relació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title"/>
          </p:nvPr>
        </p:nvSpPr>
        <p:spPr>
          <a:xfrm>
            <a:off x="395280" y="379080"/>
            <a:ext cx="8370720" cy="88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920000"/>
                </a:solidFill>
                <a:latin typeface="Calibri"/>
              </a:rPr>
              <a:t>LIQUIDACIÓN DEL CONTRATO DE OBR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2 Rectángulo"/>
          <p:cNvSpPr/>
          <p:nvPr/>
        </p:nvSpPr>
        <p:spPr>
          <a:xfrm>
            <a:off x="431640" y="5445000"/>
            <a:ext cx="871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20000"/>
                </a:solidFill>
                <a:latin typeface="Calibri"/>
              </a:rPr>
              <a:t>Reglamento de la Ley de Contrataciones del Estado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20000"/>
                </a:solidFill>
                <a:latin typeface="Calibri"/>
              </a:rPr>
              <a:t>Artículo  40°.- Sistemas de contratació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20000"/>
                </a:solidFill>
                <a:latin typeface="Calibri"/>
              </a:rPr>
              <a:t>Artículo  197°.- Valorizaciones y metrad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20000"/>
                </a:solidFill>
                <a:latin typeface="Calibri"/>
              </a:rPr>
              <a:t>Artículo  198°.- Reajus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353880" y="1557360"/>
            <a:ext cx="832176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-388440" algn="just"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Calibri"/>
              </a:rPr>
              <a:t>Con los datos anteriores se recalculan todas las valorizaciones, del contrato principal y de los adicional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title"/>
          </p:nvPr>
        </p:nvSpPr>
        <p:spPr>
          <a:xfrm>
            <a:off x="476280" y="475920"/>
            <a:ext cx="8370720" cy="88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920000"/>
                </a:solidFill>
                <a:latin typeface="Calibri"/>
              </a:rPr>
              <a:t>LIQUIDACIÓN DEL CONTRATO DE OBR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5 Rectángulo"/>
          <p:cNvSpPr/>
          <p:nvPr/>
        </p:nvSpPr>
        <p:spPr>
          <a:xfrm>
            <a:off x="196920" y="5950080"/>
            <a:ext cx="835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20000"/>
                </a:solidFill>
                <a:latin typeface="Calibri"/>
              </a:rPr>
              <a:t>Reglamento de la Ley de Contrataciones del Estado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20000"/>
                </a:solidFill>
                <a:latin typeface="Calibri"/>
              </a:rPr>
              <a:t>Artículo  197°.- Valorizaciones y metrad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533520" y="2637000"/>
            <a:ext cx="830556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2060"/>
                </a:solidFill>
                <a:latin typeface="Calibri"/>
              </a:rPr>
              <a:t>OBRAS A PRECIOS UNITARI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162080" indent="-3618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  <a:ea typeface="Arial"/>
              </a:rPr>
              <a:t>Metrado realmente ejecuta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162080" indent="-3618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  <a:ea typeface="Arial"/>
              </a:rPr>
              <a:t>Precios Unitarios ofertad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162080" indent="-3618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  <a:ea typeface="Arial"/>
              </a:rPr>
              <a:t>Gastos generales ofertad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162080" indent="-3618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  <a:ea typeface="Arial"/>
              </a:rPr>
              <a:t>Utilidad oferta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162080" indent="-3618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 marL="1162080" indent="-3618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2060"/>
                </a:solidFill>
                <a:latin typeface="Calibri"/>
                <a:ea typeface="Arial"/>
              </a:rPr>
              <a:t>Valor de la valorización de liquid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162080" indent="-3618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Calibri"/>
                <a:ea typeface="Arial"/>
              </a:rPr>
              <a:t>(metrado realmente ejecutado x precios unitarios ofertados) + gastos generales ofertados + Utilidad ofertad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162080" indent="-3618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62080" indent="-3618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569880" y="2198520"/>
            <a:ext cx="830592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2060"/>
                </a:solidFill>
                <a:latin typeface="Calibri"/>
              </a:rPr>
              <a:t>OBRAS A SUMA ALZA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257480" indent="-285840"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Metrados contratado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257480" indent="-285840"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Precios Unitarios del V.R.        x  FACTOR RELAC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257480" indent="-285840"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Gastos Generales del V.R.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257480" indent="-285840"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Utilidad del V.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2574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2574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2060"/>
                </a:solidFill>
                <a:latin typeface="Calibri"/>
              </a:rPr>
              <a:t>Valor de la valorización de liquid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2574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Calibri"/>
              </a:rPr>
              <a:t>{(metrados contratados  x  precio unitario del valor referencial)  +  gastos generales del valor referencial   +  utilidad del valor referencial }  x  Factor de relació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257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AutoShape 5"/>
          <p:cNvSpPr/>
          <p:nvPr/>
        </p:nvSpPr>
        <p:spPr>
          <a:xfrm>
            <a:off x="5229360" y="2435400"/>
            <a:ext cx="133200" cy="1368360"/>
          </a:xfrm>
          <a:custGeom>
            <a:avLst/>
            <a:gdLst>
              <a:gd name="textAreaLeft" fmla="*/ 0 w 133200"/>
              <a:gd name="textAreaRight" fmla="*/ 47880 w 133200"/>
              <a:gd name="textAreaTop" fmla="*/ 13680 h 1368360"/>
              <a:gd name="textAreaBottom" fmla="*/ 135468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51"/>
                  <a:pt x="10800" y="702"/>
                </a:cubicBezTo>
                <a:lnTo>
                  <a:pt x="10800" y="10098"/>
                </a:lnTo>
                <a:cubicBezTo>
                  <a:pt x="10800" y="10449"/>
                  <a:pt x="16200" y="10800"/>
                  <a:pt x="21600" y="10800"/>
                </a:cubicBezTo>
                <a:cubicBezTo>
                  <a:pt x="16200" y="10800"/>
                  <a:pt x="10800" y="11151"/>
                  <a:pt x="10800" y="11502"/>
                </a:cubicBezTo>
                <a:lnTo>
                  <a:pt x="10800" y="20898"/>
                </a:lnTo>
                <a:cubicBezTo>
                  <a:pt x="10800" y="21249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324000" y="1268280"/>
            <a:ext cx="800100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Calibri"/>
              </a:rPr>
              <a:t>Con los datos anteriores se recalculan todas las valorizacion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title"/>
          </p:nvPr>
        </p:nvSpPr>
        <p:spPr>
          <a:xfrm>
            <a:off x="324000" y="404640"/>
            <a:ext cx="8370720" cy="88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920000"/>
                </a:solidFill>
                <a:latin typeface="Calibri"/>
              </a:rPr>
              <a:t>LIQUIDACIÓN DEL CONTRATO DE OBR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7 Rectángulo"/>
          <p:cNvSpPr/>
          <p:nvPr/>
        </p:nvSpPr>
        <p:spPr>
          <a:xfrm>
            <a:off x="20520" y="5819760"/>
            <a:ext cx="73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20000"/>
                </a:solidFill>
                <a:latin typeface="Calibri"/>
              </a:rPr>
              <a:t>Reglamento de la Ley de Contrataciones del Estado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20000"/>
                </a:solidFill>
                <a:latin typeface="Calibri"/>
              </a:rPr>
              <a:t>Artículo  197°.- Valorizaciones y metrad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20000"/>
                </a:solidFill>
                <a:latin typeface="Calibri"/>
              </a:rPr>
              <a:t>Artículo  199°.- Discrepancias respecto de valorizaciones o metrad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539280" y="1628640"/>
            <a:ext cx="80010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Calibri"/>
              </a:rPr>
              <a:t>Se formula el último calendario de avance de obra, con la última ampliación de plazo aprobada, con los precios unitarios, gastos generales y utilidad según lo señalado en el punto 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Calibri"/>
              </a:rPr>
              <a:t>En el caso de obras a suma alzada, si no se ha producido reducción de obra, el monto total de obra del calendario de avance de obra debe corresponder al monto contratad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title"/>
          </p:nvPr>
        </p:nvSpPr>
        <p:spPr>
          <a:xfrm>
            <a:off x="324000" y="691920"/>
            <a:ext cx="837072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920000"/>
                </a:solidFill>
                <a:latin typeface="Calibri"/>
              </a:rPr>
              <a:t>LIQUIDACIÓN DEL CONTRATO DE OBR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5 Rectángulo"/>
          <p:cNvSpPr/>
          <p:nvPr/>
        </p:nvSpPr>
        <p:spPr>
          <a:xfrm>
            <a:off x="250920" y="5619600"/>
            <a:ext cx="8350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20000"/>
                </a:solidFill>
                <a:latin typeface="Calibri"/>
              </a:rPr>
              <a:t>Reglamento de la Ley de Contrataciones del Estado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20000"/>
                </a:solidFill>
                <a:latin typeface="Calibri"/>
              </a:rPr>
              <a:t>Artículo  201°.- Procedimiento de ampliación de plaz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20000"/>
                </a:solidFill>
                <a:latin typeface="Calibri"/>
              </a:rPr>
              <a:t>Artículo  207°.- Obras adicionales menores al 15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20000"/>
                </a:solidFill>
                <a:latin typeface="Calibri"/>
              </a:rPr>
              <a:t>Artículo  208°.- Prestaciones adicionales de obra mayores al 15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610920" y="1341360"/>
            <a:ext cx="828180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Calibri"/>
              </a:rPr>
              <a:t>En el caso de obras a precios unitarios, el monto total de obra a considerar en el calendario de avance de obra, debe reestructurarse en función al monto total realmente ejecutad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Calibri"/>
              </a:rPr>
              <a:t>Los índices unificados de precios del INEI, deben ser verificados y aplicar los definitivos, en reemplazo de los que se hubiesen utilizado durante la ejecución de la obr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Calibri"/>
              </a:rPr>
              <a:t>Se recalculan los coeficientes de reajuste K, en reemplazo de los que se hubiesen utilizado durante la ejecución de la obr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title"/>
          </p:nvPr>
        </p:nvSpPr>
        <p:spPr>
          <a:xfrm>
            <a:off x="395280" y="475920"/>
            <a:ext cx="837072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920000"/>
                </a:solidFill>
                <a:latin typeface="Calibri"/>
              </a:rPr>
              <a:t>LIQUIDACIÓN DEL CONTRATO DE OBR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3 Rectángulo"/>
          <p:cNvSpPr/>
          <p:nvPr/>
        </p:nvSpPr>
        <p:spPr>
          <a:xfrm>
            <a:off x="250920" y="5445000"/>
            <a:ext cx="835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20000"/>
                </a:solidFill>
                <a:latin typeface="Calibri"/>
              </a:rPr>
              <a:t>Reglamento de la Ley de Contrataciones del Estado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20000"/>
                </a:solidFill>
                <a:latin typeface="Calibri"/>
              </a:rPr>
              <a:t>Artículo  198°.- Reajus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20000"/>
                </a:solidFill>
                <a:latin typeface="Calibri"/>
              </a:rPr>
              <a:t>Artículo  201°.- Procedimiento de ampliación de plaz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20000"/>
                </a:solidFill>
                <a:latin typeface="Calibri"/>
              </a:rPr>
              <a:t>Artículo  211°.- Liquidación del contrato de ob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323640" y="1319040"/>
            <a:ext cx="8569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buClr>
                <a:srgbClr val="000000"/>
              </a:buClr>
              <a:buFont typeface="Calibri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Calibri"/>
              </a:rPr>
              <a:t>Se efectúa la comparación de reintegros, valorizaciones ejecutadas de liquidación versus valorizaciones programadas de liquidación, en función a los conceptos de obra atrasada, obra adelantada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 algn="just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Calibri"/>
              </a:rPr>
              <a:t>Se verifica en el Estado Económico Financiero de la obra, proporcionado por la administración de la entidad, que los adelantos, directo y para materiales, se hayan amortizado en su totalida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 algn="just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Calibri"/>
              </a:rPr>
              <a:t>Si no se hubieran amortizado, en la liquidación se deben considerar los saldos pendientes a devolver, sea a favor del contratista, sea a favor de la entidad. (con intereses legale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title"/>
          </p:nvPr>
        </p:nvSpPr>
        <p:spPr>
          <a:xfrm>
            <a:off x="539280" y="404640"/>
            <a:ext cx="8371080" cy="88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920000"/>
                </a:solidFill>
                <a:latin typeface="Calibri"/>
              </a:rPr>
              <a:t>LIQUIDACIÓN DEL CONTRATO DE OBR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3 Rectángulo"/>
          <p:cNvSpPr/>
          <p:nvPr/>
        </p:nvSpPr>
        <p:spPr>
          <a:xfrm>
            <a:off x="324000" y="5946840"/>
            <a:ext cx="834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20000"/>
                </a:solidFill>
                <a:latin typeface="Calibri"/>
              </a:rPr>
              <a:t>Reglamento de la Ley de Contrataciones del Estado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20000"/>
                </a:solidFill>
                <a:latin typeface="Calibri"/>
              </a:rPr>
              <a:t>Artículo  211°.- Liquidación del contrato de ob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"/>
          <p:cNvSpPr/>
          <p:nvPr/>
        </p:nvSpPr>
        <p:spPr>
          <a:xfrm>
            <a:off x="468360" y="2952720"/>
            <a:ext cx="799128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La RAE acepta varios significados, los que se ajustan a nuestros fines s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SzPct val="7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Hacer el ajuste formal de una cuent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SzPct val="7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Saldar, pagar enteramente una cuent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SzPct val="7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Poner término a algo o a un estado de cosa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2"/>
          <p:cNvSpPr/>
          <p:nvPr/>
        </p:nvSpPr>
        <p:spPr>
          <a:xfrm>
            <a:off x="395280" y="230508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920000"/>
                </a:solidFill>
                <a:latin typeface="Calibri"/>
              </a:rPr>
              <a:t>LIQUID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5 Rectángulo"/>
          <p:cNvSpPr/>
          <p:nvPr/>
        </p:nvSpPr>
        <p:spPr>
          <a:xfrm>
            <a:off x="464040" y="1657440"/>
            <a:ext cx="65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Real Academia de la Lengua Español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Text Box 2"/>
          <p:cNvSpPr/>
          <p:nvPr/>
        </p:nvSpPr>
        <p:spPr>
          <a:xfrm>
            <a:off x="684360" y="793800"/>
            <a:ext cx="70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920000"/>
                </a:solidFill>
                <a:latin typeface="Calibri"/>
              </a:rPr>
              <a:t>LIQUIDACIÓ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Text Box 2"/>
          <p:cNvSpPr/>
          <p:nvPr/>
        </p:nvSpPr>
        <p:spPr>
          <a:xfrm>
            <a:off x="468360" y="518652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920000"/>
                </a:solidFill>
                <a:latin typeface="Calibri"/>
              </a:rPr>
              <a:t>LIQUIDA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Rectangle 2"/>
          <p:cNvSpPr/>
          <p:nvPr/>
        </p:nvSpPr>
        <p:spPr>
          <a:xfrm>
            <a:off x="468360" y="5689440"/>
            <a:ext cx="7991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23960" indent="-362160" algn="just">
              <a:buClr>
                <a:srgbClr val="000000"/>
              </a:buClr>
              <a:buSzPct val="7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cción y efecto de liquida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323640" y="1125000"/>
            <a:ext cx="85690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buClr>
                <a:srgbClr val="000000"/>
              </a:buClr>
              <a:buFont typeface="Calibri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Calibri"/>
              </a:rPr>
              <a:t>Recalcular las deducciones de reintegro por los adelantos otorgad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Calibri"/>
              </a:rPr>
              <a:t>Adelanto directo, con los verdaderos K y 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Calibri"/>
              </a:rPr>
              <a:t>Adelanto para materiales, con los verdaderos Imr, Ima e Im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buClr>
                <a:srgbClr val="000000"/>
              </a:buClr>
              <a:buFont typeface="Calibri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Calibri"/>
              </a:rPr>
              <a:t>Recalcular los montos por mayores gastos generales empleando el Índice Unificado definitivo a la fecha en que ocurrió la causal de ampliación de plaz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Calibri"/>
              </a:rPr>
              <a:t>Revisar el cálculo de los intereses por mora: los factores acumulados de la tasa de intereses legal efectivo, el monto de la valorización adeudada, si la demora en el pago de la valorización es imputable a la Entidad o no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title"/>
          </p:nvPr>
        </p:nvSpPr>
        <p:spPr>
          <a:xfrm>
            <a:off x="773280" y="333000"/>
            <a:ext cx="8370720" cy="88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920000"/>
                </a:solidFill>
                <a:latin typeface="Calibri"/>
              </a:rPr>
              <a:t>LIQUIDACIÓN DEL CONTRATO DE OBR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3 Rectángulo"/>
          <p:cNvSpPr/>
          <p:nvPr/>
        </p:nvSpPr>
        <p:spPr>
          <a:xfrm>
            <a:off x="0" y="5657760"/>
            <a:ext cx="834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20000"/>
                </a:solidFill>
                <a:latin typeface="Calibri"/>
              </a:rPr>
              <a:t>Reglamento de la Ley de Contrataciones del Estado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20000"/>
                </a:solidFill>
                <a:latin typeface="Calibri"/>
              </a:rPr>
              <a:t>Artículo  203.- Cálculo del Gasto General Diari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20000"/>
                </a:solidFill>
                <a:latin typeface="Calibri"/>
              </a:rPr>
              <a:t>Artículo  204°.- Pago de Gastos Genera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20000"/>
                </a:solidFill>
                <a:latin typeface="Calibri"/>
              </a:rPr>
              <a:t>Artículo  211°.- Liquidación del contrato de ob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/>
          </p:nvPr>
        </p:nvSpPr>
        <p:spPr>
          <a:xfrm>
            <a:off x="610920" y="1281240"/>
            <a:ext cx="8281800" cy="38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000000"/>
              </a:buClr>
              <a:buFont typeface="Calibri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Calibri"/>
              </a:rPr>
              <a:t>Se efectúa la suma algebraica de todos los concept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Calibri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Calibri"/>
              </a:rPr>
              <a:t>Se calcula el IGV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Calibri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Calibri"/>
              </a:rPr>
              <a:t>El Costo Total de Obra es la suma de los conceptos 15 y 16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Calibri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Calibri"/>
              </a:rPr>
              <a:t>Se aplican las penalidades establecidas en la normativa de contrataciones, teniendo en cuenta el tope de la penalidad; así como, las retenciones, de correspond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Calibri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Calibri"/>
              </a:rPr>
              <a:t>El monto resumen de la liquidación es laa suma algebraica de 17 y 18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title"/>
          </p:nvPr>
        </p:nvSpPr>
        <p:spPr>
          <a:xfrm>
            <a:off x="773280" y="475920"/>
            <a:ext cx="837072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920000"/>
                </a:solidFill>
                <a:latin typeface="Calibri"/>
              </a:rPr>
              <a:t>LIQUIDACIÓN DEL CONTRATO DE OBR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3 Rectángulo"/>
          <p:cNvSpPr/>
          <p:nvPr/>
        </p:nvSpPr>
        <p:spPr>
          <a:xfrm>
            <a:off x="39600" y="5229360"/>
            <a:ext cx="8348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20000"/>
                </a:solidFill>
                <a:latin typeface="Calibri"/>
              </a:rPr>
              <a:t>Reglamento de la Ley de Contrataciones del Estado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20000"/>
                </a:solidFill>
                <a:latin typeface="Calibri"/>
              </a:rPr>
              <a:t>Artículo  192.- Obligaciones del contratista en caso de atraso en la finalización de la obr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20000"/>
                </a:solidFill>
                <a:latin typeface="Calibri"/>
              </a:rPr>
              <a:t>Artículo  205.- Demoras injustificadas en la ejecución de la obr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515880" y="1976400"/>
            <a:ext cx="822960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El contratista presenta su liquidación sustentada, luego de 60 días o 1/10 del plazo vigente, el que resulte mayor, luego de la recepción de la obr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La Entidad debe pronunciarse dentro del plazo de 60 días de recibida, ya sea observando o elaborando otra, y notificará al Contratist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El Contratista debe pronunciarse dentro de los 15 días siguient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Si el Contratista no lo presenta en el plazo previsto, la responsabilidad de su elaboración es exclusiva de la Entida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73280" y="549000"/>
            <a:ext cx="8370720" cy="88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920000"/>
                </a:solidFill>
                <a:latin typeface="Calibri"/>
              </a:rPr>
              <a:t>LIQUIDACIÓN DEL CONTRATO DE OBR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4 Rectángulo"/>
          <p:cNvSpPr/>
          <p:nvPr/>
        </p:nvSpPr>
        <p:spPr>
          <a:xfrm>
            <a:off x="1042920" y="1197000"/>
            <a:ext cx="73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20000"/>
                </a:solidFill>
                <a:latin typeface="Calibri"/>
              </a:rPr>
              <a:t>Reglamento de la Ley de Contrataciones del Estado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20000"/>
                </a:solidFill>
                <a:latin typeface="Calibri"/>
              </a:rPr>
              <a:t>Artículo  211.- Liquidación del contrato de ob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528480" y="2119320"/>
            <a:ext cx="8229600" cy="44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La Entidad notificará la liquidación al contratista para que este se pronuncie dentro de los 15 días siguient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La liquidación quedará consentida, cuando practicada por alguna de las partes, no sea observada por la otra dentro del plazo establecid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Cuando una de las partes observe la liquidación presentada por la otra, ésta deberá pronunciarse dentro de los quince días de haber recibido la observación; de no hacerlo se tendrá por aprobada la liquidación con las observaciones formulada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37072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920000"/>
                </a:solidFill>
                <a:latin typeface="Calibri"/>
              </a:rPr>
              <a:t>LIQUIDACIÓN DEL CONTRATO DE OBR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4 Rectángulo"/>
          <p:cNvSpPr/>
          <p:nvPr/>
        </p:nvSpPr>
        <p:spPr>
          <a:xfrm>
            <a:off x="971640" y="1197000"/>
            <a:ext cx="73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20000"/>
                </a:solidFill>
                <a:latin typeface="Calibri"/>
              </a:rPr>
              <a:t>Reglamento de la Ley de Contrataciones del Estado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20000"/>
                </a:solidFill>
                <a:latin typeface="Calibri"/>
              </a:rPr>
              <a:t>Artículo  211.- Liquidación del contrato de ob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528480" y="242064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En caso una de las partes no acoja las observaciones formuladas por la otra, aquella deberá manifestarlo por escrito dentro del plazo previsto en el párrafo anteri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En tal supuesto, dentro de los 15 días hábiles siguientes, cualquiera de las partes deberá solicitar el sometimiento de esta controversia a conciliación y/o arbitraj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37072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920000"/>
                </a:solidFill>
                <a:latin typeface="Calibri"/>
              </a:rPr>
              <a:t>LIQUIDACIÓN DEL CONTRATO DE OBR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4 Rectángulo"/>
          <p:cNvSpPr/>
          <p:nvPr/>
        </p:nvSpPr>
        <p:spPr>
          <a:xfrm>
            <a:off x="982800" y="1258920"/>
            <a:ext cx="734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20000"/>
                </a:solidFill>
                <a:latin typeface="Calibri"/>
              </a:rPr>
              <a:t>Reglamento de la Ley de Contrataciones del Estado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20000"/>
                </a:solidFill>
                <a:latin typeface="Calibri"/>
              </a:rPr>
              <a:t>Artículo  211.- Liquidación del contrato de ob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528480" y="2565360"/>
            <a:ext cx="822960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Las discrepancias se resuelven según las disposiciones previstas para la solución de controversias establecidas en la Ley y el Reglamento, sin perjuicio del cobro de la parte no controvertid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No procederá la liquidación mientras existan controversias pendientes por resolv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37072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920000"/>
                </a:solidFill>
                <a:latin typeface="Calibri"/>
              </a:rPr>
              <a:t>LIQUIDACIÓN DEL CONTRATO DE OBR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4 Rectángulo"/>
          <p:cNvSpPr/>
          <p:nvPr/>
        </p:nvSpPr>
        <p:spPr>
          <a:xfrm>
            <a:off x="949320" y="1413000"/>
            <a:ext cx="73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20000"/>
                </a:solidFill>
                <a:latin typeface="Calibri"/>
              </a:rPr>
              <a:t>Reglamento de la Ley de Contrataciones del Estado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20000"/>
                </a:solidFill>
                <a:latin typeface="Calibri"/>
              </a:rPr>
              <a:t>Artículo  211.- Liquidación del contrato de ob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Text Box 2"/>
          <p:cNvSpPr/>
          <p:nvPr/>
        </p:nvSpPr>
        <p:spPr>
          <a:xfrm>
            <a:off x="979560" y="1211400"/>
            <a:ext cx="74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LIQUIDACIÓN TÉCNICA-FINANCIERA DE OB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Text Box 3"/>
          <p:cNvSpPr/>
          <p:nvPr/>
        </p:nvSpPr>
        <p:spPr>
          <a:xfrm>
            <a:off x="415800" y="1835280"/>
            <a:ext cx="7772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20000"/>
                </a:solidFill>
                <a:latin typeface="Calibri"/>
              </a:rPr>
              <a:t>Liquidación Técn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Significa la formulación de un Expediente Técnico en base a las condiciones finales de la obra (planos de post-construcción), debidamente documentada, la misma que debe considerar las modificaciones al proyecto aprobadas, adicionales de obra, ampliaciones de plazo y reajust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20000"/>
                </a:solidFill>
                <a:latin typeface="Calibri"/>
              </a:rPr>
              <a:t>Liquidación Financie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Es el resultado de la suma de todos los gastos realizados, según la estructura del Presupuesto Analítico, correspondiendo analizar si estos gastos están de acuerdo a los requerimientos técnicos de la obr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Rectangle 7"/>
          <p:cNvSpPr/>
          <p:nvPr/>
        </p:nvSpPr>
        <p:spPr>
          <a:xfrm>
            <a:off x="415800" y="539640"/>
            <a:ext cx="837108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20000"/>
                </a:solidFill>
                <a:latin typeface="Calibri"/>
              </a:rPr>
              <a:t>OBRA POR EJECUCIÓN PRESUPUESTARIA DIREC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2"/>
          <p:cNvSpPr/>
          <p:nvPr/>
        </p:nvSpPr>
        <p:spPr>
          <a:xfrm>
            <a:off x="22320" y="685800"/>
            <a:ext cx="90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920000"/>
                </a:solidFill>
                <a:latin typeface="Calibri"/>
              </a:rPr>
              <a:t>LIQUIDACIÓN TÉCNICA-FINANCIER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920000"/>
                </a:solidFill>
                <a:latin typeface="Calibri"/>
              </a:rPr>
              <a:t>OBRA POR ADMINISTRACIÓN DIRECT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484200" y="2197080"/>
            <a:ext cx="8137440" cy="25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alibri"/>
              </a:rPr>
              <a:t>EJECUCIÓN DE LAS OBRAS PÚBLICAS POR ADMINISTRACIÓN DIREC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alibri"/>
              </a:rPr>
              <a:t>RESOLUCIÓN DE CONTRALORA N° 195-88-CG (18.Jul.88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Calibri"/>
              </a:rPr>
              <a:t>4.- </a:t>
            </a:r>
            <a:r>
              <a:rPr b="1" lang="es-PE" sz="2400" spc="-1" strike="noStrike">
                <a:solidFill>
                  <a:srgbClr val="000000"/>
                </a:solidFill>
                <a:latin typeface="Calibri"/>
              </a:rPr>
              <a:t>La entidad debe demostrar que el costo total de la obra a ejecutarse por administración directa, resulta igual o menor al presupuesto base deducida la utilidad, situación que deberá reflejarse en la liquidación de la obr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 Box 2"/>
          <p:cNvSpPr/>
          <p:nvPr/>
        </p:nvSpPr>
        <p:spPr>
          <a:xfrm>
            <a:off x="22320" y="522360"/>
            <a:ext cx="90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920000"/>
                </a:solidFill>
                <a:latin typeface="Calibri"/>
              </a:rPr>
              <a:t>LIQUIDACIÓN TÉCNICA-FINANCIER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920000"/>
                </a:solidFill>
                <a:latin typeface="Calibri"/>
              </a:rPr>
              <a:t>OBRA POR ADMINISTRACIÓN DIRECT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Text Box 3"/>
          <p:cNvSpPr/>
          <p:nvPr/>
        </p:nvSpPr>
        <p:spPr>
          <a:xfrm>
            <a:off x="468360" y="1700280"/>
            <a:ext cx="8137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alibri"/>
              </a:rPr>
              <a:t>EJECUCIÓN DE LAS OBRAS PÚBLICAS POR ADMINISTRACIÓN DIREC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alibri"/>
              </a:rPr>
              <a:t>RESOLUCIÓN DE CONTRALORA N° 195-88-CG (18.Jul.88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Calibri"/>
              </a:rPr>
              <a:t>5.- En la etapa de construcción, la Entidad dispondrá de un “Cuaderno de Obra”, debidamente foliado </a:t>
            </a:r>
            <a:r>
              <a:rPr b="1" lang="es-PE" sz="2400" spc="-1" strike="noStrike">
                <a:solidFill>
                  <a:srgbClr val="c00000"/>
                </a:solidFill>
                <a:latin typeface="Calibri"/>
              </a:rPr>
              <a:t>y legalizado*</a:t>
            </a:r>
            <a:r>
              <a:rPr b="1" lang="es-PE" sz="2400" spc="-1" strike="noStrike">
                <a:solidFill>
                  <a:srgbClr val="000000"/>
                </a:solidFill>
                <a:latin typeface="Calibri"/>
              </a:rPr>
              <a:t>, en el que se anotará: la fecha de inicio y término de los trabajos, las modificaciones autorizadas, los avances mensuales, los controles diarios de ingreso y salida de materiales y personal, las horas de trabajo de los equipos, así como los problemas que vienen afectando el cumplimiento de los cronogramas establecidos y las constancias de supervisión de la obr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29 CuadroTexto"/>
          <p:cNvSpPr/>
          <p:nvPr/>
        </p:nvSpPr>
        <p:spPr>
          <a:xfrm>
            <a:off x="250920" y="5805360"/>
            <a:ext cx="799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Artículo 194 del Reglamento de la Ley de Contrataciones del Estado - Cuaderno de Obra</a:t>
            </a:r>
            <a:r>
              <a:rPr b="1" lang="es-PE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i="1" lang="es-ES" sz="1600" spc="-1" strike="noStrike">
                <a:solidFill>
                  <a:srgbClr val="000000"/>
                </a:solidFill>
                <a:latin typeface="Calibri"/>
              </a:rPr>
              <a:t>(…) se abrirá el cuaderno de obra, el mismo que será firmado en todas sus páginas por el inspector o supervisor, (…)”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 Box 2"/>
          <p:cNvSpPr/>
          <p:nvPr/>
        </p:nvSpPr>
        <p:spPr>
          <a:xfrm>
            <a:off x="22320" y="542880"/>
            <a:ext cx="90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920000"/>
                </a:solidFill>
                <a:latin typeface="Calibri"/>
              </a:rPr>
              <a:t>LIQUIDACIÓN TÉCNICA-FINANCIER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920000"/>
                </a:solidFill>
                <a:latin typeface="Calibri"/>
              </a:rPr>
              <a:t>OBRA POR ADMINISTRACIÓN DIRECT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Text Box 3"/>
          <p:cNvSpPr/>
          <p:nvPr/>
        </p:nvSpPr>
        <p:spPr>
          <a:xfrm>
            <a:off x="630360" y="2043000"/>
            <a:ext cx="8135640" cy="32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alibri"/>
              </a:rPr>
              <a:t>EJECUCIÓN DE LAS OBRAS PÚBLICAS POR ADMINISTRACIÓN DIREC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alibri"/>
              </a:rPr>
              <a:t>RESOLUCIÓN DE CONTRALORA N° 195-88-CG (18.Jul.88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Calibri"/>
              </a:rPr>
              <a:t>10.- Los egresos que se efectúen en estas obras, deben ser concordantes con el Presupuesto Analítico aprobado por la Entidad de acuerdo con la normativa vigente; anotándose los gastos de jornales, materiales, equipos y otros, en Registros Auxiliares por cada obra que comprenda el Proyect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2"/>
          <p:cNvSpPr/>
          <p:nvPr/>
        </p:nvSpPr>
        <p:spPr>
          <a:xfrm>
            <a:off x="588960" y="62064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920000"/>
                </a:solidFill>
                <a:latin typeface="Calibri"/>
              </a:rPr>
              <a:t>LIQUIDACIÓN DE OBR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3 CuadroTexto"/>
          <p:cNvSpPr/>
          <p:nvPr/>
        </p:nvSpPr>
        <p:spPr>
          <a:xfrm>
            <a:off x="395280" y="1484280"/>
            <a:ext cx="8209080" cy="52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74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Calibri"/>
              </a:rPr>
              <a:t>La normativa sobre obras públicas no define expresamente lo que es liquidación de obr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buClr>
                <a:srgbClr val="74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buClr>
                <a:srgbClr val="74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920000"/>
                </a:solidFill>
                <a:latin typeface="Calibri"/>
              </a:rPr>
              <a:t>La normativa de los sistemas financiero, de presupuesto, del sistema nacional de inversión pública y la vinculadas con la ejecución de obras públicas, menciona a la liquidación de obra, cuando se refiere a</a:t>
            </a:r>
            <a:r>
              <a:rPr b="1" lang="es-ES" sz="2400" spc="-1" strike="noStrike">
                <a:solidFill>
                  <a:srgbClr val="920000"/>
                </a:solidFill>
                <a:latin typeface="Calibri"/>
              </a:rPr>
              <a:t>l proceso de cálculo técnico y financiero, que considera las condiciones normativas y/o contractuales aplicables, para establecer el costo total de la obra; así como, el saldo económico que pudiera quedar a favor o en contra de la entidad y/o contratist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buClr>
                <a:srgbClr val="74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buClr>
                <a:srgbClr val="74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La liquidación puede ser de fácil o difícil elaboración, en la medida en que la obra fue bien o mal llevada por el supervisor y/o por la entidad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2"/>
          <p:cNvSpPr/>
          <p:nvPr/>
        </p:nvSpPr>
        <p:spPr>
          <a:xfrm>
            <a:off x="0" y="476280"/>
            <a:ext cx="90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920000"/>
                </a:solidFill>
                <a:latin typeface="Calibri"/>
              </a:rPr>
              <a:t>LIQUIDACIÓN TÉCNICA-FINANCIER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920000"/>
                </a:solidFill>
                <a:latin typeface="Calibri"/>
              </a:rPr>
              <a:t>OBRA POR ADMINISTRACIÓN DIRECT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Text Box 3"/>
          <p:cNvSpPr/>
          <p:nvPr/>
        </p:nvSpPr>
        <p:spPr>
          <a:xfrm>
            <a:off x="611280" y="1989000"/>
            <a:ext cx="8137440" cy="39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alibri"/>
              </a:rPr>
              <a:t>EJECUCIÓN DE LAS OBRAS PÚBLICAS POR ADMINISTRACIÓN DIREC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alibri"/>
              </a:rPr>
              <a:t>RESOLUCIÓN DE CONTRALORA N° 195-88-CG (18.Jul.88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Calibri"/>
              </a:rPr>
              <a:t>11.- Concluida la Obra, la Entidad designará una Comisión para que formule el Acta de recepción de los trabajos, y se encargue de la liquidación técnica y financiera, en un plazo de 30 días de suscrita la referida acta.  La misma Comisión revisará la Memoria Descriptiva elaborada por el Ing. Residente y/o Inspector de la Obra, que servirá de base para la tramitación de la Declaratoria de Fábrica por parte de la Entidad, de ser el cas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2"/>
          <p:cNvSpPr/>
          <p:nvPr/>
        </p:nvSpPr>
        <p:spPr>
          <a:xfrm>
            <a:off x="900000" y="549360"/>
            <a:ext cx="73152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SANEAMIENTO LEGAL - TRANSFERENCIA DE OB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Text Box 3"/>
          <p:cNvSpPr/>
          <p:nvPr/>
        </p:nvSpPr>
        <p:spPr>
          <a:xfrm>
            <a:off x="684360" y="1844640"/>
            <a:ext cx="7772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20000"/>
                </a:solidFill>
                <a:latin typeface="Calibri"/>
              </a:rPr>
              <a:t>POSTERIORMENTE A LA LIQUIDACIÓN, SE PROCEDERÁ A LA ENTREGA DE LA OBRA A LA ENTIDAD RESPECTIVA O UNIDAD ORGÁNICA ESPECIALIZADA, LA CUAL SE ENCARGARÁ DE SU OPERACIÓN Y MANTENIMIENTO, ASEGURANDO EL ADECUADO FUNCIONAMIENTO DE LAS INSTALACIO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920000"/>
                </a:solidFill>
                <a:latin typeface="Calibri"/>
              </a:rPr>
              <a:t>¡MUCHAS GRACIAS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2"/>
          <p:cNvSpPr/>
          <p:nvPr/>
        </p:nvSpPr>
        <p:spPr>
          <a:xfrm>
            <a:off x="611280" y="604800"/>
            <a:ext cx="8078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920000"/>
                </a:solidFill>
                <a:latin typeface="Calibri"/>
              </a:rPr>
              <a:t>REQUISITOS INDISPENSABLES PARA LIQUIDAR UNA OBR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4 CuadroTexto"/>
          <p:cNvSpPr/>
          <p:nvPr/>
        </p:nvSpPr>
        <p:spPr>
          <a:xfrm>
            <a:off x="358920" y="1954080"/>
            <a:ext cx="8605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74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Calibri"/>
              </a:rPr>
              <a:t>Contar con la información técnico – legal de la obra, es decir el expediente de contratación, que incluye entre otros, las valorizaciones, ampliaciones de plazo, cuaderno de obra, calendarios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buClr>
                <a:srgbClr val="74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buClr>
                <a:srgbClr val="74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920000"/>
                </a:solidFill>
                <a:latin typeface="Calibri"/>
              </a:rPr>
              <a:t>Contar con el estado económico – financiero de la obra y la documentación de sustento de los pagos efectuad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buClr>
                <a:srgbClr val="74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buClr>
                <a:srgbClr val="74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Calibri"/>
              </a:rPr>
              <a:t>El liquidador debe tener conocimiento, capacidad y solvencia para evaluar y reformular, de corresponder, los procedimientos efectuados en los aspectos técnico – económicos, correspondientes a la etapa de ejecución  de la obra, de acuerdo a su modalida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30200" y="40428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920000"/>
                </a:solidFill>
                <a:latin typeface="Calibri"/>
              </a:rPr>
              <a:t>OBRA PÚB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24000" y="1699920"/>
            <a:ext cx="2962080" cy="267804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Calibri"/>
              </a:rPr>
              <a:t>CONSTRUC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Calibri"/>
              </a:rPr>
              <a:t>RECONSTRUC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Calibri"/>
              </a:rPr>
              <a:t>REMODEL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Calibri"/>
              </a:rPr>
              <a:t>DEMOLI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Calibri"/>
              </a:rPr>
              <a:t>RENOV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Calibri"/>
              </a:rPr>
              <a:t>HABILIT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2 Marcador de contenido"/>
          <p:cNvSpPr/>
          <p:nvPr/>
        </p:nvSpPr>
        <p:spPr>
          <a:xfrm>
            <a:off x="2411280" y="5084640"/>
            <a:ext cx="61945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920000"/>
                </a:solidFill>
                <a:latin typeface="Calibri"/>
              </a:rPr>
              <a:t>DIRECCIÓN TÉCNICA, EXPEDIENTE TÉCNICO, MANO DE OBRA, MATERIALES Y /O EQUIP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2 Marcador de contenido"/>
          <p:cNvSpPr/>
          <p:nvPr/>
        </p:nvSpPr>
        <p:spPr>
          <a:xfrm>
            <a:off x="3564000" y="2276640"/>
            <a:ext cx="1935000" cy="15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920000"/>
                </a:solidFill>
                <a:latin typeface="Calibri"/>
              </a:rPr>
              <a:t>D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920000"/>
                </a:solidFill>
                <a:latin typeface="Calibri"/>
              </a:rPr>
              <a:t>  </a:t>
            </a:r>
            <a:r>
              <a:rPr b="1" lang="es-PE" sz="2800" spc="-1" strike="noStrike">
                <a:solidFill>
                  <a:srgbClr val="920000"/>
                </a:solidFill>
                <a:latin typeface="Calibri"/>
              </a:rPr>
              <a:t>Bienes Inmue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2 Marcador de contenido"/>
          <p:cNvSpPr/>
          <p:nvPr/>
        </p:nvSpPr>
        <p:spPr>
          <a:xfrm>
            <a:off x="5796000" y="1773360"/>
            <a:ext cx="2770200" cy="267012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Calibri"/>
                <a:ea typeface="Arial"/>
              </a:rPr>
              <a:t>EDIFICACIO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Calibri"/>
                <a:ea typeface="Arial"/>
              </a:rPr>
              <a:t>ESTRUCTUR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Calibri"/>
                <a:ea typeface="Arial"/>
              </a:rPr>
              <a:t>EXCAVACIO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Calibri"/>
                <a:ea typeface="Arial"/>
              </a:rPr>
              <a:t>PERFORACIO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Calibri"/>
                <a:ea typeface="Arial"/>
              </a:rPr>
              <a:t>CARRETER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Calibri"/>
                <a:ea typeface="Arial"/>
              </a:rPr>
              <a:t>PUEN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2 Marcador de contenido"/>
          <p:cNvSpPr/>
          <p:nvPr/>
        </p:nvSpPr>
        <p:spPr>
          <a:xfrm>
            <a:off x="324000" y="4653000"/>
            <a:ext cx="213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740000"/>
                </a:solidFill>
                <a:latin typeface="Calibri"/>
              </a:rPr>
              <a:t>Que requiere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1 Rectángulo"/>
          <p:cNvSpPr/>
          <p:nvPr/>
        </p:nvSpPr>
        <p:spPr>
          <a:xfrm>
            <a:off x="5730120" y="126828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Calibri"/>
              </a:rPr>
              <a:t>tales como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2 Rectángulo"/>
          <p:cNvSpPr/>
          <p:nvPr/>
        </p:nvSpPr>
        <p:spPr>
          <a:xfrm>
            <a:off x="6737760" y="4581360"/>
            <a:ext cx="18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1" lang="es-PE" sz="2400" spc="-1" strike="noStrike">
                <a:solidFill>
                  <a:srgbClr val="000000"/>
                </a:solidFill>
                <a:latin typeface="Calibri"/>
              </a:rPr>
              <a:t>entre ot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9 Rectángulo"/>
          <p:cNvSpPr/>
          <p:nvPr/>
        </p:nvSpPr>
        <p:spPr>
          <a:xfrm>
            <a:off x="256320" y="1197000"/>
            <a:ext cx="89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Calibri"/>
              </a:rPr>
              <a:t>Es la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10 CuadroTexto"/>
          <p:cNvSpPr/>
          <p:nvPr/>
        </p:nvSpPr>
        <p:spPr>
          <a:xfrm>
            <a:off x="250920" y="5950080"/>
            <a:ext cx="86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Reglamento de la Ley de Contrataciones del Estado (Aprobado mediante D.S. N° 184-2008-EF), Anexo Único: Anexo de Definicion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684360" y="260280"/>
            <a:ext cx="777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920000"/>
                </a:solidFill>
                <a:latin typeface="Calibri"/>
              </a:rPr>
              <a:t>OBRA PÚB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3 CuadroTexto"/>
          <p:cNvSpPr/>
          <p:nvPr/>
        </p:nvSpPr>
        <p:spPr>
          <a:xfrm>
            <a:off x="311040" y="5084640"/>
            <a:ext cx="86058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90720" indent="-9907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Contrata   :  Reglamento de la Ley de Contrataciones del Estado. Artículos  19° y 40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990720" indent="-9907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00"/>
                </a:solidFill>
                <a:latin typeface="Calibri"/>
              </a:rPr>
              <a:t>Adm. Dir. :  </a:t>
            </a: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Ley General del Sistema Nacional de Presupuesto, Ley n.° 28411. Artículo 59°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990720" indent="-9907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00"/>
                </a:solidFill>
                <a:latin typeface="Calibri"/>
              </a:rPr>
              <a:t>Encargo    :  </a:t>
            </a: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1" lang="es-PE" sz="1600" spc="-1" strike="noStrike">
                <a:solidFill>
                  <a:srgbClr val="000000"/>
                </a:solidFill>
                <a:latin typeface="Calibri"/>
              </a:rPr>
              <a:t>ir. Tesorería N° 001-2007-EF/77.15, aprobada por R.D. N° 002-2007-EF/77.15. Resolución Directoral N° 004-2010-EF/77.15.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990720" indent="-9907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00"/>
                </a:solidFill>
                <a:latin typeface="Calibri"/>
              </a:rPr>
              <a:t>                      “</a:t>
            </a:r>
            <a:r>
              <a:rPr b="1" lang="es-PE" sz="1600" spc="-1" strike="noStrike">
                <a:solidFill>
                  <a:srgbClr val="000000"/>
                </a:solidFill>
                <a:latin typeface="Calibri"/>
              </a:rPr>
              <a:t>Glosario de Terminología Básica de la Administración Financiera Gubernamental, aprobado mediante Resolución Viceministerial n.° 013-2006-EF/11.01 del 10.Nov.2006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5" name="Picture 5" descr=""/>
          <p:cNvPicPr/>
          <p:nvPr/>
        </p:nvPicPr>
        <p:blipFill>
          <a:blip r:embed="rId1"/>
          <a:stretch/>
        </p:blipFill>
        <p:spPr>
          <a:xfrm>
            <a:off x="797040" y="968400"/>
            <a:ext cx="7632720" cy="39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Diagram 3" descr=""/>
          <p:cNvPicPr/>
          <p:nvPr/>
        </p:nvPicPr>
        <p:blipFill>
          <a:blip r:embed="rId1"/>
          <a:stretch/>
        </p:blipFill>
        <p:spPr>
          <a:xfrm>
            <a:off x="152280" y="1944720"/>
            <a:ext cx="8736120" cy="3865680"/>
          </a:xfrm>
          <a:prstGeom prst="rect">
            <a:avLst/>
          </a:prstGeom>
          <a:ln w="0">
            <a:noFill/>
          </a:ln>
        </p:spPr>
      </p:pic>
      <p:sp>
        <p:nvSpPr>
          <p:cNvPr id="277" name="1 Rectángulo"/>
          <p:cNvSpPr/>
          <p:nvPr/>
        </p:nvSpPr>
        <p:spPr>
          <a:xfrm>
            <a:off x="1327680" y="747720"/>
            <a:ext cx="638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920000"/>
                </a:solidFill>
                <a:latin typeface="Calibri"/>
              </a:rPr>
              <a:t>ETAPAS DE LA OBRA PÚB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2"/>
          <p:cNvSpPr/>
          <p:nvPr/>
        </p:nvSpPr>
        <p:spPr>
          <a:xfrm>
            <a:off x="324000" y="620640"/>
            <a:ext cx="88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c00000"/>
                </a:solidFill>
                <a:latin typeface="Calibri"/>
              </a:rPr>
              <a:t>OBJETIVO DE LA LIQUIDACIÓN DE OBR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4 Rectángulo"/>
          <p:cNvSpPr/>
          <p:nvPr/>
        </p:nvSpPr>
        <p:spPr>
          <a:xfrm>
            <a:off x="539640" y="1557360"/>
            <a:ext cx="8218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buClr>
                <a:srgbClr val="bc142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Calibri"/>
              </a:rPr>
              <a:t>Determinar el costo final de la obra (Liquidación  Financiera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buClr>
                <a:srgbClr val="bc142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buClr>
                <a:srgbClr val="bc142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Calibri"/>
              </a:rPr>
              <a:t>Definir las características técnicas con las que se ha ejecutado la obra para su registro y control patrimonial (Liquidación Técnica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buClr>
                <a:srgbClr val="bc142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buClr>
                <a:srgbClr val="bc142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Calibri"/>
              </a:rPr>
              <a:t>Contar con el expediente que servirá para su registro y control correspondient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buClr>
                <a:srgbClr val="bc142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Calibri"/>
              </a:rPr>
              <a:t>Declarar la culminación de la etapa de ejecución del proyecto, cuando correspond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5T18:08:30Z</dcterms:created>
  <dc:creator/>
  <dc:description/>
  <dc:language>en-US</dc:language>
  <cp:lastModifiedBy/>
  <dcterms:modified xsi:type="dcterms:W3CDTF">2010-12-13T20:36:23Z</dcterms:modified>
  <cp:revision>321</cp:revision>
  <dc:subject/>
  <dc:title>Diapositiva 1</dc:title>
</cp:coreProperties>
</file>