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3.png" ContentType="image/png"/>
  <Override PartName="/ppt/media/image7.wmf" ContentType="image/x-wmf"/>
  <Override PartName="/ppt/media/image12.wmf" ContentType="image/x-wmf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</p:sldIdLst>
  <p:sldSz cx="9144000" cy="6858000"/>
  <p:notesSz cx="6973888" cy="10109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9BFD-632E-4464-ACD7-508D0E087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8001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12120"/>
            <a:ext cx="8001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6735-1F03-42BB-82E5-CC54FFD62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3904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65960" y="1523880"/>
            <a:ext cx="3904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1DEA14-1DF6-4C2A-8BC0-F90782FE4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683B42-D586-4F9D-B574-680DAC740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1F4FDE-1E27-4675-924E-AB9D47AA5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65960" y="1523880"/>
            <a:ext cx="3904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66280" y="391212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D56755-C7ED-499F-A75A-8166BB667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3904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65960" y="152388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65960" y="391212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45E683-52BE-4447-8CD8-3A1DEC4BA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65960" y="152388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66280" y="3912120"/>
            <a:ext cx="8001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24A91D-B535-43B8-8347-E081F3694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8001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66280" y="3912120"/>
            <a:ext cx="8001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2698DC-235B-44FC-88E8-71552BF29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65960" y="152388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66280" y="391212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65960" y="391212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4DBC2F-54D9-497A-B210-2FB91EF47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71680" y="152388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5977080" y="152388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566280" y="391212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71680" y="391212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5977080" y="391212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E73D21-2BBD-4178-95BB-4FA83664A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8E00B3-A942-4765-A012-F2C5D3883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52388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1212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1212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7C72-D6A2-4C7B-B58C-B023146F1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56628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065934-79C8-465B-AA27-9C3412250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7BFFE6-B681-436E-9148-1269E5547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3904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65960" y="1523880"/>
            <a:ext cx="3904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6B47CE-E579-4459-98BF-E6A4176A7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83C905-C7BF-4330-B8A6-D3A9E03D2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FD9E3E-FC74-414D-951C-6A24A9EA2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65960" y="1523880"/>
            <a:ext cx="3904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566280" y="391212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E3FBF7-6BAA-47C8-846D-BF8602A3A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3904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65960" y="152388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65960" y="391212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FE59D5-CC57-433A-8C8F-A203F6BE0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65960" y="152388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66280" y="3912120"/>
            <a:ext cx="8001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01A43D-365B-4728-A3CE-6B3F21B71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8001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66280" y="3912120"/>
            <a:ext cx="8001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E84812-3668-467A-978A-A719A69FE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65960" y="152388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66280" y="391212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65960" y="391212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85CC27-BBC0-4C49-BD9E-FCFC36059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52388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52388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1212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1212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1212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F364-832A-4318-A209-9F53305F8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71680" y="152388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5977080" y="152388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566280" y="391212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71680" y="391212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5977080" y="391212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07AD95-59A3-417E-95BC-E3598202B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45816F-B0FE-41C8-8D71-C72EFBD5A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56628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862572-F044-43BC-980A-D4EC78E96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867971-F855-484C-8374-CFAA5C9BC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3904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65960" y="1523880"/>
            <a:ext cx="3904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6EA580-7B9C-41E6-94A6-183AE5DD2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E7CA04-BAA2-4A20-9152-8461DC0BE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A58427-CFF3-46AF-B29B-F6D9E0F88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65960" y="1523880"/>
            <a:ext cx="3904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66280" y="391212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898C6F-09BE-48F1-B1F7-6D4B64936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3904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65960" y="152388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65960" y="391212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467AD9-D2A8-4986-A258-A6D1CEB08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65960" y="152388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566280" y="3912120"/>
            <a:ext cx="8001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345622-1F96-4CFC-882B-BACC355CE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53C77-86B2-49C6-B056-65D2F6711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8001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66280" y="3912120"/>
            <a:ext cx="8001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7096DA-843C-4F8A-9455-FF6B4D1EB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65960" y="152388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66280" y="391212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65960" y="391212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0C2084-85CC-44D5-94AD-86F6643E0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71680" y="152388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977080" y="152388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566280" y="391212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71680" y="391212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5977080" y="391212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951959-D103-4D06-B9BE-4840235BE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B65694-A116-4AF5-BDAB-47943C672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56628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B5CA60-BAA6-4B11-B363-7AE8F678E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B32E44-2984-4448-8129-D4171DA2D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3904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65960" y="1523880"/>
            <a:ext cx="3904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E0E95E-1CB4-4BB8-8654-3623C8DA9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9E300C-CF5E-4B97-ABA7-E30830A07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BB2DC7-EC4D-48F4-8911-DA73101B1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65960" y="1523880"/>
            <a:ext cx="3904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566280" y="391212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FD31DA-BA70-41C1-B522-5FB7ABFCC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046B4-C843-4DD4-927C-DDF076282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3904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5960" y="152388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65960" y="391212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73CEE0-E919-4163-AA98-407D8E935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65960" y="152388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66280" y="3912120"/>
            <a:ext cx="8001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6186E4-2189-4A6E-906F-2A8EAD9E4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8001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66280" y="3912120"/>
            <a:ext cx="8001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E8D491-8284-4F98-B813-145B97548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65960" y="152388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566280" y="391212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65960" y="391212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CBD3DB-D03B-424D-B3A4-44D42CF32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71680" y="152388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5977080" y="152388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66280" y="391212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71680" y="391212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5977080" y="391212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864815-0722-4F37-B919-198F89A7E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EBBF2A-00D4-4AEF-9E0F-B11F05E40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56628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017CD5-71CE-44CF-A309-03040AA91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1F0B9B-8C61-475F-B621-47811E3F4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3904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65960" y="1523880"/>
            <a:ext cx="3904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AB7EA9-375B-44C3-BB9A-BD93804E9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81F1AE-A465-4AC5-8B1C-C42C1E4FD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1A1C1-123D-42D4-9CC8-1F97E38F1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AAAA93-E7FA-4DDB-AB57-1160A5439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65960" y="1523880"/>
            <a:ext cx="3904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66280" y="391212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5C1FD0-34CB-41F1-AFF0-A20DE5E9E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3904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65960" y="152388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65960" y="391212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11C814-1A5F-4E54-BE0C-2904BEA9E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65960" y="152388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566280" y="3912120"/>
            <a:ext cx="8001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987C57-EF0A-492C-988C-60D9FF726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8001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66280" y="3912120"/>
            <a:ext cx="8001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CA0C1E-46D6-4325-B4B9-9E3DD569A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65960" y="152388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566280" y="391212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65960" y="391212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C678AC-616C-48E9-9027-A8DFFF49C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71680" y="152388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5977080" y="152388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566280" y="391212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71680" y="391212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5977080" y="391212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A99D92-D085-453A-AADD-50288C2B7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56A33B-C840-43A1-8810-0B2D83758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subTitle"/>
          </p:nvPr>
        </p:nvSpPr>
        <p:spPr>
          <a:xfrm>
            <a:off x="56628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0E1CEBA-48BE-4708-AF21-287D5FB1A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52F7F2-7E29-4C4E-84B8-FD718C286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3904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523880"/>
            <a:ext cx="3904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C9F9C-A2A8-43C3-8E69-081AE8525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3904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65960" y="1523880"/>
            <a:ext cx="3904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7CD14F-32F0-4C51-9DCB-92FC49E90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0A18634-11AE-48CA-8DCF-05B5C9CF4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98E360-3DA7-4CAA-8DC5-32CBB9E03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65960" y="1523880"/>
            <a:ext cx="3904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66280" y="391212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249CACB-65F1-4486-9A1C-85A7AF71C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3904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65960" y="152388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665960" y="391212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2AAF19-BB7C-4A8E-8458-692B1A30E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65960" y="152388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566280" y="3912120"/>
            <a:ext cx="8001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1AB7CC-95CA-4628-9CC3-7D20290A1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8001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566280" y="3912120"/>
            <a:ext cx="8001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D31CCB-76A9-4E04-BD8A-62AA6A4D0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65960" y="152388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566280" y="391212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4665960" y="391212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3B483B-3073-4F64-A02D-026971617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3271680" y="152388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5977080" y="152388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566280" y="391212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6"/>
          <p:cNvSpPr>
            <a:spLocks noGrp="1"/>
          </p:cNvSpPr>
          <p:nvPr>
            <p:ph/>
          </p:nvPr>
        </p:nvSpPr>
        <p:spPr>
          <a:xfrm>
            <a:off x="3271680" y="391212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7"/>
          <p:cNvSpPr>
            <a:spLocks noGrp="1"/>
          </p:cNvSpPr>
          <p:nvPr>
            <p:ph/>
          </p:nvPr>
        </p:nvSpPr>
        <p:spPr>
          <a:xfrm>
            <a:off x="5977080" y="391212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B487DE-5747-44FD-AF62-9264B866C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853A5-5EB7-434A-9E58-333773BC4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9A762-7015-4A3F-AE7F-FE165D3C7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523880"/>
            <a:ext cx="3904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1212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FA9D8-6996-440E-86C4-2181B1CAD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DE98-1AEF-4F73-89EB-957BACCA9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3904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52388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1212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D20A8-291E-44AA-AEBB-ADF1407D7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52388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12120"/>
            <a:ext cx="8001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F4449-7BC5-47DA-A1B1-9710D8F00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8001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12120"/>
            <a:ext cx="8001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9F1CD-3AC0-4BE9-A845-004014E21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52388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1212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1212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6A5A1-688F-4F43-A08A-E16EBCDEA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52388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52388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1212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1212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1212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4AF4D-A79B-486E-B5F5-3663D963E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B5936E-E156-411B-A66A-062BFE347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6628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F589AE-78E5-4B0A-BE73-C85A378FA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E73788-9B22-4E2D-A20D-6F2FEA6C3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3904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5960" y="1523880"/>
            <a:ext cx="3904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52BF5A-B0CD-431E-A7D5-34F010AE6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EF9D4E-D0A1-49B8-8960-4980D1A04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D285-1154-4F00-86BA-244FF205D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DA2DAA-5721-4164-9B44-8A8191B0C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5960" y="1523880"/>
            <a:ext cx="3904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6280" y="391212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DC9A6D-2BDA-4845-8F09-D3BE8151D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3904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5960" y="152388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5960" y="391212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7DFD64-EBEA-4AA7-B0C3-547895ECC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5960" y="152388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66280" y="3912120"/>
            <a:ext cx="8001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8427AE-B681-4EF1-BF3A-E3C127755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8001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66280" y="3912120"/>
            <a:ext cx="8001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758B4A-9DB0-402D-8BDF-D6CADA2B6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5960" y="152388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66280" y="391212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5960" y="391212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345AC2-69A2-4C35-BBC4-3A985C3B9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71680" y="152388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77080" y="152388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66280" y="391212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71680" y="391212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77080" y="391212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8737FD-25E6-4741-BC8D-66906100E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F63DE3-8747-44AD-B1F0-8267621DB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6628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A3D5BD-1080-403C-97A8-7FA447DB4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53E0DB-3310-4DC6-8E5E-B06C24FA6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3904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523880"/>
            <a:ext cx="3904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A863-AF5F-4F36-9B26-8EB313D87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3904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5960" y="1523880"/>
            <a:ext cx="3904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355DBC-A46D-4EE4-A098-7CBF3CE6C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CBED58-5C7B-401A-9C0A-3AF336BE6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6FEDA1-859B-401C-94E4-22FFAF396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5960" y="1523880"/>
            <a:ext cx="3904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66280" y="391212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30C2DA-9B6C-4665-B878-8DBA6F5DB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3904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5960" y="152388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65960" y="391212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C75425-136C-4248-AA1C-408D25AF2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5960" y="152388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66280" y="3912120"/>
            <a:ext cx="8001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CCC38F-A643-48AC-9CFB-8D6CE7EA9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8001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66280" y="3912120"/>
            <a:ext cx="8001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4147F9-4C68-491C-A73F-53975E72F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5960" y="152388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66280" y="391212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65960" y="391212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30420E-E6D5-4C5F-881C-F40297E53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71680" y="152388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977080" y="152388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66280" y="391212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71680" y="391212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977080" y="391212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1166CA-3A1E-4F2D-92BD-1F82E3E19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5A8E8F-A66E-4A1F-BE8F-3C21B4DD4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4CF9-417D-4395-AAC5-4931A83F8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56628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9D9B9F-912D-4386-AEC7-8E4AE3F74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643A01-D554-4221-BE11-58890CD15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3904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65960" y="1523880"/>
            <a:ext cx="3904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DBBFC1-5216-4E0C-8A0E-F3305103C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F27009-8DCF-4C65-B80B-55FD28171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C2C198-8CDC-4331-A4D8-F8BF02AB6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65960" y="1523880"/>
            <a:ext cx="3904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66280" y="391212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0B1101-6742-4F05-B3A9-BF60E4E8F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3904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5960" y="152388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65960" y="391212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FE855B-6648-4DF4-B66D-7541222AD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65960" y="152388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66280" y="3912120"/>
            <a:ext cx="8001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D5D788-DD0C-4DB0-BC00-1AEAB3CA7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8001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66280" y="3912120"/>
            <a:ext cx="8001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AFA391-399D-4363-A1DB-87DE5B978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65960" y="152388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66280" y="391212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65960" y="391212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18A1EC-E7CF-48BE-B7B1-EBBFA42A1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84C3-B6FC-4CB6-B927-C11A8D7B8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71680" y="152388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977080" y="152388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566280" y="391212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71680" y="391212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977080" y="391212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3F22A4-124A-46F5-9FCC-9F3F7D19A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BE212B-F0D7-4DDD-8E46-7D2456F43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56628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111FED-38C9-450B-AE29-D52C942C6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99E246-24E8-4BFF-9FEE-025807E91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3904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65960" y="1523880"/>
            <a:ext cx="3904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BBC15E-42C4-4BD0-85D2-2BB470383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FE9B92-83C3-4299-8607-C69D05A21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6E7812-3A24-4C2E-82A9-77EC8FE3C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65960" y="1523880"/>
            <a:ext cx="3904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66280" y="391212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6409FB-F941-43FD-91CA-92B19BCD8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3904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65960" y="152388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65960" y="391212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4C975B-CD3B-47FF-AB64-D4AD1E383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65960" y="152388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66280" y="3912120"/>
            <a:ext cx="8001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601E07-7D50-4AD3-8809-DD2D16005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523880"/>
            <a:ext cx="3904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1212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D9B8-2A1B-4756-AEA5-1959FADD1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8001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66280" y="3912120"/>
            <a:ext cx="8001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B7DF6B-535D-46FD-83E2-505E66154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65960" y="152388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66280" y="391212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65960" y="391212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5E4E4E-2AF1-4917-83C2-5545E8E56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71680" y="152388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977080" y="152388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566280" y="391212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71680" y="391212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5977080" y="391212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A73BA6-954F-4D25-A525-26105111A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155DDF-78BA-4D47-87CC-C17D00570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6628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8219DB-3B08-4525-98B7-F00255C38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640D00-70CC-472F-8A41-61CAEDBC0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3904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5960" y="1523880"/>
            <a:ext cx="3904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718A42-2124-464C-B3FC-0BF1CE4BA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AF5E40-BE39-4AC9-8A04-AF8704AE0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FE3E7A-9A9B-4584-9342-FC94A6D8B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65960" y="1523880"/>
            <a:ext cx="3904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66280" y="391212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A57168-8897-41D2-BA4B-37CBCBEE5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3904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52388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1212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E962-96A2-4DDF-9BCD-9A7644345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3904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65960" y="152388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65960" y="391212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9F9F9C-319C-4263-A315-22065245E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65960" y="152388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66280" y="3912120"/>
            <a:ext cx="8001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E7D39E-1053-42EC-A2C6-C4F17CC73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8001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66280" y="3912120"/>
            <a:ext cx="8001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B216CF-E1DB-4FD9-8560-D5097298B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65960" y="152388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66280" y="391212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65960" y="391212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DF2C57-A83B-4177-A605-98F468C9B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71680" y="152388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977080" y="152388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66280" y="391212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71680" y="391212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5977080" y="391212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9B630F-3C94-48A9-9238-4DF380BDD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6ED352-FFC0-421A-871D-DBF883C2B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56628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583620-D614-49A7-8630-3F95CDE9B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0DA8F2-6012-4F1B-9BBE-45B800D2F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3904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65960" y="1523880"/>
            <a:ext cx="3904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47195D-9B5E-4971-B711-9F01F43CF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852261-2F6A-40A1-AE4C-3A8CA51CA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52388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12120"/>
            <a:ext cx="8001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C885-EDF8-4A86-BD95-A4178AFDE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EA8111-E6C5-4513-A8F9-C27A2C63E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65960" y="1523880"/>
            <a:ext cx="3904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566280" y="391212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62826D-F055-41FD-9C65-74349CCAF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3904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5960" y="152388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65960" y="391212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0E9D33-412C-4DD7-9BA9-7CCBD0895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5960" y="152388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66280" y="3912120"/>
            <a:ext cx="8001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5CCEE4-A7C6-475C-8B38-53C7BC547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8001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66280" y="3912120"/>
            <a:ext cx="8001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F06F49-F2D0-4602-ABD7-3B8E7F002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65960" y="152388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66280" y="391212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65960" y="391212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FEF1FB-164B-4ED1-B1C3-596E766AA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71680" y="152388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5977080" y="152388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566280" y="391212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71680" y="391212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5977080" y="391212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604AC1-FAD9-448B-8518-CDD7304AD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A35AAA-40F0-49CB-98E4-69C6DDE9E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56628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6199E2-8AE1-4BDF-B9BF-B02F87B83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262EEF-39C1-49F5-A579-F75185F8C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spcAft>
                <a:spcPts val="751"/>
              </a:spcAft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 algn="just">
              <a:spcAft>
                <a:spcPts val="751"/>
              </a:spcAft>
              <a:buClr>
                <a:srgbClr val="cc0000"/>
              </a:buClr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5000" indent="-395280" algn="just">
              <a:spcAft>
                <a:spcPts val="751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93800" indent="-387360" algn="just">
              <a:spcAft>
                <a:spcPts val="751"/>
              </a:spcAft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93760" indent="-398160" algn="just">
              <a:spcAft>
                <a:spcPts val="75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93760" indent="-398160" algn="just">
              <a:spcAft>
                <a:spcPts val="7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93760" indent="-398160" algn="just">
              <a:spcAft>
                <a:spcPts val="7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29528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11280" y="6597720"/>
            <a:ext cx="792468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C3612-457C-40A9-9970-057D51F06405}" type="slidenum"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56628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spcAft>
                <a:spcPts val="751"/>
              </a:spcAft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 algn="just">
              <a:spcAft>
                <a:spcPts val="751"/>
              </a:spcAft>
              <a:buClr>
                <a:srgbClr val="cc0000"/>
              </a:buClr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5000" indent="-395280" algn="just">
              <a:spcAft>
                <a:spcPts val="751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93800" indent="-387360" algn="just">
              <a:spcAft>
                <a:spcPts val="751"/>
              </a:spcAft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93760" indent="-398160" algn="just">
              <a:spcAft>
                <a:spcPts val="75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93760" indent="-398160" algn="just">
              <a:spcAft>
                <a:spcPts val="7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93760" indent="-398160" algn="just">
              <a:spcAft>
                <a:spcPts val="7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8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6BA24-C46D-4760-9D3D-D22CAEEA3474}" type="slidenum"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56628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spcAft>
                <a:spcPts val="751"/>
              </a:spcAft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 algn="just">
              <a:spcAft>
                <a:spcPts val="751"/>
              </a:spcAft>
              <a:buClr>
                <a:srgbClr val="cc0000"/>
              </a:buClr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5000" indent="-395280" algn="just">
              <a:spcAft>
                <a:spcPts val="751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93800" indent="-387360" algn="just">
              <a:spcAft>
                <a:spcPts val="751"/>
              </a:spcAft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93760" indent="-398160" algn="just">
              <a:spcAft>
                <a:spcPts val="75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93760" indent="-398160" algn="just">
              <a:spcAft>
                <a:spcPts val="7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93760" indent="-398160" algn="just">
              <a:spcAft>
                <a:spcPts val="7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3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D659F-9835-47BB-93F5-9C1C76579F32}" type="slidenum"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56628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spcAft>
                <a:spcPts val="751"/>
              </a:spcAft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 algn="just">
              <a:spcAft>
                <a:spcPts val="751"/>
              </a:spcAft>
              <a:buClr>
                <a:srgbClr val="cc0000"/>
              </a:buClr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5000" indent="-395280" algn="just">
              <a:spcAft>
                <a:spcPts val="751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93800" indent="-387360" algn="just">
              <a:spcAft>
                <a:spcPts val="751"/>
              </a:spcAft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93760" indent="-398160" algn="just">
              <a:spcAft>
                <a:spcPts val="75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93760" indent="-398160" algn="just">
              <a:spcAft>
                <a:spcPts val="7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93760" indent="-398160" algn="just">
              <a:spcAft>
                <a:spcPts val="7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4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08755-1AD2-4F77-8C21-52E128CE2DD9}" type="slidenum"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56628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spcAft>
                <a:spcPts val="751"/>
              </a:spcAft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 algn="just">
              <a:spcAft>
                <a:spcPts val="751"/>
              </a:spcAft>
              <a:buClr>
                <a:srgbClr val="cc0000"/>
              </a:buClr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5000" indent="-395280" algn="just">
              <a:spcAft>
                <a:spcPts val="751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93800" indent="-387360" algn="just">
              <a:spcAft>
                <a:spcPts val="751"/>
              </a:spcAft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93760" indent="-398160" algn="just">
              <a:spcAft>
                <a:spcPts val="75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93760" indent="-398160" algn="just">
              <a:spcAft>
                <a:spcPts val="7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93760" indent="-398160" algn="just">
              <a:spcAft>
                <a:spcPts val="7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37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B3C82-5C97-470B-8EEE-3EDAABD3C13D}" type="slidenum"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56628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spcAft>
                <a:spcPts val="751"/>
              </a:spcAft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 algn="just">
              <a:spcAft>
                <a:spcPts val="751"/>
              </a:spcAft>
              <a:buClr>
                <a:srgbClr val="cc0000"/>
              </a:buClr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5000" indent="-395280" algn="just">
              <a:spcAft>
                <a:spcPts val="751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93800" indent="-387360" algn="just">
              <a:spcAft>
                <a:spcPts val="751"/>
              </a:spcAft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93760" indent="-398160" algn="just">
              <a:spcAft>
                <a:spcPts val="75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93760" indent="-398160" algn="just">
              <a:spcAft>
                <a:spcPts val="7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93760" indent="-398160" algn="just">
              <a:spcAft>
                <a:spcPts val="7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 type="dt" idx="40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 type="sldNum" idx="42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A182B-8155-4C3B-95DA-B9E99BA2DBF4}" type="slidenum"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spcAft>
                <a:spcPts val="751"/>
              </a:spcAft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 algn="just">
              <a:spcAft>
                <a:spcPts val="751"/>
              </a:spcAft>
              <a:buClr>
                <a:srgbClr val="cc0000"/>
              </a:buClr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5000" indent="-395280" algn="just">
              <a:spcAft>
                <a:spcPts val="751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93800" indent="-387360" algn="just">
              <a:spcAft>
                <a:spcPts val="751"/>
              </a:spcAft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93760" indent="-398160" algn="just">
              <a:spcAft>
                <a:spcPts val="75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93760" indent="-398160" algn="just">
              <a:spcAft>
                <a:spcPts val="7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93760" indent="-398160" algn="just">
              <a:spcAft>
                <a:spcPts val="7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5F552-DCA5-4311-AC22-693319EAFF9B}" type="slidenum"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56628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spcAft>
                <a:spcPts val="751"/>
              </a:spcAft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 algn="just">
              <a:spcAft>
                <a:spcPts val="751"/>
              </a:spcAft>
              <a:buClr>
                <a:srgbClr val="cc0000"/>
              </a:buClr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5000" indent="-395280" algn="just">
              <a:spcAft>
                <a:spcPts val="751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93800" indent="-387360" algn="just">
              <a:spcAft>
                <a:spcPts val="751"/>
              </a:spcAft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93760" indent="-398160" algn="just">
              <a:spcAft>
                <a:spcPts val="75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93760" indent="-398160" algn="just">
              <a:spcAft>
                <a:spcPts val="7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93760" indent="-398160" algn="just">
              <a:spcAft>
                <a:spcPts val="7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BFC30-0A9D-4B35-B32D-9F1D5EB87C7E}" type="slidenum"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56628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spcAft>
                <a:spcPts val="751"/>
              </a:spcAft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 algn="just">
              <a:spcAft>
                <a:spcPts val="751"/>
              </a:spcAft>
              <a:buClr>
                <a:srgbClr val="cc0000"/>
              </a:buClr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5000" indent="-395280" algn="just">
              <a:spcAft>
                <a:spcPts val="751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93800" indent="-387360" algn="just">
              <a:spcAft>
                <a:spcPts val="751"/>
              </a:spcAft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93760" indent="-398160" algn="just">
              <a:spcAft>
                <a:spcPts val="75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93760" indent="-398160" algn="just">
              <a:spcAft>
                <a:spcPts val="7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93760" indent="-398160" algn="just">
              <a:spcAft>
                <a:spcPts val="7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63FBA-1A9B-412D-A47A-76258334A7D8}" type="slidenum"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56628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spcAft>
                <a:spcPts val="751"/>
              </a:spcAft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 algn="just">
              <a:spcAft>
                <a:spcPts val="751"/>
              </a:spcAft>
              <a:buClr>
                <a:srgbClr val="cc0000"/>
              </a:buClr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5000" indent="-395280" algn="just">
              <a:spcAft>
                <a:spcPts val="751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93800" indent="-387360" algn="just">
              <a:spcAft>
                <a:spcPts val="751"/>
              </a:spcAft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93760" indent="-398160" algn="just">
              <a:spcAft>
                <a:spcPts val="75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93760" indent="-398160" algn="just">
              <a:spcAft>
                <a:spcPts val="7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93760" indent="-398160" algn="just">
              <a:spcAft>
                <a:spcPts val="7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3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764A7-5F09-44E5-A2BB-D86E9CCFC308}" type="slidenum"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56628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spcAft>
                <a:spcPts val="751"/>
              </a:spcAft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 algn="just">
              <a:spcAft>
                <a:spcPts val="751"/>
              </a:spcAft>
              <a:buClr>
                <a:srgbClr val="cc0000"/>
              </a:buClr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5000" indent="-395280" algn="just">
              <a:spcAft>
                <a:spcPts val="751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93800" indent="-387360" algn="just">
              <a:spcAft>
                <a:spcPts val="751"/>
              </a:spcAft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93760" indent="-398160" algn="just">
              <a:spcAft>
                <a:spcPts val="75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93760" indent="-398160" algn="just">
              <a:spcAft>
                <a:spcPts val="7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93760" indent="-398160" algn="just">
              <a:spcAft>
                <a:spcPts val="7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6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1FF4B-CEBD-41B2-8AF1-EF2BB95C48D6}" type="slidenum"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56628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spcAft>
                <a:spcPts val="751"/>
              </a:spcAft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 algn="just">
              <a:spcAft>
                <a:spcPts val="751"/>
              </a:spcAft>
              <a:buClr>
                <a:srgbClr val="cc0000"/>
              </a:buClr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5000" indent="-395280" algn="just">
              <a:spcAft>
                <a:spcPts val="751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93800" indent="-387360" algn="just">
              <a:spcAft>
                <a:spcPts val="751"/>
              </a:spcAft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93760" indent="-398160" algn="just">
              <a:spcAft>
                <a:spcPts val="75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93760" indent="-398160" algn="just">
              <a:spcAft>
                <a:spcPts val="7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93760" indent="-398160" algn="just">
              <a:spcAft>
                <a:spcPts val="7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9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470F0-8416-41EE-A8B0-49DFFF59E613}" type="slidenum"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56628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spcAft>
                <a:spcPts val="751"/>
              </a:spcAft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 algn="just">
              <a:spcAft>
                <a:spcPts val="751"/>
              </a:spcAft>
              <a:buClr>
                <a:srgbClr val="cc0000"/>
              </a:buClr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5000" indent="-395280" algn="just">
              <a:spcAft>
                <a:spcPts val="751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93800" indent="-387360" algn="just">
              <a:spcAft>
                <a:spcPts val="751"/>
              </a:spcAft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93760" indent="-398160" algn="just">
              <a:spcAft>
                <a:spcPts val="75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93760" indent="-398160" algn="just">
              <a:spcAft>
                <a:spcPts val="7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93760" indent="-398160" algn="just">
              <a:spcAft>
                <a:spcPts val="7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22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C14AA-6DF6-459A-877D-084FD4FB04DC}" type="slidenum"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56628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spcAft>
                <a:spcPts val="751"/>
              </a:spcAft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 algn="just">
              <a:spcAft>
                <a:spcPts val="751"/>
              </a:spcAft>
              <a:buClr>
                <a:srgbClr val="cc0000"/>
              </a:buClr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5000" indent="-395280" algn="just">
              <a:spcAft>
                <a:spcPts val="751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93800" indent="-387360" algn="just">
              <a:spcAft>
                <a:spcPts val="751"/>
              </a:spcAft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93760" indent="-398160" algn="just">
              <a:spcAft>
                <a:spcPts val="75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93760" indent="-398160" algn="just">
              <a:spcAft>
                <a:spcPts val="7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93760" indent="-398160" algn="just">
              <a:spcAft>
                <a:spcPts val="7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5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C709C-9775-4338-9406-31115CCFC8FD}" type="slidenum"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5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5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4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4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4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25"/>
          <p:cNvSpPr/>
          <p:nvPr/>
        </p:nvSpPr>
        <p:spPr>
          <a:xfrm>
            <a:off x="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8" name="Rectangle 26"/>
          <p:cNvSpPr/>
          <p:nvPr/>
        </p:nvSpPr>
        <p:spPr>
          <a:xfrm>
            <a:off x="0" y="371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9" name="Rectangle 27"/>
          <p:cNvSpPr/>
          <p:nvPr/>
        </p:nvSpPr>
        <p:spPr>
          <a:xfrm>
            <a:off x="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Rectangle 28"/>
          <p:cNvSpPr/>
          <p:nvPr/>
        </p:nvSpPr>
        <p:spPr>
          <a:xfrm>
            <a:off x="0" y="371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81" name="Group 5"/>
          <p:cNvGrpSpPr/>
          <p:nvPr/>
        </p:nvGrpSpPr>
        <p:grpSpPr>
          <a:xfrm>
            <a:off x="611280" y="476280"/>
            <a:ext cx="7992720" cy="792000"/>
            <a:chOff x="611280" y="476280"/>
            <a:chExt cx="7992720" cy="792000"/>
          </a:xfrm>
        </p:grpSpPr>
        <p:grpSp>
          <p:nvGrpSpPr>
            <p:cNvPr id="582" name="Group 6"/>
            <p:cNvGrpSpPr/>
            <p:nvPr/>
          </p:nvGrpSpPr>
          <p:grpSpPr>
            <a:xfrm>
              <a:off x="611280" y="476280"/>
              <a:ext cx="1024560" cy="792000"/>
              <a:chOff x="611280" y="476280"/>
              <a:chExt cx="1024560" cy="792000"/>
            </a:xfrm>
          </p:grpSpPr>
          <p:pic>
            <p:nvPicPr>
              <p:cNvPr id="583" name="Picture 7" descr="http://www.peruembassy-uk.com/Images/Escudo.gif"/>
              <p:cNvPicPr/>
              <p:nvPr/>
            </p:nvPicPr>
            <p:blipFill>
              <a:blip r:embed="rId1">
                <a:lum bright="12000"/>
              </a:blip>
              <a:stretch/>
            </p:blipFill>
            <p:spPr>
              <a:xfrm>
                <a:off x="611280" y="605520"/>
                <a:ext cx="1024560" cy="662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4" name="WordArt 8"/>
              <p:cNvSpPr txBox="1"/>
              <p:nvPr/>
            </p:nvSpPr>
            <p:spPr>
              <a:xfrm>
                <a:off x="708120" y="476280"/>
                <a:ext cx="774360" cy="25848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1372617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800" spc="1" strike="noStrike">
                    <a:ln w="9360">
                      <a:solidFill>
                        <a:srgbClr val="000000"/>
                      </a:solidFill>
                      <a:miter/>
                    </a:ln>
                    <a:gradFill rotWithShape="0">
                      <a:gsLst>
                        <a:gs pos="0">
                          <a:srgbClr val="aaaaaa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atin typeface="Arial Unicode MS"/>
                  </a:rPr>
                  <a:t>REPUBLICA DEL PERU</a:t>
                </a:r>
                <a:endParaRPr b="1" i="1" lang="en-US" sz="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aaaaaa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Unicode MS"/>
                  <a:ea typeface="Arial Unicode MS"/>
                </a:endParaRPr>
              </a:p>
            </p:txBody>
          </p:sp>
        </p:grpSp>
        <p:sp>
          <p:nvSpPr>
            <p:cNvPr id="585" name="Rectangle 9"/>
            <p:cNvSpPr/>
            <p:nvPr/>
          </p:nvSpPr>
          <p:spPr>
            <a:xfrm>
              <a:off x="5870160" y="498960"/>
              <a:ext cx="2733840" cy="7689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920" rIns="79920" tIns="39960" bIns="39960" anchor="ctr">
              <a:noAutofit/>
            </a:bodyPr>
            <a:p>
              <a:pPr>
                <a:tabLst>
                  <a:tab algn="l" pos="0"/>
                  <a:tab algn="ctr" pos="2455920"/>
                  <a:tab algn="r" pos="491004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1" lang="es-PE" sz="1200" spc="-1" strike="noStrike">
                  <a:solidFill>
                    <a:srgbClr val="ffffff"/>
                  </a:solidFill>
                  <a:latin typeface="Verdana"/>
                  <a:ea typeface="Calibri"/>
                </a:rPr>
                <a:t>Dirección Nacional de</a:t>
              </a:r>
              <a:endParaRPr b="1" i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ctr" pos="2455920"/>
                  <a:tab algn="r" pos="491004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1" lang="es-PE" sz="1200" spc="-1" strike="noStrike">
                  <a:solidFill>
                    <a:srgbClr val="ffffff"/>
                  </a:solidFill>
                  <a:latin typeface="Verdana"/>
                  <a:ea typeface="Calibri"/>
                </a:rPr>
                <a:t>Contabilidad Pública</a:t>
              </a:r>
              <a:endParaRPr b="1" i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6" name="Rectangle 10"/>
            <p:cNvSpPr/>
            <p:nvPr/>
          </p:nvSpPr>
          <p:spPr>
            <a:xfrm>
              <a:off x="3136320" y="498960"/>
              <a:ext cx="2733840" cy="76896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920" rIns="79920" tIns="39960" bIns="39960" anchor="ctr">
              <a:noAutofit/>
            </a:bodyPr>
            <a:p>
              <a:pPr>
                <a:tabLst>
                  <a:tab algn="l" pos="0"/>
                  <a:tab algn="ctr" pos="2455920"/>
                  <a:tab algn="r" pos="491004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1" lang="es-PE" sz="1200" spc="-1" strike="noStrike">
                  <a:solidFill>
                    <a:srgbClr val="ffffff"/>
                  </a:solidFill>
                  <a:latin typeface="Verdana"/>
                  <a:ea typeface="Calibri"/>
                </a:rPr>
                <a:t>Ministerio de</a:t>
              </a:r>
              <a:endParaRPr b="1" i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ctr" pos="2455920"/>
                  <a:tab algn="r" pos="491004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1" lang="es-PE" sz="1200" spc="-1" strike="noStrike">
                  <a:solidFill>
                    <a:srgbClr val="ffffff"/>
                  </a:solidFill>
                  <a:latin typeface="Verdana"/>
                  <a:ea typeface="Calibri"/>
                </a:rPr>
                <a:t>Economía y Finanzas</a:t>
              </a:r>
              <a:endParaRPr b="1" i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7" name="Rectangle 11"/>
            <p:cNvSpPr/>
            <p:nvPr/>
          </p:nvSpPr>
          <p:spPr>
            <a:xfrm>
              <a:off x="1663920" y="498960"/>
              <a:ext cx="1565280" cy="76896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920" rIns="79920" tIns="39960" bIns="39960" anchor="ctr">
              <a:noAutofit/>
            </a:bodyPr>
            <a:p>
              <a:pPr algn="ctr">
                <a:tabLst>
                  <a:tab algn="l" pos="0"/>
                  <a:tab algn="ctr" pos="2455920"/>
                  <a:tab algn="r" pos="491004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1" lang="es-PE" sz="1200" spc="-1" strike="noStrike">
                  <a:solidFill>
                    <a:srgbClr val="ffffff"/>
                  </a:solidFill>
                  <a:latin typeface="Verdana"/>
                  <a:ea typeface="Calibri"/>
                </a:rPr>
                <a:t>PERÚ</a:t>
              </a:r>
              <a:endParaRPr b="1" i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588" name="17 Rectángulo" descr=""/>
          <p:cNvPicPr/>
          <p:nvPr/>
        </p:nvPicPr>
        <p:blipFill>
          <a:blip r:embed="rId2"/>
          <a:stretch/>
        </p:blipFill>
        <p:spPr>
          <a:xfrm>
            <a:off x="353880" y="2730600"/>
            <a:ext cx="8436240" cy="780840"/>
          </a:xfrm>
          <a:prstGeom prst="rect">
            <a:avLst/>
          </a:prstGeom>
          <a:ln w="0">
            <a:noFill/>
          </a:ln>
        </p:spPr>
      </p:pic>
      <p:sp>
        <p:nvSpPr>
          <p:cNvPr id="589" name="15 CuadroTexto"/>
          <p:cNvSpPr/>
          <p:nvPr/>
        </p:nvSpPr>
        <p:spPr>
          <a:xfrm>
            <a:off x="4357800" y="5214960"/>
            <a:ext cx="400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CPC. JORGE BALTODANO JARA</a:t>
            </a:r>
            <a:endParaRPr b="1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18 CuadroTexto"/>
          <p:cNvSpPr/>
          <p:nvPr/>
        </p:nvSpPr>
        <p:spPr>
          <a:xfrm>
            <a:off x="5072040" y="5715000"/>
            <a:ext cx="32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Lima, diciembre de 2009</a:t>
            </a:r>
            <a:endParaRPr b="1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6 Marcador de número de diapositiva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295B9-05BF-4C5E-BBF2-1E12EB2F5989}" type="slidenum">
              <a:rPr b="0" lang="es-PE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621" name="Object 3"/>
          <p:cNvGraphicFramePr/>
          <p:nvPr/>
        </p:nvGraphicFramePr>
        <p:xfrm>
          <a:off x="363600" y="0"/>
          <a:ext cx="8707320" cy="6923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3600" y="0"/>
                    <a:ext cx="8707320" cy="692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4 Marcador de número de diapositiva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7EAE1-98B0-4B71-BC46-A51BB278B307}" type="slidenum">
              <a:rPr b="0" lang="es-PE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624" name="Object 3"/>
          <p:cNvGraphicFramePr/>
          <p:nvPr/>
        </p:nvGraphicFramePr>
        <p:xfrm>
          <a:off x="841320" y="770040"/>
          <a:ext cx="7620120" cy="5645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1320" y="770040"/>
                    <a:ext cx="7620120" cy="564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5 Marcador de número de diapositiva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5A50E-9434-4D97-BAA0-B39EE70DA099}" type="slidenum">
              <a:rPr b="0" lang="es-PE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627" name="Object 2"/>
          <p:cNvGraphicFramePr/>
          <p:nvPr/>
        </p:nvGraphicFramePr>
        <p:xfrm>
          <a:off x="493560" y="0"/>
          <a:ext cx="8012160" cy="7678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560" y="0"/>
                    <a:ext cx="8012160" cy="767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4 Marcador de número de diapositiva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17C0F-74E9-477D-BD8B-95DF0D2287C8}" type="slidenum">
              <a:rPr b="0" lang="es-PE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630" name="Object 2"/>
          <p:cNvGraphicFramePr/>
          <p:nvPr/>
        </p:nvGraphicFramePr>
        <p:xfrm>
          <a:off x="957240" y="406440"/>
          <a:ext cx="8099280" cy="6807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7240" y="406440"/>
                    <a:ext cx="8099280" cy="680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4 Marcador de número de diapositiva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8A81B-27BF-4E8B-A0CF-3E7F794E8F44}" type="slidenum">
              <a:rPr b="0" lang="es-PE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633" name="Object 2"/>
          <p:cNvGraphicFramePr/>
          <p:nvPr/>
        </p:nvGraphicFramePr>
        <p:xfrm>
          <a:off x="0" y="363600"/>
          <a:ext cx="8969400" cy="7473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63600"/>
                    <a:ext cx="8969400" cy="747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2 Marcador de número de diapositiva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78849-756F-4C1A-89FE-071B4DB73FA3}" type="slidenum">
              <a:rPr b="0" lang="es-PE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6" name="4 CuadroTexto"/>
          <p:cNvSpPr/>
          <p:nvPr/>
        </p:nvSpPr>
        <p:spPr>
          <a:xfrm>
            <a:off x="928800" y="2630520"/>
            <a:ext cx="771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ff0000"/>
                </a:solidFill>
                <a:latin typeface="Arial"/>
                <a:ea typeface="Arial"/>
              </a:rPr>
              <a:t>MUCHAS GRACIAS POR SU ATENCIÓN</a:t>
            </a:r>
            <a:endParaRPr b="1" i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1 Marcador de número de diapositiva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A6773-123D-4622-9CEC-430509C8270D}" type="slidenum">
              <a:rPr b="0" lang="es-PE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3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4" name="Rectangle 6"/>
          <p:cNvSpPr/>
          <p:nvPr/>
        </p:nvSpPr>
        <p:spPr>
          <a:xfrm>
            <a:off x="214200" y="858960"/>
            <a:ext cx="857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1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6 Rectángulo"/>
          <p:cNvSpPr/>
          <p:nvPr/>
        </p:nvSpPr>
        <p:spPr>
          <a:xfrm>
            <a:off x="1071720" y="285840"/>
            <a:ext cx="700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  <a:ea typeface="Arial"/>
              </a:rPr>
              <a:t>INSTRUCTIVO CONTABLE Nº 5</a:t>
            </a:r>
            <a:endParaRPr b="1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7 Rectángulo"/>
          <p:cNvSpPr/>
          <p:nvPr/>
        </p:nvSpPr>
        <p:spPr>
          <a:xfrm>
            <a:off x="1143000" y="857160"/>
            <a:ext cx="678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Arial"/>
                <a:ea typeface="Arial"/>
              </a:rPr>
              <a:t>ESTADO DE FLUJOS DE EFECTIVO</a:t>
            </a:r>
            <a:endParaRPr b="1" i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597" name="Object 1026"/>
          <p:cNvGraphicFramePr/>
          <p:nvPr/>
        </p:nvGraphicFramePr>
        <p:xfrm>
          <a:off x="290520" y="1450800"/>
          <a:ext cx="8113680" cy="5443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8" name="Object 10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0520" y="1450800"/>
                    <a:ext cx="8113680" cy="544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1 Marcador de número de diapositiva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E7B23-1543-46BF-857A-9F14C9407695}" type="slidenum">
              <a:rPr b="0" lang="es-PE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600" name="Object 0"/>
          <p:cNvGraphicFramePr/>
          <p:nvPr/>
        </p:nvGraphicFramePr>
        <p:xfrm>
          <a:off x="290520" y="609480"/>
          <a:ext cx="8244000" cy="592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1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0520" y="609480"/>
                    <a:ext cx="8244000" cy="592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1 Marcador de número de diapositiva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96E83-287F-4FC5-8864-C168767AF7E5}" type="slidenum">
              <a:rPr b="0" lang="es-PE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603" name="Object 3"/>
          <p:cNvGraphicFramePr/>
          <p:nvPr/>
        </p:nvGraphicFramePr>
        <p:xfrm>
          <a:off x="914400" y="682560"/>
          <a:ext cx="7199280" cy="5079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682560"/>
                    <a:ext cx="7199280" cy="507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5 Marcador de número de diapositiva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164B6-88D5-41A3-B948-7B5466024C57}" type="slidenum">
              <a:rPr b="0" lang="es-PE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606" name="Object 4"/>
          <p:cNvGraphicFramePr/>
          <p:nvPr/>
        </p:nvGraphicFramePr>
        <p:xfrm>
          <a:off x="928800" y="1074600"/>
          <a:ext cx="7765920" cy="5210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800" y="1074600"/>
                    <a:ext cx="7765920" cy="521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5 Marcador de número de diapositiva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3820F-3B74-4991-B239-3863DB4E5DB7}" type="slidenum">
              <a:rPr b="0" lang="es-PE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609" name="Object 2"/>
          <p:cNvGraphicFramePr/>
          <p:nvPr/>
        </p:nvGraphicFramePr>
        <p:xfrm>
          <a:off x="914400" y="536400"/>
          <a:ext cx="7170840" cy="5370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536400"/>
                    <a:ext cx="7170840" cy="537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5 Marcador de número de diapositiva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00A98-4CDD-4882-9F2D-7C0ABDE1AE7A}" type="slidenum">
              <a:rPr b="0" lang="es-PE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612" name="Object 2"/>
          <p:cNvGraphicFramePr/>
          <p:nvPr/>
        </p:nvGraphicFramePr>
        <p:xfrm>
          <a:off x="1146240" y="1684440"/>
          <a:ext cx="6750000" cy="3468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6240" y="1684440"/>
                    <a:ext cx="6750000" cy="346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4 Marcador de número de diapositiva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4A630-47E3-4BF9-B3E9-716B02B6E397}" type="slidenum">
              <a:rPr b="0" lang="es-PE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615" name="Object 2"/>
          <p:cNvGraphicFramePr/>
          <p:nvPr/>
        </p:nvGraphicFramePr>
        <p:xfrm>
          <a:off x="1074600" y="682560"/>
          <a:ext cx="7081920" cy="5718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4600" y="682560"/>
                    <a:ext cx="7081920" cy="571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6 Marcador de número de diapositiva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9A70F-EE5E-40AA-861B-A8681F5C645E}" type="slidenum">
              <a:rPr b="0" lang="es-PE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618" name="Object 4"/>
          <p:cNvGraphicFramePr/>
          <p:nvPr/>
        </p:nvGraphicFramePr>
        <p:xfrm>
          <a:off x="682560" y="290520"/>
          <a:ext cx="7910640" cy="6488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2560" y="290520"/>
                    <a:ext cx="7910640" cy="648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3T20:11:30Z</dcterms:created>
  <dc:creator>Aldo Vallejo</dc:creator>
  <dc:description/>
  <dc:language>en-US</dc:language>
  <cp:lastModifiedBy>mef</cp:lastModifiedBy>
  <cp:lastPrinted>2004-07-15T16:43:21Z</cp:lastPrinted>
  <dcterms:modified xsi:type="dcterms:W3CDTF">2009-12-15T00:56:15Z</dcterms:modified>
  <cp:revision>802</cp:revision>
  <dc:subject/>
  <dc:title>Presentación de PowerPoint</dc:title>
</cp:coreProperties>
</file>