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45.wmf" ContentType="image/x-wmf"/>
  <Override PartName="/ppt/media/image2.png" ContentType="image/png"/>
  <Override PartName="/ppt/media/image46.wmf" ContentType="image/x-wmf"/>
  <Override PartName="/ppt/media/image48.wmf" ContentType="image/x-wmf"/>
  <Override PartName="/ppt/media/image1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10666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2F9F-4E57-4E2C-B7F5-17682F213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1351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1680" y="1947600"/>
            <a:ext cx="9334440" cy="2260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1680" y="4423680"/>
            <a:ext cx="9334440" cy="2260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4224-78D4-4814-BE06-94E911F1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1351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1680" y="1947600"/>
            <a:ext cx="4555080" cy="2260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45000" y="1947600"/>
            <a:ext cx="4555080" cy="2260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1680" y="4423680"/>
            <a:ext cx="4555080" cy="2260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445000" y="4423680"/>
            <a:ext cx="4555080" cy="2260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A3AC-97D8-4131-BA75-D732259AA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1351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1680" y="1947600"/>
            <a:ext cx="3005280" cy="2260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7440" y="1947600"/>
            <a:ext cx="3005280" cy="2260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973560" y="1947600"/>
            <a:ext cx="3005280" cy="2260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61680" y="4423680"/>
            <a:ext cx="3005280" cy="2260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7440" y="4423680"/>
            <a:ext cx="3005280" cy="2260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973560" y="4423680"/>
            <a:ext cx="3005280" cy="2260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D3FF-1BF0-4450-BBE5-1FF119A2A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B7D6-EF39-48CF-95AA-F3C51DD3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1351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61680" y="1947600"/>
            <a:ext cx="9334440" cy="47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08AD-A12E-4A81-9AFD-7C03C07A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1351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1680" y="1947600"/>
            <a:ext cx="9334440" cy="4740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A36A-CE9A-41D7-8FC7-F2401693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1351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61680" y="1947600"/>
            <a:ext cx="4555080" cy="4740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445000" y="1947600"/>
            <a:ext cx="4555080" cy="4740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0740-95E1-4897-BE6E-69AD9C2C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1351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D000-1307-40D7-9221-B73D507B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69600" y="337680"/>
            <a:ext cx="9334440" cy="62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8B31-5239-4923-8309-FCF17518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1351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1680" y="1947600"/>
            <a:ext cx="4555080" cy="2260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45000" y="1947600"/>
            <a:ext cx="4555080" cy="4740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1680" y="4423680"/>
            <a:ext cx="4555080" cy="2260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010A-9B70-4CD0-8443-CF34F2B7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1351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61680" y="1947600"/>
            <a:ext cx="9334440" cy="47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6D36-640C-43F5-B119-9BC8E96F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1351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1680" y="1947600"/>
            <a:ext cx="4555080" cy="4740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45000" y="1947600"/>
            <a:ext cx="4555080" cy="2260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445000" y="4423680"/>
            <a:ext cx="4555080" cy="2260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40BB-274F-490A-A03E-9EAC6971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1351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1680" y="1947600"/>
            <a:ext cx="4555080" cy="2260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45000" y="1947600"/>
            <a:ext cx="4555080" cy="2260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61680" y="4423680"/>
            <a:ext cx="9334440" cy="2260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5ACF-71EA-4D0E-8019-003E7D85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1351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1680" y="1947600"/>
            <a:ext cx="9334440" cy="2260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61680" y="4423680"/>
            <a:ext cx="9334440" cy="2260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A453-DD42-44FE-9E2F-2DE2487D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1351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61680" y="1947600"/>
            <a:ext cx="4555080" cy="2260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445000" y="1947600"/>
            <a:ext cx="4555080" cy="2260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1680" y="4423680"/>
            <a:ext cx="4555080" cy="2260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445000" y="4423680"/>
            <a:ext cx="4555080" cy="2260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9135-437D-4FCA-BAC4-6FDD936C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1351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1680" y="1947600"/>
            <a:ext cx="3005280" cy="2260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7440" y="1947600"/>
            <a:ext cx="3005280" cy="2260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73560" y="1947600"/>
            <a:ext cx="3005280" cy="2260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61680" y="4423680"/>
            <a:ext cx="3005280" cy="2260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7440" y="4423680"/>
            <a:ext cx="3005280" cy="2260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73560" y="4423680"/>
            <a:ext cx="3005280" cy="2260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924A-9994-4423-B4E1-93DE73E56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1351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1680" y="1947600"/>
            <a:ext cx="9334440" cy="4740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ED8A-4A20-45EB-A50A-D2A2153F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1351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61680" y="1947600"/>
            <a:ext cx="4555080" cy="4740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45000" y="1947600"/>
            <a:ext cx="4555080" cy="4740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916A-E379-44FE-B6E1-AC4AC283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1351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A0B8-1542-410C-91FE-9BFA08CC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69600" y="337680"/>
            <a:ext cx="9334440" cy="62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63AF-09AD-4306-93BE-E9B02E3F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1351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61680" y="1947600"/>
            <a:ext cx="4555080" cy="2260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45000" y="1947600"/>
            <a:ext cx="4555080" cy="4740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1680" y="4423680"/>
            <a:ext cx="4555080" cy="2260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337E-84DD-498D-9C5B-9C292BA9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1351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61680" y="1947600"/>
            <a:ext cx="4555080" cy="4740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45000" y="1947600"/>
            <a:ext cx="4555080" cy="2260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445000" y="4423680"/>
            <a:ext cx="4555080" cy="2260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A511-7652-4FD3-838F-59E67720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1351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1680" y="1947600"/>
            <a:ext cx="4555080" cy="2260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45000" y="1947600"/>
            <a:ext cx="4555080" cy="2260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1680" y="4423680"/>
            <a:ext cx="9334440" cy="2260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B13B-BD77-4AAE-AF18-15B28672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1351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947600"/>
            <a:ext cx="9334440" cy="4740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536400" indent="-5364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1038240" indent="-500040">
              <a:spcBef>
                <a:spcPts val="8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2" marL="1490760" indent="-45108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3" marL="1935000" indent="-441000">
              <a:spcBef>
                <a:spcPts val="8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4" marL="2392200" indent="-453960">
              <a:spcBef>
                <a:spcPts val="8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5" marL="2392200" indent="-45396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6" marL="2392200" indent="-45396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711360" y="1741320"/>
            <a:ext cx="9285120" cy="12096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711360" y="6858000"/>
            <a:ext cx="924552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11360" y="6939000"/>
            <a:ext cx="2311200" cy="528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645000" y="6939000"/>
            <a:ext cx="3378240" cy="528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44960" y="6939000"/>
            <a:ext cx="2311560" cy="528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DD2A-6299-4F4D-B0F4-F505C2680872}" type="slidenum">
              <a:rPr b="0" lang="es-E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800280" y="2660760"/>
            <a:ext cx="9067680" cy="120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1351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61680" y="1947600"/>
            <a:ext cx="9334440" cy="4740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536400" indent="-5364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1038240" indent="-500040">
              <a:spcBef>
                <a:spcPts val="8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2" marL="1490760" indent="-45108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3" marL="1935000" indent="-441000">
              <a:spcBef>
                <a:spcPts val="8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4" marL="2392200" indent="-453960">
              <a:spcBef>
                <a:spcPts val="8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5" marL="2392200" indent="-45396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6" marL="2392200" indent="-45396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99920" y="6941880"/>
            <a:ext cx="2222280" cy="507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645000" y="6941880"/>
            <a:ext cx="3378240" cy="507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645320" y="6941880"/>
            <a:ext cx="2222640" cy="507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3DB2-32E6-4F13-BFD1-7D69A793B440}" type="slidenum">
              <a:rPr b="0" lang="es-E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3"/>
          <p:cNvSpPr/>
          <p:nvPr/>
        </p:nvSpPr>
        <p:spPr>
          <a:xfrm>
            <a:off x="2309760" y="5810400"/>
            <a:ext cx="725508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PC JORGE LUIS ROJAS TAF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ma,  diciembre de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6" name="Group 5"/>
          <p:cNvGrpSpPr/>
          <p:nvPr/>
        </p:nvGrpSpPr>
        <p:grpSpPr>
          <a:xfrm>
            <a:off x="1257480" y="1009800"/>
            <a:ext cx="8307000" cy="1039320"/>
            <a:chOff x="1257480" y="1009800"/>
            <a:chExt cx="8307000" cy="1039320"/>
          </a:xfrm>
        </p:grpSpPr>
        <p:grpSp>
          <p:nvGrpSpPr>
            <p:cNvPr id="87" name="Group 6"/>
            <p:cNvGrpSpPr/>
            <p:nvPr/>
          </p:nvGrpSpPr>
          <p:grpSpPr>
            <a:xfrm>
              <a:off x="1257480" y="1009800"/>
              <a:ext cx="987840" cy="1039320"/>
              <a:chOff x="1257480" y="1009800"/>
              <a:chExt cx="987840" cy="1039320"/>
            </a:xfrm>
          </p:grpSpPr>
          <p:pic>
            <p:nvPicPr>
              <p:cNvPr id="88" name="Picture 7" descr="http://www.peruembassy-uk.com/Images/Escudo.gif"/>
              <p:cNvPicPr/>
              <p:nvPr/>
            </p:nvPicPr>
            <p:blipFill>
              <a:blip r:embed="rId1">
                <a:lum bright="12000"/>
              </a:blip>
              <a:stretch/>
            </p:blipFill>
            <p:spPr>
              <a:xfrm>
                <a:off x="1257480" y="1179360"/>
                <a:ext cx="987840" cy="86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WordArt 8"/>
              <p:cNvSpPr txBox="1"/>
              <p:nvPr/>
            </p:nvSpPr>
            <p:spPr>
              <a:xfrm>
                <a:off x="1350720" y="1009800"/>
                <a:ext cx="746640" cy="33912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137261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aaaaaa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atin typeface="Arial Unicode MS"/>
                  </a:rPr>
                  <a:t>REPUBLICA DEL PERU</a:t>
                </a:r>
                <a:endParaRPr b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Unicode MS"/>
                  <a:ea typeface="Arial Unicode MS"/>
                </a:endParaRPr>
              </a:p>
            </p:txBody>
          </p:sp>
        </p:grpSp>
        <p:sp>
          <p:nvSpPr>
            <p:cNvPr id="90" name="Rectangle 9"/>
            <p:cNvSpPr/>
            <p:nvPr/>
          </p:nvSpPr>
          <p:spPr>
            <a:xfrm>
              <a:off x="6327360" y="1039680"/>
              <a:ext cx="3237120" cy="1009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50040" bIns="50040" anchor="ctr">
              <a:noAutofit/>
            </a:bodyPr>
            <a:p>
              <a:pPr>
                <a:tabLst>
                  <a:tab algn="l" pos="0"/>
                  <a:tab algn="ctr" pos="3062160"/>
                  <a:tab algn="r" pos="6121440"/>
                  <a:tab algn="l" pos="6978600"/>
                  <a:tab algn="l" pos="7975440"/>
                  <a:tab algn="l" pos="8972640"/>
                  <a:tab algn="l" pos="9969480"/>
                  <a:tab algn="l" pos="10966320"/>
                </a:tabLst>
              </a:pPr>
              <a:r>
                <a:rPr b="1" lang="es-PE" sz="15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Dirección Nacional de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ctr" pos="3062160"/>
                  <a:tab algn="r" pos="6121440"/>
                  <a:tab algn="l" pos="6978600"/>
                  <a:tab algn="l" pos="7975440"/>
                  <a:tab algn="l" pos="8972640"/>
                  <a:tab algn="l" pos="9969480"/>
                  <a:tab algn="l" pos="10966320"/>
                </a:tabLst>
              </a:pPr>
              <a:r>
                <a:rPr b="1" lang="es-PE" sz="15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Contabilidad Pública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>
              <a:off x="3691800" y="1039680"/>
              <a:ext cx="2635560" cy="100944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50040" bIns="50040" anchor="ctr">
              <a:noAutofit/>
            </a:bodyPr>
            <a:p>
              <a:pPr>
                <a:tabLst>
                  <a:tab algn="l" pos="0"/>
                  <a:tab algn="ctr" pos="3062160"/>
                  <a:tab algn="r" pos="6121440"/>
                  <a:tab algn="l" pos="6978600"/>
                  <a:tab algn="l" pos="7975440"/>
                  <a:tab algn="l" pos="8972640"/>
                  <a:tab algn="l" pos="9969480"/>
                  <a:tab algn="l" pos="10966320"/>
                </a:tabLst>
              </a:pPr>
              <a:r>
                <a:rPr b="1" lang="es-PE" sz="15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Ministerio de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ctr" pos="3062160"/>
                  <a:tab algn="r" pos="6121440"/>
                  <a:tab algn="l" pos="6978600"/>
                  <a:tab algn="l" pos="7975440"/>
                  <a:tab algn="l" pos="8972640"/>
                  <a:tab algn="l" pos="9969480"/>
                  <a:tab algn="l" pos="10966320"/>
                </a:tabLst>
              </a:pPr>
              <a:r>
                <a:rPr b="1" lang="es-PE" sz="15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Economía y Finanzas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>
              <a:off x="2272320" y="1039680"/>
              <a:ext cx="1421640" cy="10094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50040" bIns="50040" anchor="ctr">
              <a:noAutofit/>
            </a:bodyPr>
            <a:p>
              <a:pPr algn="ctr">
                <a:tabLst>
                  <a:tab algn="l" pos="0"/>
                  <a:tab algn="ctr" pos="3062160"/>
                  <a:tab algn="r" pos="6121440"/>
                  <a:tab algn="l" pos="6978600"/>
                  <a:tab algn="l" pos="7975440"/>
                  <a:tab algn="l" pos="8972640"/>
                  <a:tab algn="l" pos="9969480"/>
                  <a:tab algn="l" pos="10966320"/>
                </a:tabLst>
              </a:pPr>
              <a:r>
                <a:rPr b="1" lang="es-PE" sz="15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PERÚ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3" name="Text Box 13"/>
          <p:cNvSpPr/>
          <p:nvPr/>
        </p:nvSpPr>
        <p:spPr>
          <a:xfrm>
            <a:off x="792000" y="2557440"/>
            <a:ext cx="855036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5480"/>
                <a:tab algn="l" pos="2992320"/>
                <a:tab algn="l" pos="3989520"/>
                <a:tab algn="l" pos="4987800"/>
                <a:tab algn="l" pos="5985000"/>
                <a:tab algn="l" pos="6983280"/>
                <a:tab algn="l" pos="7980480"/>
                <a:tab algn="l" pos="8977320"/>
                <a:tab algn="l" pos="9975960"/>
                <a:tab algn="l" pos="109728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5480"/>
                <a:tab algn="l" pos="2992320"/>
                <a:tab algn="l" pos="3989520"/>
                <a:tab algn="l" pos="4987800"/>
                <a:tab algn="l" pos="5985000"/>
                <a:tab algn="l" pos="6983280"/>
                <a:tab algn="l" pos="7980480"/>
                <a:tab algn="l" pos="8977320"/>
                <a:tab algn="l" pos="9975960"/>
                <a:tab algn="l" pos="10972800"/>
              </a:tabLst>
            </a:pPr>
            <a:r>
              <a:rPr b="1" lang="en-GB" sz="3300" spc="-1" strike="noStrike">
                <a:solidFill>
                  <a:srgbClr val="ff0000"/>
                </a:solidFill>
                <a:latin typeface="Arial"/>
                <a:ea typeface="Arial Unicode MS"/>
              </a:rPr>
              <a:t>      </a:t>
            </a:r>
            <a:r>
              <a:rPr b="1" lang="en-GB" sz="3300" spc="-1" strike="noStrike">
                <a:solidFill>
                  <a:srgbClr val="ff0000"/>
                </a:solidFill>
                <a:latin typeface="Arial"/>
                <a:ea typeface="Arial Unicode MS"/>
              </a:rPr>
              <a:t>Plan Contable Gubernamental 2009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736560" y="3462480"/>
            <a:ext cx="8373960" cy="14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51120" bIns="51120" anchor="t">
            <a:spAutoFit/>
          </a:bodyPr>
          <a:p>
            <a:pPr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479520"/>
                <a:tab algn="l" pos="960480"/>
                <a:tab algn="l" pos="1442880"/>
                <a:tab algn="l" pos="1924200"/>
                <a:tab algn="l" pos="2405160"/>
                <a:tab algn="l" pos="2887560"/>
                <a:tab algn="l" pos="3368520"/>
                <a:tab algn="l" pos="3849840"/>
                <a:tab algn="l" pos="4330800"/>
                <a:tab algn="l" pos="4813200"/>
                <a:tab algn="l" pos="5294160"/>
                <a:tab algn="l" pos="5775480"/>
                <a:tab algn="l" pos="6256440"/>
                <a:tab algn="l" pos="6738840"/>
                <a:tab algn="l" pos="7219800"/>
                <a:tab algn="l" pos="7701120"/>
                <a:tab algn="l" pos="8183520"/>
                <a:tab algn="l" pos="8664480"/>
                <a:tab algn="l" pos="9145440"/>
                <a:tab algn="l" pos="9626760"/>
                <a:tab algn="l" pos="9810720"/>
                <a:tab algn="l" pos="10301400"/>
                <a:tab algn="l" pos="1079172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479520"/>
                <a:tab algn="l" pos="960480"/>
                <a:tab algn="l" pos="1442880"/>
                <a:tab algn="l" pos="1924200"/>
                <a:tab algn="l" pos="2405160"/>
                <a:tab algn="l" pos="2887560"/>
                <a:tab algn="l" pos="3368520"/>
                <a:tab algn="l" pos="3849840"/>
                <a:tab algn="l" pos="4330800"/>
                <a:tab algn="l" pos="4813200"/>
                <a:tab algn="l" pos="5294160"/>
                <a:tab algn="l" pos="5775480"/>
                <a:tab algn="l" pos="6256440"/>
                <a:tab algn="l" pos="6738840"/>
                <a:tab algn="l" pos="7219800"/>
                <a:tab algn="l" pos="7701120"/>
                <a:tab algn="l" pos="8183520"/>
                <a:tab algn="l" pos="8664480"/>
                <a:tab algn="l" pos="9145440"/>
                <a:tab algn="l" pos="9626760"/>
                <a:tab algn="l" pos="9810720"/>
                <a:tab algn="l" pos="10301400"/>
                <a:tab algn="l" pos="10791720"/>
              </a:tabLst>
            </a:pPr>
            <a:r>
              <a:rPr b="1" lang="en-GB" sz="3800" spc="-1" strike="noStrike">
                <a:solidFill>
                  <a:srgbClr val="3333cc"/>
                </a:solidFill>
                <a:latin typeface="Arial"/>
                <a:ea typeface="Arial Unicode MS"/>
              </a:rPr>
              <a:t>       </a:t>
            </a:r>
            <a:r>
              <a:rPr b="1" lang="en-GB" sz="3800" spc="-1" strike="noStrike">
                <a:solidFill>
                  <a:srgbClr val="3333cc"/>
                </a:solidFill>
                <a:latin typeface="Arial"/>
                <a:ea typeface="Arial Unicode MS"/>
              </a:rPr>
              <a:t>Casos de Registro Contab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1351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br>
              <a:rPr sz="3900"/>
            </a:br>
            <a:r>
              <a:rPr b="0" lang="es-ES" sz="3200" spc="-1" strike="noStrike">
                <a:solidFill>
                  <a:srgbClr val="cc0000"/>
                </a:solidFill>
                <a:latin typeface="Verdana"/>
              </a:rPr>
              <a:t>Contabilización del Registro Administrativo por el Diferencial Cambiario Desfavorable – </a:t>
            </a:r>
            <a:r>
              <a:rPr b="0" lang="es-ES" sz="32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cc0000"/>
                </a:solidFill>
                <a:latin typeface="Verdana"/>
              </a:rPr>
              <a:t>       Tipo de Operación “YT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3760" y="1506240"/>
            <a:ext cx="4591080" cy="4740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536400" indent="0">
              <a:spcBef>
                <a:spcPts val="7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spcBef>
                <a:spcPts val="7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509760" y="1865160"/>
          <a:ext cx="9486720" cy="496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1865160"/>
                    <a:ext cx="948672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2535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Verdana"/>
              </a:rPr>
              <a:t>Operación    Complementaria   del   registro  del Diferencial Cambiario Desfavorable, utilizando el Código  de la TO CC 050000-006,  para   afectar  cuentas contables  financieras  y  se  pueda  </a:t>
            </a:r>
            <a:r>
              <a:rPr b="0" lang="es-ES" sz="28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cc0000"/>
                </a:solidFill>
                <a:latin typeface="Verdana"/>
              </a:rPr>
              <a:t>     visualizar en el Libro banco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61680" y="1947600"/>
            <a:ext cx="4591080" cy="4740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536400" indent="0">
              <a:spcBef>
                <a:spcPts val="7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spcBef>
                <a:spcPts val="7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725400" y="2730600"/>
          <a:ext cx="9271080" cy="410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400" y="2730600"/>
                    <a:ext cx="927108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1351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61680" y="1947600"/>
            <a:ext cx="4591080" cy="4740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536400" indent="0">
              <a:spcBef>
                <a:spcPts val="7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spcBef>
                <a:spcPts val="7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spcBef>
                <a:spcPts val="7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2" name="Object 4"/>
          <p:cNvGraphicFramePr/>
          <p:nvPr/>
        </p:nvGraphicFramePr>
        <p:xfrm>
          <a:off x="1879560" y="1793880"/>
          <a:ext cx="6961320" cy="4968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1793880"/>
                    <a:ext cx="696132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1351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Verdana"/>
              </a:rPr>
              <a:t>Por la suscripción del Contrato de Endeudamiento, </a:t>
            </a:r>
            <a:r>
              <a:rPr b="0" lang="es-ES" sz="28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cc0000"/>
                </a:solidFill>
                <a:latin typeface="Verdana"/>
              </a:rPr>
              <a:t>   sin garantía del Supremo Gobierno</a:t>
            </a:r>
            <a:br>
              <a:rPr sz="2800"/>
            </a:br>
            <a:r>
              <a:rPr b="0" lang="es-ES" sz="2800" spc="-1" strike="noStrike">
                <a:solidFill>
                  <a:srgbClr val="cc0000"/>
                </a:solidFill>
                <a:latin typeface="Verdana"/>
              </a:rPr>
              <a:t>                 Código TO  CC 140000-00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61680" y="1947600"/>
            <a:ext cx="4591080" cy="4740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536400" indent="0">
              <a:spcBef>
                <a:spcPts val="7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spcBef>
                <a:spcPts val="7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spcBef>
                <a:spcPts val="7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6" name="Object 4"/>
          <p:cNvGraphicFramePr/>
          <p:nvPr/>
        </p:nvGraphicFramePr>
        <p:xfrm>
          <a:off x="725400" y="1938240"/>
          <a:ext cx="9271080" cy="489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400" y="1938240"/>
                    <a:ext cx="927108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45760" y="930240"/>
            <a:ext cx="9829800" cy="479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0000"/>
                </a:solidFill>
                <a:latin typeface="Arial"/>
              </a:rPr>
              <a:t>Desembolsos por endeudamiento del Banco de la Nació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050840" y="239760"/>
            <a:ext cx="8001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74640" y="1409760"/>
          <a:ext cx="9533160" cy="4848120"/>
        </p:xfrm>
        <a:graphic>
          <a:graphicData uri="http://schemas.openxmlformats.org/drawingml/2006/table">
            <a:tbl>
              <a:tblPr/>
              <a:tblGrid>
                <a:gridCol w="1585800"/>
                <a:gridCol w="7947360"/>
              </a:tblGrid>
              <a:tr h="681120"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04400" marR="104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RESOS PRESUPUES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04400" marR="104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0760"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04400" marR="104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DEUDA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04400" marR="104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1120"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8.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04400" marR="104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DEUDAMIENTO INTER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04400" marR="104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1120"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8.2.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04400" marR="104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EDITOS INTER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04400" marR="104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1120"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8.2.1.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04400" marR="104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ROS CREDITOS INTER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04400" marR="104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0760"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8.2.1.2.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04400" marR="104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 BANCO DE LA NAC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04400" marR="104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04400" marR="104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embolso Recibido   S/. 5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eses por devengar S/. 1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04400" marR="104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45760" y="930240"/>
            <a:ext cx="9829800" cy="479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ff0000"/>
                </a:solidFill>
                <a:latin typeface="Arial"/>
              </a:rPr>
              <a:t>Desembolsos por endeudamiento del Banco de la Nació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050840" y="239760"/>
            <a:ext cx="8001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712800" y="1330200"/>
            <a:ext cx="9813960" cy="604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45760" y="930240"/>
            <a:ext cx="9829800" cy="479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67000"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cc0000"/>
                </a:solidFill>
                <a:latin typeface="Arial"/>
              </a:rPr>
              <a:t>Desembolsos por endeudamiento del Banco de la Nación</a:t>
            </a:r>
            <a:r>
              <a:rPr b="1" lang="es-MX" sz="2500" spc="-1" strike="noStrike">
                <a:solidFill>
                  <a:srgbClr val="cc0000"/>
                </a:solidFill>
                <a:latin typeface="Arial"/>
              </a:rPr>
              <a:t> (Registro de intereses por devengar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050840" y="239760"/>
            <a:ext cx="8001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630360" y="1743120"/>
            <a:ext cx="9896400" cy="30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1351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s-ES" sz="3900" spc="-1" strike="noStrike">
                <a:solidFill>
                  <a:srgbClr val="cc0000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cc0000"/>
                </a:solidFill>
                <a:latin typeface="Verdana"/>
              </a:rPr>
              <a:t>Recepción del Desembolso (Rebaja de </a:t>
            </a:r>
            <a:r>
              <a:rPr b="1" lang="es-ES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cc0000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cc0000"/>
                </a:solidFill>
                <a:latin typeface="Verdana"/>
              </a:rPr>
              <a:t>         </a:t>
            </a:r>
            <a:r>
              <a:rPr b="1" lang="es-ES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cc0000"/>
                </a:solidFill>
                <a:latin typeface="Verdana"/>
              </a:rPr>
              <a:t>             cuentas de orden)</a:t>
            </a:r>
            <a:br>
              <a:rPr sz="2400"/>
            </a:br>
            <a:r>
              <a:rPr b="1" lang="es-ES" sz="2400" spc="-1" strike="noStrike">
                <a:solidFill>
                  <a:srgbClr val="cc0000"/>
                </a:solidFill>
                <a:latin typeface="Verdana"/>
              </a:rPr>
              <a:t>          Código de la TO CC 140000-00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8" name="Object 3"/>
          <p:cNvGraphicFramePr/>
          <p:nvPr/>
        </p:nvGraphicFramePr>
        <p:xfrm>
          <a:off x="874800" y="1865160"/>
          <a:ext cx="890748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0" y="1865160"/>
                    <a:ext cx="89074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45760" y="930240"/>
            <a:ext cx="9829800" cy="479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cc0000"/>
                </a:solidFill>
                <a:latin typeface="Arial"/>
              </a:rPr>
              <a:t>Pago de cuota de préstamo recibido del Banco de la Nació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1050840" y="239760"/>
            <a:ext cx="8001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81040" y="2225520"/>
          <a:ext cx="9756720" cy="2829240"/>
        </p:xfrm>
        <a:graphic>
          <a:graphicData uri="http://schemas.openxmlformats.org/drawingml/2006/table">
            <a:tbl>
              <a:tblPr/>
              <a:tblGrid>
                <a:gridCol w="1849320"/>
                <a:gridCol w="7907400"/>
              </a:tblGrid>
              <a:tr h="708120"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04400" marR="104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STOS PRESUPUES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04400" marR="104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04400" marR="104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VICIO DE LA DEUDA PUBL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04400" marR="104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8120"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.1.2.3.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04400" marR="104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ORTIZACION/DEL BANCO DE LA NACION       S/. 7,00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04400" marR="104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.2.2.3.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04400" marR="104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ESES/DEL BANCO DE LA NACION              S/.  3,00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04400" marR="104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45760" y="930240"/>
            <a:ext cx="9829800" cy="71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ff0000"/>
                </a:solidFill>
                <a:latin typeface="Arial"/>
              </a:rPr>
              <a:t>Pago de cuota de préstamo recibido del Banco de la Nación </a:t>
            </a:r>
            <a:r>
              <a:rPr b="1" lang="es-MX" sz="2500" spc="-1" strike="noStrike">
                <a:solidFill>
                  <a:srgbClr val="ff0000"/>
                </a:solidFill>
                <a:latin typeface="Arial"/>
              </a:rPr>
              <a:t>(Compromiso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1050840" y="239760"/>
            <a:ext cx="8001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630360" y="1730520"/>
            <a:ext cx="9896400" cy="36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69600" y="641520"/>
            <a:ext cx="9334440" cy="2304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Verdana"/>
              </a:rPr>
              <a:t>Registro contable de la Asignación Financiera autorizado   por   la   DNTP,   como   Ingresos Presupuestarios, Fuente de Financiamiento 5 Recursos Determinados, Rubro 18, Tipo de Recursos “K” Sobrecanon Petroler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1680" y="1947600"/>
            <a:ext cx="9334440" cy="4740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536400" indent="0">
              <a:spcBef>
                <a:spcPts val="850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spcBef>
                <a:spcPts val="850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spcBef>
                <a:spcPts val="850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941400" y="3017880"/>
            <a:ext cx="8929800" cy="43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lasificador presupuestal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         Ingresos Presupuestarios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1.4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         Donaciones y Trasferencias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1.4.14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Por Participaciones de Recursos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Determinados 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1.4.14.1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Canon y Sobrecanon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1.4.14.12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Sobrecanon Petroler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45760" y="930240"/>
            <a:ext cx="9829800" cy="71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ff0000"/>
                </a:solidFill>
                <a:latin typeface="Arial"/>
              </a:rPr>
              <a:t>Pago de cuota de préstamo recibido del Banco de la Nación </a:t>
            </a:r>
            <a:r>
              <a:rPr b="1" lang="es-MX" sz="2500" spc="-1" strike="noStrike">
                <a:solidFill>
                  <a:srgbClr val="ff0000"/>
                </a:solidFill>
                <a:latin typeface="Arial"/>
              </a:rPr>
              <a:t>(Devengado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050840" y="239760"/>
            <a:ext cx="8001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30360" y="1676520"/>
            <a:ext cx="989640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45760" y="209520"/>
            <a:ext cx="9829800" cy="1440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300" spc="-1" strike="noStrike">
                <a:solidFill>
                  <a:srgbClr val="ff0000"/>
                </a:solidFill>
                <a:latin typeface="Arial"/>
              </a:rPr>
              <a:t>Pago de cuota de préstamo recibido del Banco de la Nación </a:t>
            </a:r>
            <a:r>
              <a:rPr b="1" lang="es-MX" sz="3300" spc="-1" strike="noStrike">
                <a:solidFill>
                  <a:srgbClr val="ff0000"/>
                </a:solidFill>
                <a:latin typeface="Arial"/>
              </a:rPr>
              <a:t>(Girado)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050840" y="239760"/>
            <a:ext cx="8001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630360" y="1392120"/>
            <a:ext cx="9896400" cy="537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1351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Pago de cuota de préstamo recibido del Banco de la </a:t>
            </a: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    Nación </a:t>
            </a: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(Girado-Cuentas de Orde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1680" y="1947600"/>
            <a:ext cx="4591080" cy="4740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536400" indent="0">
              <a:spcBef>
                <a:spcPts val="7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spcBef>
                <a:spcPts val="7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4" name="Object 4"/>
          <p:cNvGraphicFramePr/>
          <p:nvPr/>
        </p:nvGraphicFramePr>
        <p:xfrm>
          <a:off x="797040" y="2154240"/>
          <a:ext cx="9199440" cy="46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040" y="2154240"/>
                    <a:ext cx="91994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45760" y="930240"/>
            <a:ext cx="9829800" cy="71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ff0000"/>
                </a:solidFill>
                <a:latin typeface="Arial"/>
              </a:rPr>
              <a:t>Pago de cuota de préstamo recibido del Banco de la Nación </a:t>
            </a:r>
            <a:r>
              <a:rPr b="1" lang="es-MX" sz="2500" spc="-1" strike="noStrike">
                <a:solidFill>
                  <a:srgbClr val="ff0000"/>
                </a:solidFill>
                <a:latin typeface="Arial"/>
              </a:rPr>
              <a:t>(intereses devengados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050840" y="239760"/>
            <a:ext cx="8001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546120" y="1730520"/>
            <a:ext cx="9980640" cy="30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506520" y="930240"/>
            <a:ext cx="90709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Autofit/>
          </a:bodyPr>
          <a:p>
            <a:pPr marL="512640" indent="-5126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98640"/>
                <a:tab algn="l" pos="1996920"/>
                <a:tab algn="l" pos="2995560"/>
                <a:tab algn="l" pos="3994200"/>
                <a:tab algn="l" pos="4992840"/>
                <a:tab algn="l" pos="5991120"/>
                <a:tab algn="l" pos="6989760"/>
                <a:tab algn="l" pos="7988400"/>
                <a:tab algn="l" pos="8986680"/>
                <a:tab algn="l" pos="998532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Transferencias de recursos financieros a la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2640" indent="-5126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98640"/>
                <a:tab algn="l" pos="1996920"/>
                <a:tab algn="l" pos="2995560"/>
                <a:tab algn="l" pos="3994200"/>
                <a:tab algn="l" pos="4992840"/>
                <a:tab algn="l" pos="5991120"/>
                <a:tab algn="l" pos="6989760"/>
                <a:tab algn="l" pos="7988400"/>
                <a:tab algn="l" pos="8986680"/>
                <a:tab algn="l" pos="998532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Universidades Públicas- Tipo de Operación T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2640" indent="-5126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98640"/>
                <a:tab algn="l" pos="1996920"/>
                <a:tab algn="l" pos="2995560"/>
                <a:tab algn="l" pos="3994200"/>
                <a:tab algn="l" pos="4992840"/>
                <a:tab algn="l" pos="5991120"/>
                <a:tab algn="l" pos="6989760"/>
                <a:tab algn="l" pos="7988400"/>
                <a:tab algn="l" pos="8986680"/>
                <a:tab algn="l" pos="99853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2640" indent="-5126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98640"/>
                <a:tab algn="l" pos="1996920"/>
                <a:tab algn="l" pos="2995560"/>
                <a:tab algn="l" pos="3994200"/>
                <a:tab algn="l" pos="4992840"/>
                <a:tab algn="l" pos="5991120"/>
                <a:tab algn="l" pos="6989760"/>
                <a:tab algn="l" pos="7988400"/>
                <a:tab algn="l" pos="8986680"/>
                <a:tab algn="l" pos="99853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969840" y="239760"/>
            <a:ext cx="738504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8640"/>
                <a:tab algn="l" pos="1996920"/>
                <a:tab algn="l" pos="2995560"/>
                <a:tab algn="l" pos="3994200"/>
                <a:tab algn="l" pos="4992840"/>
                <a:tab algn="l" pos="5991120"/>
                <a:tab algn="l" pos="6989760"/>
                <a:tab algn="l" pos="7988400"/>
                <a:tab algn="l" pos="8986680"/>
                <a:tab algn="l" pos="9985320"/>
              </a:tabLst>
            </a:pPr>
            <a:r>
              <a:rPr b="1" lang="es-MX" sz="3100" spc="-1" strike="noStrike">
                <a:solidFill>
                  <a:srgbClr val="cc0000"/>
                </a:solidFill>
                <a:latin typeface="Arial"/>
              </a:rPr>
              <a:t>Casos Prácticos</a:t>
            </a:r>
            <a:r>
              <a:rPr b="1" lang="es-MX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81040" y="2525760"/>
          <a:ext cx="8607240" cy="3444840"/>
        </p:xfrm>
        <a:graphic>
          <a:graphicData uri="http://schemas.openxmlformats.org/drawingml/2006/table">
            <a:tbl>
              <a:tblPr/>
              <a:tblGrid>
                <a:gridCol w="1432080"/>
                <a:gridCol w="7175160"/>
              </a:tblGrid>
              <a:tr h="420480"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STOS PRESUPUESTARIO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NACIONES Y TRANSFERENCIA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7680"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.2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NACIONES Y TRANSFERENCIAS DE CAPITA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7680"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.2.3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OTRAS UNIDADES DE GOBIERN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0200"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.2.3.1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OTRAS UNIDADES DE GOBIERN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0560"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.2.3.11 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OTRAS UNIDADES DEL GOBIERNO NACIONA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3760" y="209520"/>
            <a:ext cx="9334440" cy="519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MX" sz="2700" spc="-1" strike="noStrike">
                <a:solidFill>
                  <a:srgbClr val="ff0000"/>
                </a:solidFill>
                <a:latin typeface="Arial"/>
              </a:rPr>
              <a:t>Transferencias de recursos financieros  (Compromiso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660240" y="1433520"/>
            <a:ext cx="9347400" cy="475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Object 4"/>
          <p:cNvGraphicFramePr/>
          <p:nvPr/>
        </p:nvGraphicFramePr>
        <p:xfrm>
          <a:off x="874800" y="1433520"/>
          <a:ext cx="8907480" cy="5184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4800" y="1433520"/>
                    <a:ext cx="890748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1351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61680" y="1947600"/>
            <a:ext cx="4591080" cy="4740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536400" indent="0">
              <a:spcBef>
                <a:spcPts val="7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spcBef>
                <a:spcPts val="7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514440" y="1123920"/>
          <a:ext cx="9620280" cy="59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1123920"/>
                    <a:ext cx="96202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Rectangle 5"/>
          <p:cNvSpPr/>
          <p:nvPr/>
        </p:nvSpPr>
        <p:spPr>
          <a:xfrm>
            <a:off x="581040" y="425520"/>
            <a:ext cx="97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Transferencias de recursos financieros  (Devengado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1351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61680" y="1947600"/>
            <a:ext cx="4591080" cy="4740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536400" indent="0">
              <a:spcBef>
                <a:spcPts val="7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spcBef>
                <a:spcPts val="7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spcBef>
                <a:spcPts val="7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3" name="Object 4"/>
          <p:cNvGraphicFramePr/>
          <p:nvPr/>
        </p:nvGraphicFramePr>
        <p:xfrm>
          <a:off x="361800" y="1314360"/>
          <a:ext cx="9829800" cy="588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1314360"/>
                    <a:ext cx="9829800" cy="588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Rectangle 5"/>
          <p:cNvSpPr/>
          <p:nvPr/>
        </p:nvSpPr>
        <p:spPr>
          <a:xfrm>
            <a:off x="941400" y="425520"/>
            <a:ext cx="92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Transferencias de recursos financieros  (Girado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592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61680" y="1947600"/>
            <a:ext cx="4591080" cy="4740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536400" indent="0">
              <a:spcBef>
                <a:spcPts val="7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spcBef>
                <a:spcPts val="7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8" name="Object 4"/>
          <p:cNvGraphicFramePr/>
          <p:nvPr/>
        </p:nvGraphicFramePr>
        <p:xfrm>
          <a:off x="509760" y="1073160"/>
          <a:ext cx="9648720" cy="597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1073160"/>
                    <a:ext cx="964872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Rectangle 5"/>
          <p:cNvSpPr/>
          <p:nvPr/>
        </p:nvSpPr>
        <p:spPr>
          <a:xfrm>
            <a:off x="1012680" y="425520"/>
            <a:ext cx="90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Transferencias de recursos financieros  (Girado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1351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61680" y="1947600"/>
            <a:ext cx="4591080" cy="4740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536400" indent="0">
              <a:spcBef>
                <a:spcPts val="7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spcBef>
                <a:spcPts val="7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spcBef>
                <a:spcPts val="7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3" name="Object 4"/>
          <p:cNvGraphicFramePr/>
          <p:nvPr/>
        </p:nvGraphicFramePr>
        <p:xfrm>
          <a:off x="509760" y="1146240"/>
          <a:ext cx="9486720" cy="583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1146240"/>
                    <a:ext cx="9486720" cy="58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Rectangle 5"/>
          <p:cNvSpPr/>
          <p:nvPr/>
        </p:nvSpPr>
        <p:spPr>
          <a:xfrm>
            <a:off x="581040" y="281160"/>
            <a:ext cx="92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Transferencias de recursos financieros  (Pagado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1351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61680" y="1947600"/>
            <a:ext cx="4591080" cy="4740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536400" indent="0">
              <a:spcBef>
                <a:spcPts val="7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spcBef>
                <a:spcPts val="7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" name="Object 4"/>
          <p:cNvGraphicFramePr/>
          <p:nvPr/>
        </p:nvGraphicFramePr>
        <p:xfrm>
          <a:off x="647640" y="1217520"/>
          <a:ext cx="9315360" cy="568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1217520"/>
                    <a:ext cx="931536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1351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62040" y="2009880"/>
          <a:ext cx="9334440" cy="4968720"/>
        </p:xfrm>
        <a:graphic>
          <a:graphicData uri="http://schemas.openxmlformats.org/drawingml/2006/table">
            <a:tbl>
              <a:tblPr/>
              <a:tblGrid>
                <a:gridCol w="1558800"/>
                <a:gridCol w="7775640"/>
              </a:tblGrid>
              <a:tr h="849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6400" indent="-536400">
                        <a:lnSpc>
                          <a:spcPct val="100000"/>
                        </a:lnSpc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6400" indent="-536400">
                        <a:lnSpc>
                          <a:spcPct val="100000"/>
                        </a:lnSpc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RESOS PRESUPUESTARI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6400" indent="-536400">
                        <a:lnSpc>
                          <a:spcPct val="100000"/>
                        </a:lnSpc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6400" indent="-536400">
                        <a:lnSpc>
                          <a:spcPct val="100000"/>
                        </a:lnSpc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NACIONES Y TRANSFERENCIA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6400" indent="-536400">
                        <a:lnSpc>
                          <a:spcPct val="100000"/>
                        </a:lnSpc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.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6400" indent="-536400">
                        <a:lnSpc>
                          <a:spcPct val="100000"/>
                        </a:lnSpc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NACIONES Y TRANSFERENCIAS DE CAPITA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6400" indent="-536400">
                        <a:lnSpc>
                          <a:spcPct val="100000"/>
                        </a:lnSpc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.2.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6400" indent="-536400">
                        <a:lnSpc>
                          <a:spcPct val="100000"/>
                        </a:lnSpc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OTRAS UNIDADES DE GOBIERN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6400" indent="-536400">
                        <a:lnSpc>
                          <a:spcPct val="100000"/>
                        </a:lnSpc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.2.3.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6400" indent="-536400">
                        <a:lnSpc>
                          <a:spcPct val="100000"/>
                        </a:lnSpc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OTRAS UNIDADES DE GOBIERN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6400" indent="-536400">
                        <a:lnSpc>
                          <a:spcPct val="100000"/>
                        </a:lnSpc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.2.3.1.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6400" indent="-536400">
                        <a:lnSpc>
                          <a:spcPct val="100000"/>
                        </a:lnSpc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LOS GOBIERNOS REGIONAL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Rectangle 26"/>
          <p:cNvSpPr/>
          <p:nvPr/>
        </p:nvSpPr>
        <p:spPr>
          <a:xfrm>
            <a:off x="797040" y="0"/>
            <a:ext cx="9074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Transferencias  Recibidas  de  los  Gobiernos Regionales, por concepto  de Canon y Sobrecanon,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en el Rubro de Transferencias y Dona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Tipo de Operación “ YF “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1351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61680" y="1947600"/>
            <a:ext cx="4591080" cy="4740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536400" indent="0">
              <a:spcBef>
                <a:spcPts val="7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spcBef>
                <a:spcPts val="7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1" name="Object 4"/>
          <p:cNvGraphicFramePr/>
          <p:nvPr/>
        </p:nvGraphicFramePr>
        <p:xfrm>
          <a:off x="654120" y="2081160"/>
          <a:ext cx="9343800" cy="518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4120" y="2081160"/>
                    <a:ext cx="934380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5"/>
          <p:cNvSpPr/>
          <p:nvPr/>
        </p:nvSpPr>
        <p:spPr>
          <a:xfrm>
            <a:off x="725400" y="353880"/>
            <a:ext cx="972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Transferencia Recibidas de los Gobiernos Regionales, por    concepto  de  Canon  y  Sobrecanon -  Rubro  1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                              </a:t>
            </a: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( Recaudado )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1351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25040" y="2081160"/>
            <a:ext cx="4591080" cy="4740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536400" indent="0">
              <a:spcBef>
                <a:spcPts val="7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spcBef>
                <a:spcPts val="7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spcBef>
                <a:spcPts val="7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6" name="Object 4"/>
          <p:cNvGraphicFramePr/>
          <p:nvPr/>
        </p:nvGraphicFramePr>
        <p:xfrm>
          <a:off x="654120" y="2225520"/>
          <a:ext cx="9126360" cy="446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4120" y="2225520"/>
                    <a:ext cx="9126360" cy="44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5"/>
          <p:cNvSpPr/>
          <p:nvPr/>
        </p:nvSpPr>
        <p:spPr>
          <a:xfrm>
            <a:off x="654120" y="281160"/>
            <a:ext cx="96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Transferencia Recibidas de los Gobiernos Regionales, por    concepto  de  Canon  y  Sobrecanon -  Rubro  1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                              </a:t>
            </a: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( Recaudado 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351000" y="930240"/>
            <a:ext cx="90709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Autofit/>
          </a:bodyPr>
          <a:p>
            <a:pPr marL="512640" indent="-51264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98640"/>
                <a:tab algn="l" pos="1996920"/>
                <a:tab algn="l" pos="2995560"/>
                <a:tab algn="l" pos="3994200"/>
                <a:tab algn="l" pos="4992840"/>
                <a:tab algn="l" pos="5991120"/>
                <a:tab algn="l" pos="6989760"/>
                <a:tab algn="l" pos="7988400"/>
                <a:tab algn="l" pos="8986680"/>
                <a:tab algn="l" pos="9985320"/>
              </a:tabLst>
            </a:pPr>
            <a:r>
              <a:rPr b="1" lang="es-MX" sz="2300" spc="-1" strike="noStrike">
                <a:solidFill>
                  <a:srgbClr val="ff0000"/>
                </a:solidFill>
                <a:latin typeface="Arial"/>
              </a:rPr>
              <a:t>Transferencia de FONCOMU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969840" y="239760"/>
            <a:ext cx="738504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8640"/>
                <a:tab algn="l" pos="1996920"/>
                <a:tab algn="l" pos="2995560"/>
                <a:tab algn="l" pos="3994200"/>
                <a:tab algn="l" pos="4992840"/>
                <a:tab algn="l" pos="5991120"/>
                <a:tab algn="l" pos="6989760"/>
                <a:tab algn="l" pos="7988400"/>
                <a:tab algn="l" pos="8986680"/>
                <a:tab algn="l" pos="99853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30200" y="1571760"/>
          <a:ext cx="9532800" cy="4535280"/>
        </p:xfrm>
        <a:graphic>
          <a:graphicData uri="http://schemas.openxmlformats.org/drawingml/2006/table">
            <a:tbl>
              <a:tblPr/>
              <a:tblGrid>
                <a:gridCol w="1587600"/>
                <a:gridCol w="7945200"/>
              </a:tblGrid>
              <a:tr h="636480"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RESOS PRESUPUESTARI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6480"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NACIONES Y TRANSFERENCIA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6840"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.1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NACIONES Y TRANSFERENCIAS CORRIENT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6480"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.1.4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 PARTICIPACIONES DE RECURSOS DETERMINADO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280"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.1.4.5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NDO DE COMPENSACION MUNICIPA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0720"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.1.4.5.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NDO DE COMPENSACION MUNICIPA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658800" y="-351000"/>
            <a:ext cx="86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8640"/>
                <a:tab algn="l" pos="1996920"/>
                <a:tab algn="l" pos="2995560"/>
                <a:tab algn="l" pos="3994200"/>
                <a:tab algn="l" pos="4992840"/>
                <a:tab algn="l" pos="5991120"/>
                <a:tab algn="l" pos="6989760"/>
                <a:tab algn="l" pos="7988400"/>
                <a:tab algn="l" pos="8986680"/>
                <a:tab algn="l" pos="9985320"/>
              </a:tabLst>
            </a:pPr>
            <a:r>
              <a:rPr b="0" lang="es-MX" sz="2600" spc="-1" strike="noStrike">
                <a:solidFill>
                  <a:srgbClr val="ff0000"/>
                </a:solidFill>
                <a:latin typeface="Arial"/>
              </a:rPr>
              <a:t>Transferencia de FONCOMUN (Recaudad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3" name="Object 7"/>
          <p:cNvGraphicFramePr/>
          <p:nvPr/>
        </p:nvGraphicFramePr>
        <p:xfrm>
          <a:off x="609480" y="1490760"/>
          <a:ext cx="9299520" cy="568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90760"/>
                    <a:ext cx="9299520" cy="56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Rectangle 8"/>
          <p:cNvSpPr/>
          <p:nvPr/>
        </p:nvSpPr>
        <p:spPr>
          <a:xfrm>
            <a:off x="2000160" y="209520"/>
            <a:ext cx="47307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8640"/>
                <a:tab algn="l" pos="1996920"/>
                <a:tab algn="l" pos="2995560"/>
                <a:tab algn="l" pos="3994200"/>
                <a:tab algn="l" pos="4992840"/>
                <a:tab algn="l" pos="5991120"/>
                <a:tab algn="l" pos="6989760"/>
                <a:tab algn="l" pos="7988400"/>
                <a:tab algn="l" pos="8986680"/>
                <a:tab algn="l" pos="998532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351000" y="930240"/>
            <a:ext cx="90709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Autofit/>
          </a:bodyPr>
          <a:p>
            <a:pPr marL="512640" indent="-51264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98640"/>
                <a:tab algn="l" pos="1996920"/>
                <a:tab algn="l" pos="2995560"/>
                <a:tab algn="l" pos="3994200"/>
                <a:tab algn="l" pos="4992840"/>
                <a:tab algn="l" pos="5991120"/>
                <a:tab algn="l" pos="6989760"/>
                <a:tab algn="l" pos="7988400"/>
                <a:tab algn="l" pos="8986680"/>
                <a:tab algn="l" pos="9985320"/>
              </a:tabLst>
            </a:pPr>
            <a:r>
              <a:rPr b="0" lang="es-MX" sz="2300" spc="-1" strike="noStrike">
                <a:solidFill>
                  <a:srgbClr val="ff0000"/>
                </a:solidFill>
                <a:latin typeface="Arial"/>
              </a:rPr>
              <a:t>Transferencia de FONCOMUN (Recaudado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969840" y="239760"/>
            <a:ext cx="738504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8640"/>
                <a:tab algn="l" pos="1996920"/>
                <a:tab algn="l" pos="2995560"/>
                <a:tab algn="l" pos="3994200"/>
                <a:tab algn="l" pos="4992840"/>
                <a:tab algn="l" pos="5991120"/>
                <a:tab algn="l" pos="6989760"/>
                <a:tab algn="l" pos="7988400"/>
                <a:tab algn="l" pos="8986680"/>
                <a:tab algn="l" pos="99853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Picture 8" descr=""/>
          <p:cNvPicPr/>
          <p:nvPr/>
        </p:nvPicPr>
        <p:blipFill>
          <a:blip r:embed="rId1"/>
          <a:stretch/>
        </p:blipFill>
        <p:spPr>
          <a:xfrm>
            <a:off x="506520" y="1409760"/>
            <a:ext cx="948060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504720" y="930240"/>
            <a:ext cx="9072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Autofit/>
          </a:bodyPr>
          <a:p>
            <a:pPr marL="512640" indent="-51264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s-MX" sz="2300" spc="-1" strike="noStrike">
                <a:solidFill>
                  <a:srgbClr val="ff0000"/>
                </a:solidFill>
                <a:latin typeface="Arial"/>
              </a:rPr>
              <a:t>Alimentos para el Programa del Vaso de Lech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969840" y="239760"/>
            <a:ext cx="738504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s-MX" sz="31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504720" y="1327320"/>
          <a:ext cx="8799480" cy="3819240"/>
        </p:xfrm>
        <a:graphic>
          <a:graphicData uri="http://schemas.openxmlformats.org/drawingml/2006/table">
            <a:tbl>
              <a:tblPr/>
              <a:tblGrid>
                <a:gridCol w="1465200"/>
                <a:gridCol w="7334280"/>
              </a:tblGrid>
              <a:tr h="636480"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STOS PRESUPUES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6480"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NSIONES Y OTRAS PRESTA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6480"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.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TACIONES Y ASISTENCI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6840"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.2.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REGA DE BIENES Y SERVIC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6480"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.2.3.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OYO ALIMENTA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6480"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.2.3.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IMENTOS PARA PROGRAMA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504720" y="930240"/>
            <a:ext cx="9072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Autofit/>
          </a:bodyPr>
          <a:p>
            <a:pPr marL="512640" indent="-51264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s-MX" sz="2300" spc="-1" strike="noStrike">
                <a:solidFill>
                  <a:srgbClr val="ff0000"/>
                </a:solidFill>
                <a:latin typeface="Arial"/>
              </a:rPr>
              <a:t>Alimentos para el Programa del Vaso de Leche (Compromiso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969840" y="239760"/>
            <a:ext cx="738504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6" descr=""/>
          <p:cNvPicPr/>
          <p:nvPr/>
        </p:nvPicPr>
        <p:blipFill>
          <a:blip r:embed="rId1"/>
          <a:stretch/>
        </p:blipFill>
        <p:spPr>
          <a:xfrm>
            <a:off x="581040" y="1330200"/>
            <a:ext cx="9136080" cy="54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504720" y="930240"/>
            <a:ext cx="9072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Autofit/>
          </a:bodyPr>
          <a:p>
            <a:pPr marL="512640" indent="-51264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s-MX" sz="2300" spc="-1" strike="noStrike">
                <a:solidFill>
                  <a:srgbClr val="ff0000"/>
                </a:solidFill>
                <a:latin typeface="Arial"/>
              </a:rPr>
              <a:t>Alimentos para el Programa del Vaso de Leche (Devengado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969840" y="239760"/>
            <a:ext cx="738504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s-MX" sz="31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6" descr=""/>
          <p:cNvPicPr/>
          <p:nvPr/>
        </p:nvPicPr>
        <p:blipFill>
          <a:blip r:embed="rId1"/>
          <a:stretch/>
        </p:blipFill>
        <p:spPr>
          <a:xfrm>
            <a:off x="581040" y="1351080"/>
            <a:ext cx="913608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504720" y="930240"/>
            <a:ext cx="9072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Autofit/>
          </a:bodyPr>
          <a:p>
            <a:pPr marL="512640" indent="-51264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s-MX" sz="2300" spc="-1" strike="noStrike">
                <a:solidFill>
                  <a:srgbClr val="ff0000"/>
                </a:solidFill>
                <a:latin typeface="Arial"/>
              </a:rPr>
              <a:t>Alimentos para el Programa del Vaso de Leche (Girado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969840" y="239760"/>
            <a:ext cx="738504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s-MX" sz="31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581040" y="1351080"/>
            <a:ext cx="913608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69600" y="280800"/>
            <a:ext cx="9334440" cy="2665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Verdana"/>
              </a:rPr>
              <a:t>Registro contable de los Intereses Generados autorizado   por   la   DNTP,   como   Ingresos Presupuestarios, Fuente de Financiamiento 5 Recursos Determinados, Rubro 18, Tipo de Recursos “K” Sobrecanon Petroler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61680" y="1947600"/>
            <a:ext cx="9334440" cy="4740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536400" indent="0">
              <a:spcBef>
                <a:spcPts val="850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spcBef>
                <a:spcPts val="850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spcBef>
                <a:spcPts val="850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941400" y="2657520"/>
            <a:ext cx="9433080" cy="46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lasificador presupuestal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          Ingresos Presupuestarios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1.5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          Otros Ingresos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1.5.1.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 Rentas de la Propie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1.5.1.1        De la Propiedad Financiera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1.5.1.1.1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 Intereses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1.5.1.1.1.1  Ints. por depósitos distintos a   Recursos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  por Privatización y Concesione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3"/>
          <p:cNvSpPr/>
          <p:nvPr/>
        </p:nvSpPr>
        <p:spPr>
          <a:xfrm>
            <a:off x="504720" y="930240"/>
            <a:ext cx="9072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Autofit/>
          </a:bodyPr>
          <a:p>
            <a:pPr marL="512640" indent="-51264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s-MX" sz="2300" spc="-1" strike="noStrike">
                <a:solidFill>
                  <a:srgbClr val="ff0000"/>
                </a:solidFill>
                <a:latin typeface="Arial"/>
              </a:rPr>
              <a:t>Alimentos para el Programa del Vaso de Leche (Girado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969840" y="239760"/>
            <a:ext cx="738504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s-MX" sz="31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1"/>
          <a:stretch/>
        </p:blipFill>
        <p:spPr>
          <a:xfrm>
            <a:off x="581040" y="1392120"/>
            <a:ext cx="913608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504720" y="930240"/>
            <a:ext cx="9072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Autofit/>
          </a:bodyPr>
          <a:p>
            <a:pPr marL="512640" indent="-51264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s-MX" sz="2300" spc="-1" strike="noStrike">
                <a:solidFill>
                  <a:srgbClr val="ff0000"/>
                </a:solidFill>
                <a:latin typeface="Arial"/>
              </a:rPr>
              <a:t>Alimentos para el Programa del Vaso de Lech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969840" y="239760"/>
            <a:ext cx="738504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s-MX" sz="31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581040" y="1387440"/>
            <a:ext cx="913608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504720" y="930240"/>
            <a:ext cx="9072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Autofit/>
          </a:bodyPr>
          <a:p>
            <a:pPr marL="512640" indent="-51264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s-MX" sz="2300" spc="-1" strike="noStrike">
                <a:solidFill>
                  <a:srgbClr val="ff0000"/>
                </a:solidFill>
                <a:latin typeface="Arial"/>
              </a:rPr>
              <a:t>Registro de gastos de los contratos CA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969840" y="239760"/>
            <a:ext cx="738504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581040" y="1487520"/>
          <a:ext cx="8996400" cy="3819600"/>
        </p:xfrm>
        <a:graphic>
          <a:graphicData uri="http://schemas.openxmlformats.org/drawingml/2006/table">
            <a:tbl>
              <a:tblPr/>
              <a:tblGrid>
                <a:gridCol w="1627200"/>
                <a:gridCol w="7369200"/>
              </a:tblGrid>
              <a:tr h="636480"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STOS PRESUPUES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6840"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ENES Y SERVIC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6480"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3.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RATACION DE SERVIC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6480"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3.2.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RATO ADMINISTRATIVO DE SERVIC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6480"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3.2.8.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RATO ADMINISTRATIVO DE SERVIC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6840"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3.2.8.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RATO ADMINISTRATIVO DE SERVIC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0760" y="209520"/>
            <a:ext cx="9334440" cy="711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s-MX" sz="3300" spc="-1" strike="noStrike">
                <a:solidFill>
                  <a:srgbClr val="cc0000"/>
                </a:solidFill>
                <a:latin typeface="Verdana"/>
              </a:rPr>
              <a:t>                 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1" name="Object 3"/>
          <p:cNvGraphicFramePr/>
          <p:nvPr/>
        </p:nvGraphicFramePr>
        <p:xfrm>
          <a:off x="681120" y="1569960"/>
          <a:ext cx="9334440" cy="519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569960"/>
                    <a:ext cx="9334440" cy="51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Rectangle 4"/>
          <p:cNvSpPr/>
          <p:nvPr/>
        </p:nvSpPr>
        <p:spPr>
          <a:xfrm>
            <a:off x="758880" y="1009800"/>
            <a:ext cx="8083440" cy="435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s-MX" sz="2200" spc="-1" strike="noStrike">
                <a:solidFill>
                  <a:srgbClr val="ff0000"/>
                </a:solidFill>
                <a:latin typeface="Verdana"/>
              </a:rPr>
              <a:t>Registro de gastos de los contratos CAS (Compromis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592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5" name="Object 3"/>
          <p:cNvGraphicFramePr/>
          <p:nvPr/>
        </p:nvGraphicFramePr>
        <p:xfrm>
          <a:off x="662040" y="1490760"/>
          <a:ext cx="9334440" cy="560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490760"/>
                    <a:ext cx="9334440" cy="56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Rectangle 4"/>
          <p:cNvSpPr/>
          <p:nvPr/>
        </p:nvSpPr>
        <p:spPr>
          <a:xfrm>
            <a:off x="1908000" y="3606840"/>
            <a:ext cx="198720" cy="407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t">
            <a:spAutoFit/>
          </a:bodyPr>
          <a:p>
            <a:pPr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758880" y="1009800"/>
            <a:ext cx="8001000" cy="435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s-MX" sz="2200" spc="-1" strike="noStrike">
                <a:solidFill>
                  <a:srgbClr val="ff0000"/>
                </a:solidFill>
                <a:latin typeface="Verdana"/>
              </a:rPr>
              <a:t>Registro de gastos de los contratos CAS (Devengad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3"/>
          <p:cNvSpPr/>
          <p:nvPr/>
        </p:nvSpPr>
        <p:spPr>
          <a:xfrm>
            <a:off x="504720" y="930240"/>
            <a:ext cx="9072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Autofit/>
          </a:bodyPr>
          <a:p>
            <a:pPr marL="512640" indent="-51264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s-MX" sz="2300" spc="-1" strike="noStrike">
                <a:solidFill>
                  <a:srgbClr val="ff0000"/>
                </a:solidFill>
                <a:latin typeface="Arial"/>
              </a:rPr>
              <a:t>Registro de gastos de los contratos CAS (Girado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1981080" y="239760"/>
            <a:ext cx="738504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s-MX" sz="31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6" descr=""/>
          <p:cNvPicPr/>
          <p:nvPr/>
        </p:nvPicPr>
        <p:blipFill>
          <a:blip r:embed="rId1"/>
          <a:stretch/>
        </p:blipFill>
        <p:spPr>
          <a:xfrm>
            <a:off x="581040" y="1390680"/>
            <a:ext cx="91360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3"/>
          <p:cNvSpPr/>
          <p:nvPr/>
        </p:nvSpPr>
        <p:spPr>
          <a:xfrm>
            <a:off x="504720" y="930240"/>
            <a:ext cx="9072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Autofit/>
          </a:bodyPr>
          <a:p>
            <a:pPr marL="512640" indent="-51264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s-MX" sz="2300" spc="-1" strike="noStrike">
                <a:solidFill>
                  <a:srgbClr val="ff0000"/>
                </a:solidFill>
                <a:latin typeface="Arial"/>
              </a:rPr>
              <a:t>Registro de gastos de los contratos CAS (Girado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969840" y="239760"/>
            <a:ext cx="738504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s-MX" sz="31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6" descr=""/>
          <p:cNvPicPr/>
          <p:nvPr/>
        </p:nvPicPr>
        <p:blipFill>
          <a:blip r:embed="rId1"/>
          <a:stretch/>
        </p:blipFill>
        <p:spPr>
          <a:xfrm>
            <a:off x="504720" y="1330200"/>
            <a:ext cx="913608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3360" y="930240"/>
            <a:ext cx="8616960" cy="7192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MX" sz="2900" spc="-1" strike="noStrike">
                <a:solidFill>
                  <a:srgbClr val="cc0000"/>
                </a:solidFill>
                <a:latin typeface="Verdana"/>
              </a:rPr>
              <a:t>Registro de gastos de los contratos CAS (Girado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6" name="Object 5"/>
          <p:cNvGraphicFramePr/>
          <p:nvPr/>
        </p:nvGraphicFramePr>
        <p:xfrm>
          <a:off x="603360" y="1865160"/>
          <a:ext cx="9227880" cy="506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1865160"/>
                    <a:ext cx="9227880" cy="50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Rectangle 6"/>
          <p:cNvSpPr/>
          <p:nvPr/>
        </p:nvSpPr>
        <p:spPr>
          <a:xfrm>
            <a:off x="2752560" y="209520"/>
            <a:ext cx="40323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s-MX" sz="2600" spc="-1" strike="noStrike">
                <a:solidFill>
                  <a:srgbClr val="cc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504720" y="930240"/>
            <a:ext cx="9072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Autofit/>
          </a:bodyPr>
          <a:p>
            <a:pPr marL="512640" indent="-51264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s-MX" sz="2300" spc="-1" strike="noStrike">
                <a:solidFill>
                  <a:srgbClr val="ff0000"/>
                </a:solidFill>
                <a:latin typeface="Arial"/>
              </a:rPr>
              <a:t>Contribuciones sociales de los Contratos CA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969840" y="239760"/>
            <a:ext cx="738504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s-MX" sz="31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81120" y="1490760"/>
          <a:ext cx="9150120" cy="4248000"/>
        </p:xfrm>
        <a:graphic>
          <a:graphicData uri="http://schemas.openxmlformats.org/drawingml/2006/table">
            <a:tbl>
              <a:tblPr/>
              <a:tblGrid>
                <a:gridCol w="1912680"/>
                <a:gridCol w="7237440"/>
              </a:tblGrid>
              <a:tr h="707760"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STOS PRESUPUES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8120"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SONAL Y OBLIGA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8120"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RIBUCIONES A LA SEGURIDAD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8120"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3.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LIGACIONES DEL EMPLE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7760"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3.1.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LIGACIONES DEL EMPLE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8120"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3.1.1.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9720" rIns="99720" tIns="50040" bIns="50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RIBUCIONES A ESSALU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9720" marR="9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3"/>
          <p:cNvSpPr/>
          <p:nvPr/>
        </p:nvSpPr>
        <p:spPr>
          <a:xfrm>
            <a:off x="504720" y="930240"/>
            <a:ext cx="9072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Autofit/>
          </a:bodyPr>
          <a:p>
            <a:pPr marL="512640" indent="-51264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s-MX" sz="2300" spc="-1" strike="noStrike">
                <a:solidFill>
                  <a:srgbClr val="ff0000"/>
                </a:solidFill>
                <a:latin typeface="Arial"/>
              </a:rPr>
              <a:t>Contribuciones sociales de los Contratos CAS (Compromiso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969840" y="239760"/>
            <a:ext cx="738504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s-MX" sz="31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6" descr=""/>
          <p:cNvPicPr/>
          <p:nvPr/>
        </p:nvPicPr>
        <p:blipFill>
          <a:blip r:embed="rId1"/>
          <a:stretch/>
        </p:blipFill>
        <p:spPr>
          <a:xfrm>
            <a:off x="581040" y="1409760"/>
            <a:ext cx="913608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1351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61680" y="1947600"/>
            <a:ext cx="4591080" cy="4740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536400" indent="0">
              <a:spcBef>
                <a:spcPts val="7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spcBef>
                <a:spcPts val="7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647640" y="1219320"/>
          <a:ext cx="9315360" cy="56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1219320"/>
                    <a:ext cx="9315360" cy="56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504720" y="930240"/>
            <a:ext cx="9072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Autofit/>
          </a:bodyPr>
          <a:p>
            <a:pPr marL="512640" indent="-51264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s-MX" sz="2300" spc="-1" strike="noStrike">
                <a:solidFill>
                  <a:srgbClr val="ff0000"/>
                </a:solidFill>
                <a:latin typeface="Arial"/>
              </a:rPr>
              <a:t>Contribuciones sociales de los Contratos CAS (Devengado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969840" y="239760"/>
            <a:ext cx="738504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s-MX" sz="31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Picture 6" descr=""/>
          <p:cNvPicPr/>
          <p:nvPr/>
        </p:nvPicPr>
        <p:blipFill>
          <a:blip r:embed="rId1"/>
          <a:stretch/>
        </p:blipFill>
        <p:spPr>
          <a:xfrm>
            <a:off x="581040" y="1409760"/>
            <a:ext cx="9136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3"/>
          <p:cNvSpPr/>
          <p:nvPr/>
        </p:nvSpPr>
        <p:spPr>
          <a:xfrm>
            <a:off x="504720" y="930240"/>
            <a:ext cx="9072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Autofit/>
          </a:bodyPr>
          <a:p>
            <a:pPr marL="512640" indent="-51264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s-MX" sz="2300" spc="-1" strike="noStrike">
                <a:solidFill>
                  <a:srgbClr val="ff0000"/>
                </a:solidFill>
                <a:latin typeface="Arial"/>
              </a:rPr>
              <a:t>Contribuciones Sociales de los Contratos CAS (Girado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969840" y="239760"/>
            <a:ext cx="738504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s-MX" sz="31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1"/>
          <a:stretch/>
        </p:blipFill>
        <p:spPr>
          <a:xfrm>
            <a:off x="581040" y="1409760"/>
            <a:ext cx="9136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3"/>
          <p:cNvSpPr/>
          <p:nvPr/>
        </p:nvSpPr>
        <p:spPr>
          <a:xfrm>
            <a:off x="504720" y="930240"/>
            <a:ext cx="9072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Autofit/>
          </a:bodyPr>
          <a:p>
            <a:pPr marL="512640" indent="-51264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s-AR" sz="2300" spc="-1" strike="noStrike">
                <a:solidFill>
                  <a:srgbClr val="ff0000"/>
                </a:solidFill>
                <a:latin typeface="Arial"/>
              </a:rPr>
              <a:t>Contribuciones Sociales de los Contratos CAS (Girado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969840" y="239760"/>
            <a:ext cx="738504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s-MX" sz="31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6" descr=""/>
          <p:cNvPicPr/>
          <p:nvPr/>
        </p:nvPicPr>
        <p:blipFill>
          <a:blip r:embed="rId1"/>
          <a:stretch/>
        </p:blipFill>
        <p:spPr>
          <a:xfrm>
            <a:off x="581040" y="1409760"/>
            <a:ext cx="91360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3"/>
          <p:cNvSpPr/>
          <p:nvPr/>
        </p:nvSpPr>
        <p:spPr>
          <a:xfrm>
            <a:off x="504720" y="930240"/>
            <a:ext cx="9072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Autofit/>
          </a:bodyPr>
          <a:p>
            <a:pPr marL="512640" indent="-51264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s-AR" sz="2300" spc="-1" strike="noStrike">
                <a:solidFill>
                  <a:srgbClr val="ff0000"/>
                </a:solidFill>
                <a:latin typeface="Arial"/>
              </a:rPr>
              <a:t>Contribuciones sociales de los Contratos CAS (Girado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969840" y="239760"/>
            <a:ext cx="738504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s-MX" sz="31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6" descr=""/>
          <p:cNvPicPr/>
          <p:nvPr/>
        </p:nvPicPr>
        <p:blipFill>
          <a:blip r:embed="rId1"/>
          <a:stretch/>
        </p:blipFill>
        <p:spPr>
          <a:xfrm>
            <a:off x="581040" y="1374840"/>
            <a:ext cx="932796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19200" y="930240"/>
            <a:ext cx="8616960" cy="7588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s-MX" sz="2400" spc="-1" strike="noStrike">
                <a:solidFill>
                  <a:srgbClr val="cc0000"/>
                </a:solidFill>
                <a:latin typeface="Verdana"/>
              </a:rPr>
              <a:t>Transferencias Otorgadas de Bienes de Capital a Otras Unidades de Gobier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8" name="Object 5"/>
          <p:cNvGraphicFramePr/>
          <p:nvPr/>
        </p:nvGraphicFramePr>
        <p:xfrm>
          <a:off x="603360" y="1649520"/>
          <a:ext cx="8888400" cy="511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1649520"/>
                    <a:ext cx="8888400" cy="51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6"/>
          <p:cNvSpPr/>
          <p:nvPr/>
        </p:nvSpPr>
        <p:spPr>
          <a:xfrm>
            <a:off x="2984400" y="209520"/>
            <a:ext cx="403380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s-MX" sz="26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9200" y="851040"/>
            <a:ext cx="8616960" cy="8380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s-MX" sz="2400" spc="-1" strike="noStrike">
                <a:solidFill>
                  <a:srgbClr val="cc0000"/>
                </a:solidFill>
                <a:latin typeface="Verdana"/>
              </a:rPr>
              <a:t>     </a:t>
            </a:r>
            <a:r>
              <a:rPr b="1" lang="es-MX" sz="2400" spc="-1" strike="noStrike">
                <a:solidFill>
                  <a:srgbClr val="cc0000"/>
                </a:solidFill>
                <a:latin typeface="Verdana"/>
              </a:rPr>
              <a:t>Transferencias Otorgadas de Depreciación     </a:t>
            </a:r>
            <a:r>
              <a:rPr b="1" lang="es-MX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s-MX" sz="2400" spc="-1" strike="noStrike">
                <a:solidFill>
                  <a:srgbClr val="cc0000"/>
                </a:solidFill>
                <a:latin typeface="Verdana"/>
              </a:rPr>
              <a:t>Acumulada por Bienes de Capital, a Otras </a:t>
            </a:r>
            <a:r>
              <a:rPr b="1" lang="es-MX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s-MX" sz="2400" spc="-1" strike="noStrike">
                <a:solidFill>
                  <a:srgbClr val="cc0000"/>
                </a:solidFill>
                <a:latin typeface="Verdana"/>
              </a:rPr>
              <a:t>  </a:t>
            </a:r>
            <a:r>
              <a:rPr b="1" lang="es-MX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s-MX" sz="2400" spc="-1" strike="noStrike">
                <a:solidFill>
                  <a:srgbClr val="cc0000"/>
                </a:solidFill>
                <a:latin typeface="Verdana"/>
              </a:rPr>
              <a:t>  </a:t>
            </a:r>
            <a:r>
              <a:rPr b="1" lang="es-MX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s-MX" sz="2400" spc="-1" strike="noStrike">
                <a:solidFill>
                  <a:srgbClr val="cc0000"/>
                </a:solidFill>
                <a:latin typeface="Verdana"/>
              </a:rPr>
              <a:t>  Unidades de Gobier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2" name="Object 5"/>
          <p:cNvGraphicFramePr/>
          <p:nvPr/>
        </p:nvGraphicFramePr>
        <p:xfrm>
          <a:off x="609480" y="2128680"/>
          <a:ext cx="8616960" cy="464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128680"/>
                    <a:ext cx="8616960" cy="46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Rectangle 6"/>
          <p:cNvSpPr/>
          <p:nvPr/>
        </p:nvSpPr>
        <p:spPr>
          <a:xfrm>
            <a:off x="3832920" y="3606840"/>
            <a:ext cx="218124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asos Práct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19200" y="930240"/>
            <a:ext cx="8616960" cy="7588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s-MX" sz="2400" spc="-1" strike="noStrike">
                <a:solidFill>
                  <a:srgbClr val="cc0000"/>
                </a:solidFill>
                <a:latin typeface="Verdana"/>
              </a:rPr>
              <a:t>Transferencia Recibidas de Bienes de Capital, de </a:t>
            </a:r>
            <a:r>
              <a:rPr b="1" lang="es-MX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s-MX" sz="2400" spc="-1" strike="noStrike">
                <a:solidFill>
                  <a:srgbClr val="cc0000"/>
                </a:solidFill>
                <a:latin typeface="Verdana"/>
              </a:rPr>
              <a:t>        Otras Unidades de Gobier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6" name="Object 5"/>
          <p:cNvGraphicFramePr/>
          <p:nvPr/>
        </p:nvGraphicFramePr>
        <p:xfrm>
          <a:off x="658800" y="1809720"/>
          <a:ext cx="8966160" cy="512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1809720"/>
                    <a:ext cx="8966160" cy="51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Rectangle 6"/>
          <p:cNvSpPr/>
          <p:nvPr/>
        </p:nvSpPr>
        <p:spPr>
          <a:xfrm>
            <a:off x="3867120" y="3578400"/>
            <a:ext cx="19836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373560" y="209520"/>
            <a:ext cx="3954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58800" y="851040"/>
            <a:ext cx="8615520" cy="877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s-MX" sz="2400" spc="-1" strike="noStrike">
                <a:solidFill>
                  <a:srgbClr val="cc0000"/>
                </a:solidFill>
                <a:latin typeface="Verdana"/>
              </a:rPr>
              <a:t>     </a:t>
            </a:r>
            <a:r>
              <a:rPr b="1" lang="es-MX" sz="2400" spc="-1" strike="noStrike">
                <a:solidFill>
                  <a:srgbClr val="cc0000"/>
                </a:solidFill>
                <a:latin typeface="Verdana"/>
              </a:rPr>
              <a:t>Transferencia Recibidas de Depreciación </a:t>
            </a:r>
            <a:r>
              <a:rPr b="1" lang="es-MX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s-MX" sz="2400" spc="-1" strike="noStrike">
                <a:solidFill>
                  <a:srgbClr val="cc0000"/>
                </a:solidFill>
                <a:latin typeface="Verdana"/>
              </a:rPr>
              <a:t>Acumulada por Bienes de Capital  de </a:t>
            </a:r>
            <a:br>
              <a:rPr sz="2400"/>
            </a:br>
            <a:r>
              <a:rPr b="1" lang="es-MX" sz="2400" spc="-1" strike="noStrike">
                <a:solidFill>
                  <a:srgbClr val="cc0000"/>
                </a:solidFill>
                <a:latin typeface="Verdana"/>
              </a:rPr>
              <a:t>                Otras Unidades de Gobier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1" name="Object 5"/>
          <p:cNvGraphicFramePr/>
          <p:nvPr/>
        </p:nvGraphicFramePr>
        <p:xfrm>
          <a:off x="504720" y="1889280"/>
          <a:ext cx="8615520" cy="503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1889280"/>
                    <a:ext cx="8615520" cy="50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Rectangle 6"/>
          <p:cNvSpPr/>
          <p:nvPr/>
        </p:nvSpPr>
        <p:spPr>
          <a:xfrm>
            <a:off x="3294000" y="209520"/>
            <a:ext cx="36450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s-MX" sz="2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19200" y="850680"/>
            <a:ext cx="8616960" cy="958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s-MX" sz="2400" spc="-1" strike="noStrike">
                <a:solidFill>
                  <a:srgbClr val="cc0000"/>
                </a:solidFill>
                <a:latin typeface="Verdana"/>
              </a:rPr>
              <a:t>        </a:t>
            </a:r>
            <a:r>
              <a:rPr b="1" lang="es-MX" sz="2400" spc="-1" strike="noStrike">
                <a:solidFill>
                  <a:srgbClr val="cc0000"/>
                </a:solidFill>
                <a:latin typeface="Verdana"/>
              </a:rPr>
              <a:t>Transferencias Otorgadas de Compensación     </a:t>
            </a:r>
            <a:r>
              <a:rPr b="1" lang="es-MX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s-MX" sz="2400" spc="-1" strike="noStrike">
                <a:solidFill>
                  <a:srgbClr val="cc0000"/>
                </a:solidFill>
                <a:latin typeface="Verdana"/>
              </a:rPr>
              <a:t>de Tiempo de Servicios, a Otras Unidades </a:t>
            </a:r>
            <a:r>
              <a:rPr b="1" lang="es-MX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s-MX" sz="2400" spc="-1" strike="noStrike">
                <a:solidFill>
                  <a:srgbClr val="cc0000"/>
                </a:solidFill>
                <a:latin typeface="Verdana"/>
              </a:rPr>
              <a:t>  </a:t>
            </a:r>
            <a:r>
              <a:rPr b="1" lang="es-MX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s-MX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s-MX" sz="2400" spc="-1" strike="noStrike">
                <a:solidFill>
                  <a:srgbClr val="cc0000"/>
                </a:solidFill>
                <a:latin typeface="Verdana"/>
              </a:rPr>
              <a:t>  de  Gobier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5" name="Object 5"/>
          <p:cNvGraphicFramePr/>
          <p:nvPr/>
        </p:nvGraphicFramePr>
        <p:xfrm>
          <a:off x="750960" y="1889280"/>
          <a:ext cx="8615160" cy="487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960" y="1889280"/>
                    <a:ext cx="8615160" cy="48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Rectangle 6"/>
          <p:cNvSpPr/>
          <p:nvPr/>
        </p:nvSpPr>
        <p:spPr>
          <a:xfrm>
            <a:off x="3373560" y="209520"/>
            <a:ext cx="37987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81040" y="929880"/>
            <a:ext cx="8616960" cy="8002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s-MX" sz="2400" spc="-1" strike="noStrike">
                <a:solidFill>
                  <a:srgbClr val="cc0000"/>
                </a:solidFill>
                <a:latin typeface="Verdana"/>
              </a:rPr>
              <a:t>Transferencias Recibidas por Compensación de Tiempo de     Servicios, de Otras Unidades de </a:t>
            </a:r>
            <a:r>
              <a:rPr b="1" lang="es-MX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s-MX" sz="2400" spc="-1" strike="noStrike">
                <a:solidFill>
                  <a:srgbClr val="cc0000"/>
                </a:solidFill>
                <a:latin typeface="Verdana"/>
              </a:rPr>
              <a:t>  </a:t>
            </a:r>
            <a:r>
              <a:rPr b="1" lang="es-MX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s-MX" sz="2400" spc="-1" strike="noStrike">
                <a:solidFill>
                  <a:srgbClr val="cc0000"/>
                </a:solidFill>
                <a:latin typeface="Verdana"/>
              </a:rPr>
              <a:t>                 Gobier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9" name="Object 5"/>
          <p:cNvGraphicFramePr/>
          <p:nvPr/>
        </p:nvGraphicFramePr>
        <p:xfrm>
          <a:off x="826920" y="1809720"/>
          <a:ext cx="8616960" cy="495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09720"/>
                    <a:ext cx="86169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Rectangle 6"/>
          <p:cNvSpPr/>
          <p:nvPr/>
        </p:nvSpPr>
        <p:spPr>
          <a:xfrm>
            <a:off x="3062160" y="209520"/>
            <a:ext cx="38005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s-MX" sz="22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69600" y="641520"/>
            <a:ext cx="9334440" cy="2304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Verdana"/>
              </a:rPr>
              <a:t>Registro contable de la Asignación Financiera autorizado   por   la   DNTP,   como   Ingresos Presupuestarios, Fuente de Financiamiento 5 Recursos   Determinados,  Rubro  18,  Caso FONIPREL, Tipo de Recursos “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61680" y="1947600"/>
            <a:ext cx="9334440" cy="4740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536400" indent="0">
              <a:spcBef>
                <a:spcPts val="850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spcBef>
                <a:spcPts val="850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spcBef>
                <a:spcPts val="850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941400" y="2514600"/>
            <a:ext cx="9217080" cy="43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lasificador presupuestal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          Ingresos Presupuestarios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1.4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          Donaciones y Trasferencias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1.4.2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 Donaciones de Capi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1.4.2.3        De Otras Unidades de Gobier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1.4.2.3.1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 De Otras Unidades de Gobierno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1.4.2.3.1.5  De Fondos Público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69600" y="338040"/>
            <a:ext cx="9334440" cy="22478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ES" sz="2900" spc="-1" strike="noStrike">
                <a:solidFill>
                  <a:srgbClr val="cc0000"/>
                </a:solidFill>
                <a:latin typeface="Arial Black"/>
              </a:rPr>
              <a:t>PARA EL REGISTRO DE LAS DEVOLUCIONES O     </a:t>
            </a:r>
            <a:r>
              <a:rPr b="0" lang="es-ES" sz="2900" spc="-1" strike="noStrike">
                <a:solidFill>
                  <a:srgbClr val="cc0000"/>
                </a:solidFill>
                <a:latin typeface="Arial Black"/>
              </a:rPr>
              <a:t>	</a:t>
            </a:r>
            <a:r>
              <a:rPr b="0" lang="es-ES" sz="2900" spc="-1" strike="noStrike">
                <a:solidFill>
                  <a:srgbClr val="cc0000"/>
                </a:solidFill>
                <a:latin typeface="Arial Black"/>
              </a:rPr>
              <a:t>REVERSIONES       DE      FONDOS    DE EJERCICIOS ANTERIORES A LA DNTP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61680" y="1947600"/>
            <a:ext cx="9334440" cy="4740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647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4764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Arial Black"/>
              </a:rPr>
              <a:t>  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47640" indent="-64764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 Black"/>
              <a:buAutoNum type="arabicPlain" startAt="1601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0" lang="es-ES" sz="2900" spc="-1" strike="noStrike" u="sng">
                <a:solidFill>
                  <a:srgbClr val="000000"/>
                </a:solidFill>
                <a:uFillTx/>
                <a:latin typeface="Arial Black"/>
              </a:rPr>
              <a:t>TRASPASOS Y REMESAS</a:t>
            </a:r>
            <a:r>
              <a:rPr b="0" lang="es-ES" sz="29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4764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 Black"/>
              </a:rPr>
              <a:t>1601.01</a:t>
            </a:r>
            <a:r>
              <a:rPr b="0" lang="es-ES" sz="29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Arial Black"/>
              </a:rPr>
              <a:t>Traspasos de Fondo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4764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 Black"/>
              </a:rPr>
              <a:t>1601.0101</a:t>
            </a:r>
            <a:r>
              <a:rPr b="0" lang="es-ES" sz="29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Arial Black"/>
              </a:rPr>
              <a:t>Tesoro Publico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4764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 Black"/>
              </a:rPr>
              <a:t>1101</a:t>
            </a:r>
            <a:r>
              <a:rPr b="0" lang="es-ES" sz="29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" sz="2900" spc="-1" strike="noStrike" u="sng">
                <a:solidFill>
                  <a:srgbClr val="000000"/>
                </a:solidFill>
                <a:uFillTx/>
                <a:latin typeface="Arial Black"/>
              </a:rPr>
              <a:t>CAJA Y BANCOS</a:t>
            </a:r>
            <a:r>
              <a:rPr b="0" lang="es-ES" sz="29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4764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 Black"/>
              </a:rPr>
              <a:t>1101.01</a:t>
            </a:r>
            <a:r>
              <a:rPr b="0" lang="es-ES" sz="29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Arial Black"/>
              </a:rPr>
              <a:t>Caj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4764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 Black"/>
              </a:rPr>
              <a:t>1101.0101 Caja Moneda Nacion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2032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ES" sz="3300" spc="-1" strike="noStrike">
                <a:solidFill>
                  <a:srgbClr val="cc0000"/>
                </a:solidFill>
                <a:latin typeface="Arial Black"/>
              </a:rPr>
              <a:t>REGISTRO DE LOS CHEQUES PAGADOS EN EL EJERCICIO POR EL BANCO DE LA NACION DE LA FF RECURSOS ORDINARIOS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61680" y="1947600"/>
            <a:ext cx="9334440" cy="4740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53640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 Black"/>
              </a:rPr>
              <a:t>4402 TRASPASOS Y REMESAS CORRIENTES     </a:t>
            </a:r>
            <a:r>
              <a:rPr b="0" lang="es-ES" sz="29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Arial Black"/>
              </a:rPr>
              <a:t> RECIBID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Arial Black"/>
              </a:rPr>
              <a:t>4402.01   Traspasos del Tesoro Public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 Black"/>
              </a:rPr>
              <a:t>4404 TRASPASOS Y REMESAS DE CAPITAL      </a:t>
            </a:r>
            <a:r>
              <a:rPr b="0" lang="es-ES" sz="29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Arial Black"/>
              </a:rPr>
              <a:t> RECIBID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Arial Black"/>
              </a:rPr>
              <a:t>4404.01   Traspasos del Tesoro Public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69600" y="0"/>
            <a:ext cx="9334440" cy="1866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ES" sz="3300" spc="-1" strike="noStrike">
                <a:solidFill>
                  <a:srgbClr val="cc0000"/>
                </a:solidFill>
                <a:latin typeface="Arial Black"/>
              </a:rPr>
              <a:t>REGISTRO DE LOS CHEQUES GIRADOS EN EL EJERCICIO CON DOCUMENTO Nº 082 GIRO SIN CHEQUE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61680" y="1947600"/>
            <a:ext cx="9334440" cy="4740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53640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 Black"/>
              </a:rPr>
              <a:t>4402 TRASPASOS Y REMESAS CORRIENTES     </a:t>
            </a:r>
            <a:r>
              <a:rPr b="0" lang="es-ES" sz="29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Arial Black"/>
              </a:rPr>
              <a:t> RECIBID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Arial Black"/>
              </a:rPr>
              <a:t>4402.02   Traspasos con Document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 Black"/>
              </a:rPr>
              <a:t>4404 TRASPASOS Y REMESAS DE CAPITAL      </a:t>
            </a:r>
            <a:r>
              <a:rPr b="0" lang="es-ES" sz="29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Arial Black"/>
              </a:rPr>
              <a:t> RECIBID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Arial Black"/>
              </a:rPr>
              <a:t>4404.02   Traspasos con Document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1351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s-ES" sz="3200" spc="-1" strike="noStrike">
                <a:solidFill>
                  <a:srgbClr val="cc0000"/>
                </a:solidFill>
                <a:latin typeface="Verdana"/>
              </a:rPr>
              <a:t>4505</a:t>
            </a:r>
            <a:r>
              <a:rPr b="1" lang="es-ES" sz="32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s-ES" sz="3200" spc="-1" strike="noStrike">
                <a:solidFill>
                  <a:srgbClr val="cc0000"/>
                </a:solidFill>
                <a:latin typeface="Verdana"/>
              </a:rPr>
              <a:t> INGRESOS DIVERS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61680" y="1947600"/>
            <a:ext cx="9334440" cy="4740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53640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36400" indent="-536400" algn="just">
              <a:lnSpc>
                <a:spcPct val="80000"/>
              </a:lnSpc>
              <a:spcBef>
                <a:spcPts val="726"/>
              </a:spcBef>
              <a:buClr>
                <a:srgbClr val="cc0000"/>
              </a:buClr>
              <a:buFont typeface="Arial Black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 Black"/>
              </a:rPr>
              <a:t>Los cheques pagados en el ejercicio vigente, correspondiente a giros de gastos corrientes y de capital de años anteriores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36400" indent="0" algn="just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36400" indent="-536400" algn="just">
              <a:lnSpc>
                <a:spcPct val="80000"/>
              </a:lnSpc>
              <a:spcBef>
                <a:spcPts val="726"/>
              </a:spcBef>
              <a:buClr>
                <a:srgbClr val="cc0000"/>
              </a:buClr>
              <a:buFont typeface="Arial Black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 Black"/>
              </a:rPr>
              <a:t>Las devoluciones de las estimaciones calculadas en exceso de ejercicios anterio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36400" indent="0" algn="just">
              <a:lnSpc>
                <a:spcPct val="80000"/>
              </a:lnSpc>
              <a:spcBef>
                <a:spcPts val="726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364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2032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s-ES" sz="3200" spc="-1" strike="noStrike">
                <a:solidFill>
                  <a:srgbClr val="cc0000"/>
                </a:solidFill>
                <a:latin typeface="Arial Black"/>
              </a:rPr>
              <a:t>5506</a:t>
            </a:r>
            <a:r>
              <a:rPr b="1" lang="es-ES" sz="3200" spc="-1" strike="noStrike">
                <a:solidFill>
                  <a:srgbClr val="cc0000"/>
                </a:solidFill>
                <a:latin typeface="Arial Black"/>
              </a:rPr>
              <a:t>	</a:t>
            </a:r>
            <a:r>
              <a:rPr b="1" lang="es-ES" sz="3200" spc="-1" strike="noStrike">
                <a:solidFill>
                  <a:srgbClr val="cc0000"/>
                </a:solidFill>
                <a:latin typeface="Arial Black"/>
              </a:rPr>
              <a:t>OTROS GASTOS DIVERSOS</a:t>
            </a:r>
            <a:r>
              <a:rPr b="0" lang="es-ES" sz="3700" spc="-1" strike="noStrike">
                <a:solidFill>
                  <a:srgbClr val="cc0000"/>
                </a:solidFill>
                <a:latin typeface="Verdana"/>
              </a:rPr>
              <a:t> 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61680" y="1947600"/>
            <a:ext cx="9334440" cy="4740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536400"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536400" indent="-536400">
              <a:lnSpc>
                <a:spcPct val="100000"/>
              </a:lnSpc>
              <a:spcBef>
                <a:spcPts val="825"/>
              </a:spcBef>
              <a:buClr>
                <a:srgbClr val="cc0000"/>
              </a:buClr>
              <a:buFont typeface="Arial Black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 Black"/>
              </a:rPr>
              <a:t>El importe de la baja de bienes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536400" indent="-536400">
              <a:lnSpc>
                <a:spcPct val="100000"/>
              </a:lnSpc>
              <a:spcBef>
                <a:spcPts val="825"/>
              </a:spcBef>
              <a:buClr>
                <a:srgbClr val="cc0000"/>
              </a:buClr>
              <a:buFont typeface="Arial Black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 Black"/>
              </a:rPr>
              <a:t>El importe de los bienes menores a un octavo de la U.I.T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536400" indent="-536400">
              <a:lnSpc>
                <a:spcPct val="100000"/>
              </a:lnSpc>
              <a:spcBef>
                <a:spcPts val="825"/>
              </a:spcBef>
              <a:buClr>
                <a:srgbClr val="cc0000"/>
              </a:buClr>
              <a:buFont typeface="Arial Black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 Black"/>
              </a:rPr>
              <a:t>El monto de los gastos de ejercicios anteriores 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2032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s-ES" sz="3200" spc="-1" strike="noStrike">
                <a:solidFill>
                  <a:srgbClr val="cc0000"/>
                </a:solidFill>
                <a:latin typeface="Arial Black"/>
              </a:rPr>
              <a:t>5901  GASTOS FINANCIEROS</a:t>
            </a:r>
            <a:br>
              <a:rPr sz="37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61680" y="1947600"/>
            <a:ext cx="9334440" cy="4740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9000"/>
          </a:bodyPr>
          <a:p>
            <a:pPr marL="531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531000" indent="-53100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Font typeface="Arial Black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 Black"/>
              </a:rPr>
              <a:t>El importe deL Diferencial Cambiario Desfavorable por Bonos, Créditos y Otros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531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531000" indent="-53100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Font typeface="Arial Black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 Black"/>
              </a:rPr>
              <a:t>El monto de Otros Intereses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531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531000" indent="-53100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Font typeface="Arial Black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 Black"/>
              </a:rPr>
              <a:t>El   importe     de    Otros    Gastos Financieros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531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1351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ES" sz="3300" spc="-1" strike="noStrike">
                <a:solidFill>
                  <a:srgbClr val="cc0000"/>
                </a:solidFill>
                <a:latin typeface="Arial Black"/>
              </a:rPr>
              <a:t>REGISTRO DE LAS DONACIONES RECIBIDAS DEL SECTOR NO PUBLICO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61680" y="1947600"/>
            <a:ext cx="9334440" cy="4740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536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1503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 Black"/>
              </a:rPr>
              <a:t>VEHICULOS MAQUINARIAS Y OTROS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Black"/>
              </a:rPr>
              <a:t>1503.01       Vehícu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4504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 Black"/>
              </a:rPr>
              <a:t>TRANSFERENCIAS VOLUNTARIAS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 Black"/>
              </a:rPr>
              <a:t>DISTINTAS DE DONACIONES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Black"/>
              </a:rPr>
              <a:t>4504.04      Transferencias Voluntarias de Capital </a:t>
            </a:r>
            <a:r>
              <a:rPr b="1" lang="es-E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 Black"/>
              </a:rPr>
              <a:t>         Distintas de Donaciones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1351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61680" y="1947600"/>
            <a:ext cx="4591080" cy="4740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536400" indent="0">
              <a:spcBef>
                <a:spcPts val="7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spcBef>
                <a:spcPts val="7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647640" y="1219320"/>
          <a:ext cx="9315360" cy="56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1219320"/>
                    <a:ext cx="9315360" cy="56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69600" y="337680"/>
            <a:ext cx="9334440" cy="1351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br>
              <a:rPr sz="3900"/>
            </a:br>
            <a:r>
              <a:rPr b="0" lang="es-ES" sz="3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ES" sz="3200" spc="-1" strike="noStrike">
                <a:solidFill>
                  <a:srgbClr val="cc0000"/>
                </a:solidFill>
                <a:latin typeface="Verdana"/>
              </a:rPr>
              <a:t>Registro Contable de los Edificios y    </a:t>
            </a:r>
            <a:r>
              <a:rPr b="1" lang="es-ES" sz="32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s-ES" sz="3200" spc="-1" strike="noStrike">
                <a:solidFill>
                  <a:srgbClr val="cc0000"/>
                </a:solidFill>
                <a:latin typeface="Verdana"/>
              </a:rPr>
              <a:t>Estructuras Afectados en U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61680" y="1947600"/>
            <a:ext cx="4591080" cy="4740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536400" indent="0">
              <a:spcBef>
                <a:spcPts val="7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36400" indent="0">
              <a:spcBef>
                <a:spcPts val="7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941400" y="2081160"/>
          <a:ext cx="907272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2081160"/>
                    <a:ext cx="907272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9400" y="569880"/>
            <a:ext cx="9505800" cy="14558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s-ES" sz="2800" spc="-1" strike="noStrike">
                <a:solidFill>
                  <a:srgbClr val="cc0000"/>
                </a:solidFill>
                <a:latin typeface="Verdana"/>
              </a:rPr>
              <a:t>Registro Contable del Diferencial de    </a:t>
            </a:r>
            <a:r>
              <a:rPr b="1" lang="es-ES" sz="28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s-ES" sz="2800" spc="-1" strike="noStrike">
                <a:solidFill>
                  <a:srgbClr val="cc0000"/>
                </a:solidFill>
                <a:latin typeface="Verdana"/>
              </a:rPr>
              <a:t>Cambio  Desfavorable, aplicando el  </a:t>
            </a:r>
            <a:r>
              <a:rPr b="1" lang="es-ES" sz="28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s-ES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s-ES" sz="2800" spc="-1" strike="noStrike">
                <a:solidFill>
                  <a:srgbClr val="cc0000"/>
                </a:solidFill>
                <a:latin typeface="Verdana"/>
              </a:rPr>
              <a:t>       Módulo Contable del SIAF</a:t>
            </a:r>
            <a:br>
              <a:rPr sz="2800"/>
            </a:br>
            <a:r>
              <a:rPr b="1" lang="es-ES" sz="2800" spc="-1" strike="noStrike">
                <a:solidFill>
                  <a:srgbClr val="cc0000"/>
                </a:solidFill>
                <a:latin typeface="Verdana"/>
              </a:rPr>
              <a:t>                  Tipo de Operación “YT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509760" y="2181960"/>
            <a:ext cx="9577080" cy="45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lasificador presupuestal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          Ingresos Presupuestarios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1.5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          Otros Ingresos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1.5.1.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 Rentas de la Propie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1.5.1.1        De la Propiedad Financiera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1.5.1.1.3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 Diferencial Cambiario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1.5.1.1.3.2  Crédito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20:52:58Z</dcterms:created>
  <dc:creator>usuario</dc:creator>
  <dc:description/>
  <dc:language>en-US</dc:language>
  <cp:lastModifiedBy>mef</cp:lastModifiedBy>
  <dcterms:modified xsi:type="dcterms:W3CDTF">2009-12-15T01:20:24Z</dcterms:modified>
  <cp:revision>337</cp:revision>
  <dc:subject/>
  <dc:title>Planeación de Recursos Humanos</dc:title>
</cp:coreProperties>
</file>