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0F7-69C2-403C-94AB-8BE805A6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A54-4893-4203-B5F8-2C72140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4A8-E510-4219-A176-A39565CC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2E2-8583-428C-B899-5530752E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6E07-929F-4794-9150-FC1737D9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4BA4-C1FD-4342-88A3-6AB61352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401F-5EB2-4D95-BB98-CB4A1714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ED31-6467-4849-9B23-CFBB2F3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E1AC-798E-4B23-8005-7036E72D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96C9-2DE6-4A80-B5DA-E6FA4250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877-8383-4060-9BFE-2B7B6D60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184-5FBD-4BC3-94E0-A01A36DD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1677-7881-4B19-9802-0EE2FF9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3E2A-AADB-4293-B1F3-2C92230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2149-498D-4A50-80CB-03CFE46F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601-E904-4B5F-831E-003921DD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F0B-05C5-4D0D-A000-69D4A2CC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4C6-1A74-4A8B-B3DE-A579CE7B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DF4-7A74-4847-A64A-CF33B270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A41-CFB5-4E19-9D5B-9B15FCC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262-B337-405D-B4AF-5E424571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A69-4B2A-4EBD-81E5-E214CAC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A1C-B7EC-4255-B9ED-EDF897C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247-390E-4DA8-BDEE-5286873D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AB1-88CB-450D-A362-A38F1CF496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743040" y="2394000"/>
            <a:ext cx="842004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AE06-1465-4C4B-AF25-9EE032505E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2880" y="3141720"/>
            <a:ext cx="936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MBIOS Y APROBACIÓ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UENT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L CIERRE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2144880" y="5229360"/>
            <a:ext cx="68086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RECCIÓN DE NORMATIV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a,  Diciembre de 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1352520" y="907920"/>
            <a:ext cx="7528680" cy="936720"/>
            <a:chOff x="1352520" y="907920"/>
            <a:chExt cx="7528680" cy="936720"/>
          </a:xfrm>
        </p:grpSpPr>
        <p:grpSp>
          <p:nvGrpSpPr>
            <p:cNvPr id="86" name="Group 6"/>
            <p:cNvGrpSpPr/>
            <p:nvPr/>
          </p:nvGrpSpPr>
          <p:grpSpPr>
            <a:xfrm>
              <a:off x="1352520" y="907920"/>
              <a:ext cx="965160" cy="936720"/>
              <a:chOff x="1352520" y="907920"/>
              <a:chExt cx="965160" cy="936720"/>
            </a:xfrm>
          </p:grpSpPr>
          <p:pic>
            <p:nvPicPr>
              <p:cNvPr id="87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1352520" y="1060920"/>
                <a:ext cx="96516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WordArt 8"/>
              <p:cNvSpPr txBox="1"/>
              <p:nvPr/>
            </p:nvSpPr>
            <p:spPr>
              <a:xfrm>
                <a:off x="1443600" y="907920"/>
                <a:ext cx="72936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89" name="Rectangle 9"/>
            <p:cNvSpPr/>
            <p:nvPr/>
          </p:nvSpPr>
          <p:spPr>
            <a:xfrm>
              <a:off x="6306120" y="934920"/>
              <a:ext cx="257508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731040" y="934920"/>
              <a:ext cx="257760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2343960" y="934920"/>
              <a:ext cx="1384920" cy="90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36520" y="-27000"/>
            <a:ext cx="80647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MX" sz="1800" spc="-1" strike="noStrike">
                <a:solidFill>
                  <a:srgbClr val="c00000"/>
                </a:solidFill>
                <a:latin typeface="Verdana"/>
              </a:rPr>
              <a:t>CAMBIOS EN EL PLAN CONTABLE GUBERNA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Verdana"/>
              </a:rPr>
              <a:t>                                </a:t>
            </a:r>
            <a:r>
              <a:rPr b="1" lang="es-MX" sz="1800" spc="-1" strike="noStrike">
                <a:solidFill>
                  <a:srgbClr val="c00000"/>
                </a:solidFill>
                <a:latin typeface="Verdana"/>
              </a:rPr>
              <a:t>Al I SEMESTRE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5400" y="1214280"/>
          <a:ext cx="9574200" cy="5529600"/>
        </p:xfrm>
        <a:graphic>
          <a:graphicData uri="http://schemas.openxmlformats.org/drawingml/2006/table">
            <a:tbl>
              <a:tblPr/>
              <a:tblGrid>
                <a:gridCol w="1422360"/>
                <a:gridCol w="3286080"/>
                <a:gridCol w="48657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IMACIÓN DE CUENTAS DE COBRANZA DUDOSA Y RECLAMACIONES  (CR)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IMACIÓN DE CUENTAS DE COBRANZA DUDOSA (C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01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uctuación En Títulos Y Valores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UCTUACIÓN DE INVERSIÓN EN TÍTULOS Y VAL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01,020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Créditos Inter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 BANCA PRIVADA Y FINANCI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01.020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CRÉDITOS INTER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403.020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PAISES DE AFRICA, ASIA Y OCEAN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403.020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AGENCIAS GUBERNAMENTALES DE COOPERACIÓN INTERNACI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403.020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NDO CONTRAVALOR O DE DESARROLLO BI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501.01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INTER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501,010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INTER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101,090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nsación Vacacional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NSACIÓN VACACIONAL (VACACIONES TRUNC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Y Agencias Gubernamental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MÉ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ndos Contravalor O De Desarrollo Binacional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FRICA, ASIA Y OCEAN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69"/>
          <p:cNvSpPr/>
          <p:nvPr/>
        </p:nvSpPr>
        <p:spPr>
          <a:xfrm>
            <a:off x="1173240" y="928800"/>
            <a:ext cx="574632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00000"/>
                </a:solidFill>
                <a:latin typeface="Verdana"/>
              </a:rPr>
              <a:t>MAYOR                             DICE                                                                  DEBE DECI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00160" y="208080"/>
          <a:ext cx="9432720" cy="6180120"/>
        </p:xfrm>
        <a:graphic>
          <a:graphicData uri="http://schemas.openxmlformats.org/drawingml/2006/table">
            <a:tbl>
              <a:tblPr/>
              <a:tblGrid>
                <a:gridCol w="1296720"/>
                <a:gridCol w="3391200"/>
                <a:gridCol w="47448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FONDO CONTRAVALOR O DE DESARROLLO BIN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Organismos Internacional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ITUCIONES FINANCIERAS INTETRNA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10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ORGANISM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Y Agencias Gubernamentales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MÉ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EURO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ndos Contravalor  O De Desarrollo Binacional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FRICA, ASIA Y OCEAN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FONDO CONTRAVALOR O DE DESARROLLO BIN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Organismos Internacionales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ITUCIONES FINANCIERAS INTETRNA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1.020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ORGANISM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Y Agencias Gubernamentales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MÉ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EURO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ndos Contravalor O De Desarrollo Binacional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FRICA, ASIA Y OCEANÍ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N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FONDO CONTRAVALOR O DE DESARROLLO BIN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Organismos Internacionales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ITUCIONES FINANCIERAS INTETRNA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66680" y="255600"/>
          <a:ext cx="9505800" cy="6278400"/>
        </p:xfrm>
        <a:graphic>
          <a:graphicData uri="http://schemas.openxmlformats.org/drawingml/2006/table">
            <a:tbl>
              <a:tblPr/>
              <a:tblGrid>
                <a:gridCol w="1357200"/>
                <a:gridCol w="3365640"/>
                <a:gridCol w="478296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10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ORGANIS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Y Agencias Gubernament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Gobiernos Extranjer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MÉ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EURO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ndos Contravalor O De Desarrollo Binacional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PAISES DE AFRICA, ASIA Y OCEAN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AGENCIAS GUBERNAMENTALES DE COOPERACIÓN INTERN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FONDO CONTRAVALOR O DE DESARROLLO BIN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Organismos Internacionales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ITUCIONES FINANCIERAS INTETRN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403.020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ORGANIS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107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 REGIME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107.0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 REGIME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108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 REGIME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108.0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 REGIME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0"/>
          <p:cNvSpPr/>
          <p:nvPr/>
        </p:nvSpPr>
        <p:spPr>
          <a:xfrm>
            <a:off x="128520" y="474120"/>
            <a:ext cx="9763200" cy="5665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02.98          Otros Ingresos por Cobrar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Otras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uentas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or Cobr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303.01          Entrega de Bienes y Servicios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Bienes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 Asistencia So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303.010301    Entrega de Medicamento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Medicamentos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ara Asistencia So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402.99          Fluctuación en Acciones y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Fluctuación en Acciones 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articipaciones de Capital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articipación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de Capi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501.08          Otras Estructura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onstrucción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de Estructu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505.03          Otros Gastos de Estudios y Proyectos    Otros Gastos Diversos de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Activ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No Financi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508.010403   Otras Estructura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onstrucción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de Estructu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102.040101   Gratificaciones Fiestas Patria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Gratifica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2103.99 Otros Gastos por Pagar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Otras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uentas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or Pag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4107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DEVOLUCIÓN DE TRIBUTOS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     DEVOLUCIÓN, LIBERACIÓN E INCENTIVO TRIBUTAR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4601             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VENTA DE EDIFICIOS Y ESTRUCTURA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VENTA DE EDIF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5202.0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Entrega de Bienes y Servicio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Bienes de Asistencia So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5202.030301   Entrega de Medicamento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Medicamentos para Asistencia So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5701.0601      Costo de Bienes p. la Reventa              Costo de Venta de Bie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9101.05          Contrato de Arrendamiento                 Contrato de Arrendamiento Aprob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erativo Aprobad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9102.05          Contrato de Arrendamient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Contrato de Arrendamiento En Ejecu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perativo en Ejecución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9103.09          Carta Ordenes Emitida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Cartas Ordenes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y Documento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Emitidos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y/o Recibi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9104.09          Control de Cartas Ordene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Control de Cartas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Ordenes 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ocumentos Emitidos y/o Recibi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1097640" y="531720"/>
            <a:ext cx="5997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c00000"/>
                </a:solidFill>
                <a:uFillTx/>
                <a:latin typeface="Verdana"/>
              </a:rPr>
              <a:t>MAYOR</a:t>
            </a:r>
            <a:r>
              <a:rPr b="1" lang="es-ES" sz="1400" spc="-1" strike="noStrike">
                <a:solidFill>
                  <a:srgbClr val="c00000"/>
                </a:solidFill>
                <a:latin typeface="Verdana"/>
              </a:rPr>
              <a:t>                        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Verdana"/>
              </a:rPr>
              <a:t>DICE </a:t>
            </a:r>
            <a:r>
              <a:rPr b="1" lang="es-ES" sz="1400" spc="-1" strike="noStrike">
                <a:solidFill>
                  <a:srgbClr val="c00000"/>
                </a:solidFill>
                <a:latin typeface="Verdana"/>
              </a:rPr>
              <a:t>                                                      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Verdana"/>
              </a:rPr>
              <a:t>DEBE DEC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237960" y="-147240"/>
            <a:ext cx="9668160" cy="7261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c00000"/>
                </a:solidFill>
                <a:latin typeface="Verdana"/>
              </a:rPr>
              <a:t>APROBACIÓN DE CUENTAS EN EL I SEMESTRE 2009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 u="sng">
                <a:solidFill>
                  <a:srgbClr val="c00000"/>
                </a:solidFill>
                <a:uFillTx/>
                <a:latin typeface="Verdana"/>
              </a:rPr>
              <a:t>    </a:t>
            </a:r>
            <a:r>
              <a:rPr b="1" lang="es-ES" sz="1500" spc="-1" strike="noStrike" u="sng">
                <a:solidFill>
                  <a:srgbClr val="c00000"/>
                </a:solidFill>
                <a:uFillTx/>
                <a:latin typeface="Verdana"/>
              </a:rPr>
              <a:t>MAYOR</a:t>
            </a: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s-ES" sz="1500" spc="-1" strike="noStrike" u="sng">
                <a:solidFill>
                  <a:srgbClr val="c00000"/>
                </a:solidFill>
                <a:uFillTx/>
                <a:latin typeface="Verdana"/>
              </a:rPr>
              <a:t>DENOMINACIÓN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1101.0203       Fondo de Devoluciones en Efectiv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1201.06          Cuentas por Cobrar Promoción de la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versión Privada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1505.0301       Gastos por la Contratación de Personal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(Se ha considerado igua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1505.0302       Gasto por la Compra de Bienes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        que los clasificador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1505.0303       Gasto por la Contratación de Servicios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aprobados por l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1505.0399       Otros Gastos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  DNP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Verdana"/>
              </a:rPr>
              <a:t>1501.089908   Otras Estructuras en Construcció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2501.05           Ingresos Diferidos- Promoción de la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versión Privada   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2501.0501       Transferencia de Activos                                                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2501.050101   Subasta Pública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2501.0502       Otros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2501.06           Diferencia de Cambio  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3201.0104       Resultado Neto - Promoción de la Inversión Privada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  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4107.04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         Liberación  tributaria 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SUNAT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107.0401       Liberación de Tributos Internos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SUNAT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107.0402       Liberaciones de Tributos Aduaneros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SUNAT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107.05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Incentivo Tributario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SUNAT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107.0501       Incentivos de Tributos Internos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SUNAT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107.0502       Incentivos de Tributos  Aduaneros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SUNAT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506               INGRESOS PROMOCION DE LA INVERSION PRIVADA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506.01           Resultado Neto - Promoción de la Inversión Privada   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506.02           Intereses Diferidos  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4506.03           Diferencia de cambio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Verdana"/>
              </a:rPr>
              <a:t>Proinversion-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Verdana"/>
              </a:rPr>
              <a:t>5302.070206   Locación de Servicios - Fondo de Apoyo Gerencial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(Clasificador Aprobad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Por DNPP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5080" y="214200"/>
            <a:ext cx="8667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c00000"/>
                </a:solidFill>
                <a:latin typeface="Verdana"/>
              </a:rPr>
              <a:t>APROBACIÓN DE CUENTAS EN EL II SEMESTRE 200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31800" y="1628640"/>
            <a:ext cx="7850160" cy="520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501.09          Edificios y Estructuras Afectados en U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502.05          Terrenos Afectados en U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1508.0105      Adquiridos en Arrendamiento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1508.0106      Entregados en Conce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1508.0107      Edificios y Estructuras Afectados en U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1508.0203      Adquiridos en Arrendamiento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4302.11          Devolución de Derechos Administra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4302.1101      Devolución de Derechos Administrativ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4502.010609  Multas por Infracciones Mine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101.010205  Bonificación por Cambio de Residen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101.010106  Personal Contratado-Régimen laboral de Gerentes            </a:t>
            </a: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           Públ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302.070506  Estipendio a los Candidatos</a:t>
            </a:r>
            <a:r>
              <a:rPr b="1" lang="es-MX" sz="1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a Gerentes Públ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               Gastos Financi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.01          Diferencial Cambi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.0101      Bon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.0102      Crédi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.0199      O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.02          Otros Intere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5901.03          Otros Gastos Financi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1001880" y="12142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00000"/>
                </a:solidFill>
                <a:uFillTx/>
                <a:latin typeface="Verdana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3595680" y="1143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00000"/>
                </a:solidFill>
                <a:uFillTx/>
                <a:latin typeface="Verdana"/>
              </a:rPr>
              <a:t>DENOMIN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0" y="2428920"/>
            <a:ext cx="96267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Verdana"/>
              </a:rPr>
              <a:t>MAYOR</a:t>
            </a:r>
            <a:r>
              <a:rPr b="1" lang="es-ES" sz="1400" spc="-1" strike="noStrike">
                <a:solidFill>
                  <a:srgbClr val="c00000"/>
                </a:solidFill>
                <a:latin typeface="Verdana"/>
              </a:rPr>
              <a:t>                         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Verdana"/>
              </a:rPr>
              <a:t>DICE</a:t>
            </a:r>
            <a:r>
              <a:rPr b="1" lang="es-ES" sz="1400" spc="-1" strike="noStrike">
                <a:solidFill>
                  <a:srgbClr val="c00000"/>
                </a:solidFill>
                <a:latin typeface="Verdana"/>
              </a:rPr>
              <a:t>                                                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Verdana"/>
              </a:rPr>
              <a:t>DEBE DEC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2520" y="3071880"/>
            <a:ext cx="8929440" cy="1372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5801.02 Deprec. Acumul. Maquinaria y Equipo             Depre.Acumul.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 vehículos,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Maquinarias y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                     Otro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4303.03020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           Servicios Recreativos y Cultur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4303.030601 Servicios Recreativos y Cultur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4303.030299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                          Otros Servicios Culturales y Recre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4303.030399 Otros Servicios Culturales y Recreativos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4 Rectángulo"/>
          <p:cNvSpPr/>
          <p:nvPr/>
        </p:nvSpPr>
        <p:spPr>
          <a:xfrm>
            <a:off x="880920" y="1143000"/>
            <a:ext cx="81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s-MX" sz="1800" spc="-1" strike="noStrike">
                <a:solidFill>
                  <a:srgbClr val="c00000"/>
                </a:solidFill>
                <a:latin typeface="Verdana"/>
              </a:rPr>
              <a:t>CAMBIOS EN EL PLAN CONTABLE GUBERNAMEN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Verdana"/>
              </a:rPr>
              <a:t>                                    </a:t>
            </a:r>
            <a:r>
              <a:rPr b="1" lang="es-MX" sz="1800" spc="-1" strike="noStrike">
                <a:solidFill>
                  <a:srgbClr val="c00000"/>
                </a:solidFill>
                <a:latin typeface="Verdana"/>
              </a:rPr>
              <a:t>Al II SEMESTRE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21:21:45Z</dcterms:created>
  <dc:creator>pcancino</dc:creator>
  <dc:description/>
  <dc:language>en-US</dc:language>
  <cp:lastModifiedBy>mef</cp:lastModifiedBy>
  <dcterms:modified xsi:type="dcterms:W3CDTF">2009-12-15T01:13:29Z</dcterms:modified>
  <cp:revision>157</cp:revision>
  <dc:subject/>
  <dc:title>Cuenta General de la Republica </dc:title>
</cp:coreProperties>
</file>