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51169-A90D-4D1C-ADA2-30F80CE36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4236-2308-46F4-9AB9-53DBDA3E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A7215-5931-4539-9E9D-D1492C54C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CE92C6-2272-4869-888F-A14E9AFCBB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13C30-4D95-47CB-8B75-3B81680D9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2B254-3192-4B99-9774-1EFF946E2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F1D4D-D0A1-4441-8A13-06255A452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996917-8566-42AC-A114-B7DCD082DA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0EE96-3CA6-4B9B-B9C6-2019C3ABE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BEE0E-501E-4AEE-BE3F-D0A4D59B20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B430F8-2ED4-4455-B9C4-84E691850E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F0A06F-8CFF-4FA6-ADEA-108CC2A90A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BB614-6C26-4DFE-B46C-38C04A75D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BAEE11-0037-4A4C-9328-E79EC465B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74A62-58A9-4D74-BB88-F19E4A6504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840D07-5781-4C10-8831-D07EC4E69E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904E0D-B838-4800-B29C-1032B233BE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D3186E-A4DD-43C5-8485-8251D0B215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1CB7AD-F611-4AB8-9AF2-72C2A65BA2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CE9E37-4440-411A-BB3C-67831BE32F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869943-26FB-4C81-8709-3004B405CE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7C600B-A7BE-40FB-8E58-DA2326D192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8EFDC8-EB60-47D5-B037-599E45EE44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A4CB8-57E7-4887-B00E-100B71076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4C8305-F5A7-4340-94E2-79E2A7893B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2C917B-0E5F-4931-9851-8E4A1A6854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3BB15E-550F-486D-B3A8-77404CB824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F3C73A-D112-46EC-B525-0E4CABD3D1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1C5F1A-9DF5-43D2-8CB2-3DFB1AD948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0CF652-CC26-4FDC-8104-FF7A459D9A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F156BB-F298-4243-8B2E-698EED8DA6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0D4C7-78A2-4728-99E3-6C1796C29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3AA551-E931-4073-A943-8A867ACF7F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FCDF31-5A5D-47E2-AF32-5FC02696C3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22592-7B05-4FA4-8DF9-83FDBC264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F1E5AA-3F81-4953-AC85-78197FD5D3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EEF4EE-C508-4359-A292-CB756651DB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27DAC9-5AE0-4384-B556-6009BB2C39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380D4D-16ED-475D-922E-DFC0479A7A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7F54EB-0C98-4FA1-BE9A-DE67830DBE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761C85-72C9-4866-B594-621495A9AA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8BA46F-AB77-40EC-A436-9AFC67EF3D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033F1D-0533-4E19-9D57-8A4913E11C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5DCA63-C860-4B03-90AF-9D6F4A4693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4E98D3-0B10-4227-9B9D-6B2217380D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ACD6F-6A95-4DC4-B9BF-DEB4411CD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AD0451-BA42-4DF6-8043-D791073899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797FF3-5192-4020-B751-9A2C5323B3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E12722-0D70-4216-8BD8-EBE60783F1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7AE21D-B31D-4CA0-9A97-12304C28BD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6F33F6-2326-4BE7-8619-ED947254B2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0AC781-E4EF-42D2-B94F-A71B3CB83E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2A8059-2C21-42B4-A994-8DD12DAFDE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6D224D-5474-4700-A625-647369754B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2B51A9-67A2-4DA5-9B56-F488213198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A82D7C-651C-40B9-8976-4B890CD244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A3352-883E-4C6B-8512-968D51DA3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86F8F7-126A-434F-987C-79447239AF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C5AFAC-E738-4589-9DCC-EDCD8091E2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227D7D-F366-4582-86BE-5EF6792431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EB07F3-CD86-4599-B2A5-96AA56A5FC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4FD0F4-D8B7-48E3-861F-BFF14D70CE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2ECEA2-BF2C-4DD7-A44E-EF98731123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22BC4C-ED62-47AB-ACE9-3825F056C7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367BA1C-1269-4023-99F2-91AF5573A0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8CDBD3-2FF4-41B7-AE68-C238D3604E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16853A-0F10-4456-8A86-356ADFC57A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31A3-5A1D-48F8-BAC4-9774399E9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E83EE6-22BC-4438-9183-101EAE6286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5C3A10-C464-44C3-B5DE-23D0A48F44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07ABF6-49B3-4D96-9542-F26BE6E4A0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D53F97-F773-40A9-B8F4-A379FECC24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C42CD3-E5F6-4F4F-9956-85C477156C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14D6D1-CD4A-40EF-A2D1-8F069E4FD8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4CD151-736F-4463-BA2E-0261A644D2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2D76DF-8624-4A3F-AAB4-6115CFA9198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5277F9-E94B-46A0-9A54-1A3BEB57C29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5CDFD-AC6F-4C29-9AA2-DFE0D13CF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C1218-932D-4D38-9BDD-FD9AC5C4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0D320-8339-44B3-AB67-15534997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E102-FDC0-436D-ACA6-245FA59FB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475CF-C714-4269-B137-BB743FB0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E0167-E91E-402C-95D2-A57D18F9D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B35BE-72C4-405E-9B74-244C12627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46F72-B74B-4736-A4A8-25F880C0A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41A87-9F37-45F1-B147-8921D3D74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1E286-469E-4209-A4C1-0D3ED38FDC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F2F39-B316-4169-9156-A9D2161B7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861F2-97CA-4E27-9138-84EFC2316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46652-7762-431F-A2F6-4AF389945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54A66-FE03-4683-8591-1A1E76547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AAB8C-3B22-4425-A6BF-B36BB054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D8F42-649E-46A9-A016-A7683D0F5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72B0B-A10F-4039-B95C-52C7CF0D7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08098-F66B-48EF-9B1F-AEB0ECDD4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EB2A4-AEB4-42AD-8493-8EBF9989E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EB785-0C0F-44DB-AC7E-572880E74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58E2C-5A7E-4376-9ED6-6F27AE245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74AD0-910B-43D0-84B7-09705E8F4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6001FC-D1D7-485A-A358-B6D784745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AA271-BD18-4E47-A2F4-B3DC10301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E5ECB-EE02-48F4-B727-A69FE9D17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66C0-887E-4188-A155-E299EE0A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A2B09-144F-43B7-A189-62B9AE421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6BD09-CA32-44B2-BD5B-D3CA1D66A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A3C4D-E77D-455E-8A23-5BBBF6E44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48213-F474-4F58-86A4-36BB2C34B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B3676-02C0-433A-8404-8015F2038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C7637-1309-4E91-A1DF-AE1010A3A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F60AA-A52B-486F-9E5A-D7B55D4BF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165D2-B29D-4B1D-A2F3-82861F958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37022-115C-4C53-BC0D-85D3380B69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BD1DD-BC37-4767-AA18-A4BBA9DB30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50FBF-BFCD-476E-A9A0-E4550A760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C99A1-F297-4157-AB49-57DA133B5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253BF6-22B2-4ED5-8F34-BF5F30D68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C96AF-8D9B-46CC-8E26-C3FCC448B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3DD7D-8383-4404-8B07-2B104B9BE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D27BE-F86C-466F-BD22-37815B4FA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155BE-F115-45F3-A908-DCDCD6537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204FE-6BFB-4110-BE67-D7E01EA09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E1B6D-5EF2-43E0-875A-2D39DDE35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F773D-3ADA-4E56-8EE0-821CF08CE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AE03AB-13ED-42B0-8679-424566914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5926E-EEB1-47D3-AA4A-1658DFC8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FE7AB-FAEB-48C3-A580-230FDB3FC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7705B0-404C-4C67-9803-670AA8B9B5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5B78A-90CD-40FA-9598-9E44B4A7FE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A497C-E011-495F-B6C0-AA86E2574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33282-101A-4209-8ABD-482B32357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EEEA1-DB5B-48C8-A7F1-116BAEACC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96508F-C49F-4D14-BC79-9680EEC7E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6EED6-C401-4D47-94D8-77D2DA208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A803E-92B5-4D93-B6FB-F96ABF858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B7776-9F07-4D61-B5FA-BA97CC646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3CC9-7593-4CE1-B800-C8264B9EE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4AAB7-EFB1-41A5-89FB-41E4B259B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BC471-4A49-4105-B650-2A4178BF99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E805D9-7300-4E21-BCC9-FEB00E9783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988166-1E27-43C9-9C44-E71F0C223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BF38D-5DDA-43B6-864D-33C9FB8FB9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2463C4-F45F-4775-9D8B-A4B0B9173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9E150-75B5-4FDC-AEF9-B71DAB91D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AA01C-1A88-4A8A-AD08-BC4BF08A3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E19B3-0DD8-4F9F-95CD-F6B514AB77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57816-E62D-459F-8B6C-7FFDC69B2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BB70-26F8-42F6-B0B5-18CC86554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1BC30-C515-46D6-915C-6B9911685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6408D-2020-4D57-A6F4-08CBE976D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6512C-66BA-48F5-997D-613626F54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472D79-DEC4-41F8-AC29-84D0523BC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4650FB-E453-4CC7-B2EE-9D06B128C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E51DF-19BE-4234-A61A-8B124E9DBF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103AC2-0C73-47D7-8DA2-17AAA1D6B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B6584-88C0-4B1F-AB5E-E0C604FA81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A14B1-FDD1-4FAE-8F43-FD0EEB12E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40FA5C-366F-489D-AA1E-6C8F8BAF99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F97FA-937A-4465-891A-9DC18AF5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A4AFC-75FF-4D6E-A16F-609D8B7AC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BD31F-C316-44D6-8E04-475E67D2E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90FBE-1199-4CCB-97E7-39E0D13CA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2B44A-021A-416C-B7EE-82203E536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FF81E-7B0E-411C-B6EA-C5FA341D0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8079B4-83B3-421A-B9D4-C5F3E281A9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FE890C-4C50-47E3-B005-FD1B3AC90B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60DF66-1E85-4041-8D31-CC1B3C5D4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ACA97-3D25-471D-8750-617412212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B7B77-85DF-44C1-A75D-3DFB6F259B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AE3A-84F1-46A2-AC8A-3264B97C0D48}"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3"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0D86-8580-4794-8E24-C901A112B594}"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4"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F0A8-5EF8-4B9A-9F7B-E6FF70661DCD}"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6"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8"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8500-1480-45A7-B6E5-A12B28C24A52}"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39D6-FB36-4CCF-970D-22298483BE29}"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38"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40"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5A2B-C293-441C-B0C3-BB2E46E6EA16}"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06EC-E5E5-4DE9-BD30-A7C35D41EEE3}"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4A0C-86FF-4B7D-A482-65CEADDF898C}"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23E8-D826-4F80-89B6-70B2E3468D18}"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68"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9623-8993-4155-8491-E13F22F9E53B}"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09"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D805-FA0C-405C-B71C-A497BD55278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0"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7A3B-E9F0-474F-975E-557185D87A61}"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3F5F-A170-44C7-A8DD-9C459814600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2"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24DA-4783-4F0B-BD5E-DE6E4450122B}"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Rectangle 2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78" name="Rectangle 26"/>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79" name="Rectangle 27"/>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80" name="Rectangle 28"/>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grpSp>
        <p:nvGrpSpPr>
          <p:cNvPr id="581" name="Group 5"/>
          <p:cNvGrpSpPr/>
          <p:nvPr/>
        </p:nvGrpSpPr>
        <p:grpSpPr>
          <a:xfrm>
            <a:off x="611280" y="476280"/>
            <a:ext cx="7992720" cy="792000"/>
            <a:chOff x="611280" y="476280"/>
            <a:chExt cx="7992720" cy="792000"/>
          </a:xfrm>
        </p:grpSpPr>
        <p:grpSp>
          <p:nvGrpSpPr>
            <p:cNvPr id="582" name="Group 6"/>
            <p:cNvGrpSpPr/>
            <p:nvPr/>
          </p:nvGrpSpPr>
          <p:grpSpPr>
            <a:xfrm>
              <a:off x="611280" y="476280"/>
              <a:ext cx="1024560" cy="792000"/>
              <a:chOff x="611280" y="476280"/>
              <a:chExt cx="1024560" cy="792000"/>
            </a:xfrm>
          </p:grpSpPr>
          <p:pic>
            <p:nvPicPr>
              <p:cNvPr id="583" name="Picture 7" descr="http://www.peruembassy-uk.com/Images/Escudo.gif"/>
              <p:cNvPicPr/>
              <p:nvPr/>
            </p:nvPicPr>
            <p:blipFill>
              <a:blip r:embed="rId1">
                <a:lum bright="12000"/>
              </a:blip>
              <a:stretch/>
            </p:blipFill>
            <p:spPr>
              <a:xfrm>
                <a:off x="611280" y="605520"/>
                <a:ext cx="1024560" cy="662760"/>
              </a:xfrm>
              <a:prstGeom prst="rect">
                <a:avLst/>
              </a:prstGeom>
              <a:ln w="0">
                <a:noFill/>
              </a:ln>
            </p:spPr>
          </p:pic>
          <p:sp>
            <p:nvSpPr>
              <p:cNvPr id="584" name="WordArt 8"/>
              <p:cNvSpPr txBox="1"/>
              <p:nvPr/>
            </p:nvSpPr>
            <p:spPr>
              <a:xfrm>
                <a:off x="708120" y="476280"/>
                <a:ext cx="77436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585" name="Rectangle 9"/>
            <p:cNvSpPr/>
            <p:nvPr/>
          </p:nvSpPr>
          <p:spPr>
            <a:xfrm>
              <a:off x="5870160" y="498960"/>
              <a:ext cx="2733840" cy="76896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586" name="Rectangle 10"/>
            <p:cNvSpPr/>
            <p:nvPr/>
          </p:nvSpPr>
          <p:spPr>
            <a:xfrm>
              <a:off x="3136320" y="498960"/>
              <a:ext cx="2733840" cy="76896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587" name="Rectangle 11"/>
            <p:cNvSpPr/>
            <p:nvPr/>
          </p:nvSpPr>
          <p:spPr>
            <a:xfrm>
              <a:off x="1663920" y="498960"/>
              <a:ext cx="1565280" cy="76896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pic>
        <p:nvPicPr>
          <p:cNvPr id="588" name="17 Rectángulo" descr=""/>
          <p:cNvPicPr/>
          <p:nvPr/>
        </p:nvPicPr>
        <p:blipFill>
          <a:blip r:embed="rId2"/>
          <a:stretch/>
        </p:blipFill>
        <p:spPr>
          <a:xfrm>
            <a:off x="353880" y="2414520"/>
            <a:ext cx="8436240" cy="2090880"/>
          </a:xfrm>
          <a:prstGeom prst="rect">
            <a:avLst/>
          </a:prstGeom>
          <a:ln w="0">
            <a:noFill/>
          </a:ln>
        </p:spPr>
      </p:pic>
      <p:sp>
        <p:nvSpPr>
          <p:cNvPr id="589" name="15 CuadroTexto"/>
          <p:cNvSpPr/>
          <p:nvPr/>
        </p:nvSpPr>
        <p:spPr>
          <a:xfrm>
            <a:off x="5297760" y="5572080"/>
            <a:ext cx="32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DIRECCIÓN DE NORMATIVIDAD</a:t>
            </a:r>
            <a:endParaRPr b="1" i="1" lang="en-US" sz="1600" spc="-1" strike="noStrike">
              <a:solidFill>
                <a:srgbClr val="000000"/>
              </a:solidFill>
              <a:latin typeface="Verdana"/>
            </a:endParaRPr>
          </a:p>
        </p:txBody>
      </p:sp>
      <p:sp>
        <p:nvSpPr>
          <p:cNvPr id="590" name="16 CuadroTexto"/>
          <p:cNvSpPr/>
          <p:nvPr/>
        </p:nvSpPr>
        <p:spPr>
          <a:xfrm>
            <a:off x="6220440" y="6072120"/>
            <a:ext cx="22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Lima, Diciembre de 2009</a:t>
            </a:r>
            <a:endParaRPr b="1" i="1" lang="en-US" sz="1400" spc="-1" strike="noStrike">
              <a:solidFill>
                <a:srgbClr val="000000"/>
              </a:solidFill>
              <a:latin typeface="Verdana"/>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8A67-A23F-490F-A6A4-21E78DE947F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2" name="Rectangle 2"/>
          <p:cNvSpPr/>
          <p:nvPr/>
        </p:nvSpPr>
        <p:spPr>
          <a:xfrm>
            <a:off x="0" y="1164600"/>
            <a:ext cx="878688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VOLUCIÓN, LIBERACIÓN E INCENTIVO TRIBUTARI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6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VENTA DE EDIFICIO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101.0903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mpensación Vacacional  (Vacaciones Trunca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202.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Bienes de Asistencia Social</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202.0303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Medicamentos para Asistencia Social</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Gobiernos Extranjero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Améric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Europ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África, Asia y Oceaní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Agencias Gubernamentales de Cooperación Internacional</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Fondo Contravalor o de Desarrollo Binacional</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stituciones Financieras Internacionale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102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Organismos</a:t>
            </a:r>
            <a:r>
              <a:rPr b="0" lang="es-ES" sz="2200" spc="-1" strike="noStrike">
                <a:solidFill>
                  <a:srgbClr val="000000"/>
                </a:solidFill>
                <a:latin typeface="Arial Narrow"/>
                <a:ea typeface="Times New Roman"/>
              </a:rPr>
              <a:t> </a:t>
            </a:r>
            <a:endParaRPr b="1" i="1" lang="en-US" sz="2200" spc="-1" strike="noStrike">
              <a:solidFill>
                <a:srgbClr val="000000"/>
              </a:solidFill>
              <a:latin typeface="Verdan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23BC-D6CF-424C-A16E-4A1147945FB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4" name="Rectangle 1"/>
          <p:cNvSpPr/>
          <p:nvPr/>
        </p:nvSpPr>
        <p:spPr>
          <a:xfrm>
            <a:off x="0" y="597600"/>
            <a:ext cx="8715240" cy="5456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Gobiernos Extranje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Améric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Europ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África, Asia y Oceaní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Agencias Gubernamentales de Cooperación Internacional </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Fondo Contravalor o de Desarrollo Binaci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stituciones Financieras Internacional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1.0202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Organism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Gobiernos Extranje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Améric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Europ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países de África, Asía y Oceaní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Agencias Gubernamentales de Cooperación Internacional </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 Fondo Contravalor o de Desarrollo Binaci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stituciones Financieras Internacional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102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Organismos</a:t>
            </a:r>
            <a:endParaRPr b="1" i="1" lang="en-US" sz="2200" spc="-1" strike="noStrike">
              <a:solidFill>
                <a:srgbClr val="000000"/>
              </a:solidFill>
              <a:latin typeface="Verdan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05E2-EA49-4694-AFBE-065B80D64D5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6" name="Rectangle 1"/>
          <p:cNvSpPr/>
          <p:nvPr/>
        </p:nvSpPr>
        <p:spPr>
          <a:xfrm>
            <a:off x="144360" y="759600"/>
            <a:ext cx="8785440" cy="5456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Gobiernos Extranje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países de Améric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países de Europ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países de África, Asía y Oceaní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Agencias Gubernamentales de Cooperación Internaci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A Fondo Contravalor o de Desarrollo Binaci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Instituciones Financieras Internacional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403.0202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Otros Organism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701.06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Costo de Venta de Bien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8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preciación Acumulada de vehículos, maquinaria y ot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91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ntrato de Arrendamiento Aprobado</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9102.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ntrato de Arrendamiento en Ejecución</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9103.0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artas Ordenes y Documentos Emitidos y/o Recibid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9104.0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ntrol de Cartas Órdenes y Documentos Emitidos y/o Recibidos.</a:t>
            </a:r>
            <a:endParaRPr b="1" i="1" lang="en-US" sz="2200" spc="-1" strike="noStrike">
              <a:solidFill>
                <a:srgbClr val="000000"/>
              </a:solidFill>
              <a:latin typeface="Verdana"/>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41AE-1C56-4C7F-86DD-D53EA419BFA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8" name="Rectangle 1"/>
          <p:cNvSpPr/>
          <p:nvPr/>
        </p:nvSpPr>
        <p:spPr>
          <a:xfrm>
            <a:off x="250200" y="1593360"/>
            <a:ext cx="8089200" cy="445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Artículo 4º.-</a:t>
            </a:r>
            <a:r>
              <a:rPr b="0" lang="es-PE" sz="2200" spc="-1" strike="noStrike">
                <a:solidFill>
                  <a:srgbClr val="000000"/>
                </a:solidFill>
                <a:latin typeface="Arial Narrow"/>
                <a:ea typeface="Times New Roman"/>
              </a:rPr>
              <a:t> Modificar en el Catálogo de Cuentas del Plan Contable </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Gubernamental 2009, los códigos de las cuentas contables, cuyo</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texto quedará redactado en la forma siguiente:</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303.0302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Servicios Recreativos y Culturales</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303.0302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Servicios Culturales y Recreativos</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403.02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 países de África, Asia y Oceanía</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403.02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 Agencias Gubernamentales de Cooperación Internacional</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403.02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 Fondo Contravalor o de Desarrollo Binacional</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1.0104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Intereses</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9107.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Regímenes</a:t>
            </a:r>
            <a:endParaRPr b="1" i="1" lang="en-US" sz="2200" spc="-1" strike="noStrike">
              <a:solidFill>
                <a:srgbClr val="000000"/>
              </a:solidFill>
              <a:latin typeface="Verdana"/>
            </a:endParaRPr>
          </a:p>
          <a:p>
            <a:pPr lvl="1" marL="457200">
              <a:lnSpc>
                <a:spcPct val="100000"/>
              </a:lnSpc>
              <a:buClr>
                <a:srgbClr val="000000"/>
              </a:buClr>
              <a:buFont typeface="Arial Narrow"/>
              <a:buChar char="•"/>
              <a:tabLst>
                <a:tab algn="l" pos="135252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Otros Regímenes</a:t>
            </a:r>
            <a:endParaRPr b="1" i="1" lang="en-US" sz="2200" spc="-1" strike="noStrike">
              <a:solidFill>
                <a:srgbClr val="000000"/>
              </a:solidFill>
              <a:latin typeface="Verdana"/>
            </a:endParaRPr>
          </a:p>
          <a:p>
            <a:pPr>
              <a:lnSpc>
                <a:spcPct val="100000"/>
              </a:lnSpc>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8B07-FF40-4A94-BAF4-2AC994578473}"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graphicFrame>
        <p:nvGraphicFramePr>
          <p:cNvPr id="593" name="Object 1"/>
          <p:cNvGraphicFramePr/>
          <p:nvPr/>
        </p:nvGraphicFramePr>
        <p:xfrm>
          <a:off x="4071960" y="0"/>
          <a:ext cx="876240" cy="785880"/>
        </p:xfrm>
        <a:graphic>
          <a:graphicData uri="http://schemas.openxmlformats.org/presentationml/2006/ole">
            <p:oleObj r:id="rId1" spid="">
              <p:embed/>
              <p:pic>
                <p:nvPicPr>
                  <p:cNvPr id="594" name="Object 1" descr=""/>
                  <p:cNvPicPr/>
                  <p:nvPr/>
                </p:nvPicPr>
                <p:blipFill>
                  <a:blip r:embed="rId2"/>
                  <a:stretch/>
                </p:blipFill>
                <p:spPr>
                  <a:xfrm>
                    <a:off x="4071960" y="0"/>
                    <a:ext cx="876240" cy="785880"/>
                  </a:xfrm>
                  <a:prstGeom prst="rect">
                    <a:avLst/>
                  </a:prstGeom>
                  <a:ln w="0">
                    <a:noFill/>
                  </a:ln>
                </p:spPr>
              </p:pic>
            </p:oleObj>
          </a:graphicData>
        </a:graphic>
      </p:graphicFrame>
      <p:sp>
        <p:nvSpPr>
          <p:cNvPr id="59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96" name="Rectangle 6"/>
          <p:cNvSpPr/>
          <p:nvPr/>
        </p:nvSpPr>
        <p:spPr>
          <a:xfrm>
            <a:off x="214200" y="884160"/>
            <a:ext cx="8572680" cy="5732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ea typeface="Times New Roman"/>
              </a:rPr>
              <a:t>	</a:t>
            </a:r>
            <a:r>
              <a:rPr b="1" lang="es-ES" sz="1800" spc="-1" strike="noStrike">
                <a:solidFill>
                  <a:srgbClr val="000000"/>
                </a:solidFill>
                <a:latin typeface="Arial Narrow"/>
                <a:ea typeface="Times New Roman"/>
              </a:rPr>
              <a:t>	</a:t>
            </a:r>
            <a:r>
              <a:rPr b="1" lang="es-ES" sz="1800" spc="-1" strike="noStrike">
                <a:solidFill>
                  <a:srgbClr val="000000"/>
                </a:solidFill>
                <a:latin typeface="Arial Narrow"/>
                <a:ea typeface="Times New Roman"/>
              </a:rPr>
              <a:t>	</a:t>
            </a:r>
            <a:r>
              <a:rPr b="1" lang="es-ES" sz="1800" spc="-1" strike="noStrike">
                <a:solidFill>
                  <a:srgbClr val="000000"/>
                </a:solidFill>
                <a:latin typeface="Arial Narrow"/>
                <a:ea typeface="Times New Roman"/>
              </a:rPr>
              <a:t>	</a:t>
            </a:r>
            <a:r>
              <a:rPr b="1" lang="es-ES" sz="1800" spc="-1" strike="noStrike">
                <a:solidFill>
                  <a:srgbClr val="000000"/>
                </a:solidFill>
                <a:latin typeface="Arial Narrow"/>
                <a:ea typeface="Times New Roman"/>
              </a:rPr>
              <a:t>PROYECTO </a:t>
            </a:r>
            <a:br>
              <a:rPr sz="1800"/>
            </a:br>
            <a:r>
              <a:rPr b="1" lang="es-ES" sz="1800" spc="-1" strike="noStrike">
                <a:solidFill>
                  <a:srgbClr val="000000"/>
                </a:solidFill>
                <a:latin typeface="Arial Narrow"/>
                <a:ea typeface="Times New Roman"/>
              </a:rPr>
              <a:t>                                                </a:t>
            </a:r>
            <a:r>
              <a:rPr b="1" lang="es-PE" sz="2800" spc="-1" strike="noStrike">
                <a:solidFill>
                  <a:srgbClr val="000000"/>
                </a:solidFill>
                <a:latin typeface="Times New Roman"/>
                <a:ea typeface="Times New Roman"/>
              </a:rPr>
              <a:t>Resolución Directoral</a:t>
            </a:r>
            <a:endParaRPr b="1" i="1"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Lima, 04 de diciembre de 2009</a:t>
            </a: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Nº 014-2009-EF/93.01</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Vista, la propuesta de incluir, excluir y modificar las cuentas, en el Catálogo de Cuentas del Plan Contable Gubernamental 2009.</a:t>
            </a:r>
            <a:r>
              <a:rPr b="1" lang="es-PE" sz="1800" spc="-1" strike="noStrike">
                <a:solidFill>
                  <a:srgbClr val="000000"/>
                </a:solidFill>
                <a:latin typeface="Arial Narrow"/>
                <a:ea typeface="Times New Roman"/>
              </a:rPr>
              <a:t>	</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CONSIDERANDO:</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Que, mediante Resolución Directoral Nº 001-2009-EF/93.01 se aprueba el uso obligatorio del Plan Contable Gubernamental 2009, con vigencia  a partir del ejercicio del año 2009 y comprende su alcance a las entidades públicas de la actividad gubernamental del Estado;</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Que, el artículo 42º de la Ley Nº 28112 Ley Marco de la Administración Financiera del Sector Público, establece que la Dirección Nacional de Contabilidad Pública es el órgano rector del Sistema Nacional de Contabilidad, dicta las normas y establece los procedimientos relacionados con su ámbito; asimismo, norma los procedimientos contables para el registro sistemático de todas las transacciones de las entidades del Sector Público, con incidencia en la situación económico –financiera;</a:t>
            </a:r>
            <a:endParaRPr b="1" i="1" lang="en-US" sz="1800" spc="-1" strike="noStrike">
              <a:solidFill>
                <a:srgbClr val="000000"/>
              </a:solidFill>
              <a:latin typeface="Verdana"/>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151D-7D83-4324-B363-627BC011D6A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8" name="Rectangle 1"/>
          <p:cNvSpPr/>
          <p:nvPr/>
        </p:nvSpPr>
        <p:spPr>
          <a:xfrm>
            <a:off x="214200" y="691920"/>
            <a:ext cx="8715600" cy="420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Que, los artículos 7º y 16º de la Ley Nº 28708 Ley General del Sistema Nacional de Contabilidad confiere a la Dirección Nacional de Contabilidad Pública las atribuciones de: emitir resoluciones que aprueban las normas y procedimientos de contabilidad que deben regir en el Sector Público; asimismo, establece que el  registro contable es el acto que consiste en anotar los datos de una transacción en las cuentas correspondientes del Plan Contable Gubernamental, que el registro contable oficial es el autorizado por la Dirección Nacional de Contabilidad Pública, estando las entidades del Sector Público obligadas a su total cumplimiento;</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Que, mediante Resolución  Directoral Nº 008-2009-EF/93.01 se prorrogó hasta el treinta (30) de noviembre del  año 2009, la presentación de la información financiera y presupuestaria del primer trimestre y primer semestre del presente ejercicio; igualmente se prorrogó hasta el quince (15) de enero del año 2010, la presentación de la información financiera y presupuestaria del tercer trimestre del ejercicio del año 2009, para todas las entidades gubernamentales comprendidas en la Directiva Nº 004-2007-EF/93.01;</a:t>
            </a:r>
            <a:endParaRPr b="1" i="1" lang="en-US" sz="18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13C2-BFA8-499F-AF6C-F69BE69D9FE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0" name="Rectangle 1"/>
          <p:cNvSpPr/>
          <p:nvPr/>
        </p:nvSpPr>
        <p:spPr>
          <a:xfrm>
            <a:off x="142920" y="864720"/>
            <a:ext cx="878688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Que, la Dirección de Normatividad, propone la incorporación, exclusión y modificación de cuentas contables en el Catálogo de Cuentas del Plan Contable Gubernamental 2009, para estos casos se ha considerado la naturaleza de las cuentas contables, dispositivos legales y normas sobre la materia; tal como en la incorporación de nuevas cuentas, las cuales tienen su origen en los clasificadores aprobados por la Dirección Nacional del Presupuesto Público, así como las cuentas contables propias para PROINVERSIÓN y SUNAT; en cuanto a la exclusión de cuentas se ha considerado las que no están comprendidas en el mencionado clasificador de ingresos y gastos:</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Que, es necesario incluir, excluir y modificar las cuentas propuestas, en el  Catálogo de Cuentas del Plan  Contable Gubernamental  2009; y</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En uso de las atribuciones conferidas por el articulo 42º de la Ley Nº 28112 Ley Marco de la Administración Financiera del Sector Público y el artículo 7º inciso a) de la Ley Nº 28708, Ley General del Sistema Nacional de Contabilidad;</a:t>
            </a: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Narrow"/>
                <a:ea typeface="Times New Roman"/>
              </a:rPr>
              <a:t>	</a:t>
            </a:r>
            <a:r>
              <a:rPr b="1" lang="es-PE" sz="1800" spc="-1" strike="noStrike">
                <a:solidFill>
                  <a:srgbClr val="000000"/>
                </a:solidFill>
                <a:latin typeface="Arial Narrow"/>
                <a:ea typeface="Times New Roman"/>
              </a:rPr>
              <a:t>SE RESUELVE:</a:t>
            </a:r>
            <a:endParaRPr b="1" i="1" lang="en-US" sz="18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3890-47CB-419E-9DDE-2C48FC4A8CE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2" name="Rectangle 3"/>
          <p:cNvSpPr/>
          <p:nvPr/>
        </p:nvSpPr>
        <p:spPr>
          <a:xfrm>
            <a:off x="275760" y="742680"/>
            <a:ext cx="8456040" cy="5791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Artículo 1º.-</a:t>
            </a:r>
            <a:r>
              <a:rPr b="0" lang="es-PE" sz="2200" spc="-1" strike="noStrike">
                <a:solidFill>
                  <a:srgbClr val="000000"/>
                </a:solidFill>
                <a:latin typeface="Arial Narrow"/>
                <a:ea typeface="Times New Roman"/>
              </a:rPr>
              <a:t> Incluir en el Catálogo de Cuentas del Plan Contable Gubernamental </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2009, las cuentas que se detallan a continuación: </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101.02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Fondo de Devoluciones en Efectiv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201.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uentas por Cobrar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1.089908</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as Estructuras en Construcción</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1.0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Edificios y Estructuras Afectadas en us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2.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Terrenos Afectados en Us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5.03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Gastos por la Contratación de Personal</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5.03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Gasto por la Compra de Biene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5.03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Gasto por la Contratación de Servicios </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5.03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Gasto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8.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dquiridos en Arrendamiento Financier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8.01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Entregados en Concesión</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8.0107</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Edificios y Estructuras Afectados en Us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8.02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dquiridos en Arrendamiento Financiero</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501.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gresos Diferidos – Promoción de la Inversión Privada</a:t>
            </a:r>
            <a:endParaRPr b="1" i="1" lang="en-US" sz="2200" spc="-1" strike="noStrike">
              <a:solidFill>
                <a:srgbClr val="000000"/>
              </a:solidFill>
              <a:latin typeface="Verdana"/>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85A2-B86A-453D-9483-F1689116549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4" name="Rectangle 2"/>
          <p:cNvSpPr/>
          <p:nvPr/>
        </p:nvSpPr>
        <p:spPr>
          <a:xfrm>
            <a:off x="258120" y="667440"/>
            <a:ext cx="7927560" cy="512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501.05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Transferencia de Activos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501.05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Subasta Pública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501.05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501.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iferencia de Cambio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3201.01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Resultado Neto – Promoción de la Inversión Privada</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Liberación Tributaria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4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Liberación de Tributos Internos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4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Liberación de Tributos Aduaneros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centivo Tributario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5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centivo de Tributos Internos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107.05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centivo de Tributos Aduaneros - SUNAT – C</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302.1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volución de Derechos Administrativo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302.1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volución de Derechos Administrativo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2.01060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Multas por Infracciones Mineras</a:t>
            </a:r>
            <a:endParaRPr b="1" i="1"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ea typeface="Times New Roman"/>
              </a:rPr>
              <a:t> </a:t>
            </a:r>
            <a:endParaRPr b="1" i="1" lang="en-US" sz="2200" spc="-1" strike="noStrike">
              <a:solidFill>
                <a:srgbClr val="000000"/>
              </a:solidFill>
              <a:latin typeface="Verdana"/>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4588-0059-4A42-83F9-25EE8CDE4B2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6" name="Rectangle 2"/>
          <p:cNvSpPr/>
          <p:nvPr/>
        </p:nvSpPr>
        <p:spPr>
          <a:xfrm>
            <a:off x="272520" y="524520"/>
            <a:ext cx="8012880" cy="512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GRESOS PROMOCIÓN DE LA INVERSIÓN PRIVAD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6.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Resultado Neto – Promoción de la Inversión Privad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6.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Intereses Diferidos – Promoción de la Inversión Privada </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4506.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iferencia de cambio – Promoción de la Inversión Privad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101.0101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Personal Contratado – Régimen Laboral de Gerentes Públic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101.010205</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Bonificación por Cambio de Residencia</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302.0702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Locación de Servicios – Fondo de Apoyo Gerenci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302.075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Estipendio a los Candidatos a Gerentes Públic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Gastos Financie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iferencial Cambiario</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Bon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rédit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1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2</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interes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5901.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Gastos Financieros</a:t>
            </a:r>
            <a:endParaRPr b="1" i="1" lang="en-US" sz="2200" spc="-1" strike="noStrike">
              <a:solidFill>
                <a:srgbClr val="000000"/>
              </a:solidFill>
              <a:latin typeface="Verdana"/>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EFDA-0160-4BED-972A-71A8F4A9AD4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8" name="Rectangle 1"/>
          <p:cNvSpPr/>
          <p:nvPr/>
        </p:nvSpPr>
        <p:spPr>
          <a:xfrm>
            <a:off x="6120" y="1517760"/>
            <a:ext cx="9195120" cy="3780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Artículo 2º.-</a:t>
            </a:r>
            <a:r>
              <a:rPr b="0" lang="es-PE" sz="2200" spc="-1" strike="noStrike">
                <a:solidFill>
                  <a:srgbClr val="000000"/>
                </a:solidFill>
                <a:latin typeface="Arial Narrow"/>
                <a:ea typeface="Times New Roman"/>
              </a:rPr>
              <a:t> Excluir en el Catálogo de Cuentas del Plan Contable Gubernamental 2009,</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las cuentas que se detallan a continuación:</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Mejoramiento de la Calidad de Gestión</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101           Gastos por la Contratación de Pers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102           Gastos por la Compra de Bien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103           Gastos por la Contratación de Servicio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6</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Gastos de Mejoramiento de la Calidad del Gasto Público</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601           Gastos por la Contratación de Personal</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602           Gastos por la Compra de Bienes</a:t>
            </a:r>
            <a:endParaRPr b="1" i="1"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1504.0603           Gastos por la Contratación de Servicios</a:t>
            </a:r>
            <a:endParaRPr b="1" i="1" lang="en-US" sz="22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E90D-F193-4E24-8016-3D6817E42B5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0" name="Rectangle 1"/>
          <p:cNvSpPr/>
          <p:nvPr/>
        </p:nvSpPr>
        <p:spPr>
          <a:xfrm>
            <a:off x="0" y="385560"/>
            <a:ext cx="9001080" cy="5791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Artículo 3º.- </a:t>
            </a:r>
            <a:r>
              <a:rPr b="0" lang="es-PE" sz="2200" spc="-1" strike="noStrike">
                <a:solidFill>
                  <a:srgbClr val="000000"/>
                </a:solidFill>
                <a:latin typeface="Arial Narrow"/>
                <a:ea typeface="Times New Roman"/>
              </a:rPr>
              <a:t>Modificar en el Catálogo de Cuentas del Plan Contable </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Gubernamental 2009, las denominaciones de las cuentas contables, </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cuyo texto quedará redactado en la forma siguiente</a:t>
            </a:r>
            <a:r>
              <a:rPr b="1" lang="es-PE" sz="2200" spc="-1" strike="noStrike">
                <a:solidFill>
                  <a:srgbClr val="000000"/>
                </a:solidFill>
                <a:latin typeface="Arial Narrow"/>
                <a:ea typeface="Times New Roman"/>
              </a:rPr>
              <a:t>:</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202.98</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as Cuentas por Cobrar</a:t>
            </a:r>
            <a:endParaRPr b="1" i="1" lang="en-US" sz="2200" spc="-1" strike="noStrike">
              <a:solidFill>
                <a:srgbClr val="000000"/>
              </a:solidFill>
              <a:latin typeface="Verdana"/>
            </a:endParaRPr>
          </a:p>
          <a:p>
            <a:pPr indent="449280" algn="just">
              <a:lnSpc>
                <a:spcPct val="100000"/>
              </a:lnSpc>
              <a:buClr>
                <a:srgbClr val="000000"/>
              </a:buClr>
              <a:buFont typeface="Arial Narrow"/>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Arial Narrow"/>
                <a:ea typeface="Times New Roman"/>
              </a:rPr>
              <a:t>1209                 ESTIMACIÓN DE CUENTAS DE COBRANZA DUDOSA (CR)</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303.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Bienes de Asistencia Social</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303.0103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Medicamentos para Asistencia Social</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401.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Fluctuación de Inversión en Títulos y Valores</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402.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Fluctuación en Acciones y Participación de Capital</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1.08</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nstrucción de Estructuras</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5.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Gastos Diversos de Activos No Financieros</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1508.0104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Construcción de Estructuras</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102.040101</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Gratificaciones</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103.99</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as Cuentas por Pagar</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301.020303</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De la Banca Privada y Financiera</a:t>
            </a:r>
            <a:endParaRPr b="1" i="1" lang="en-US" sz="2200" spc="-1" strike="noStrike">
              <a:solidFill>
                <a:srgbClr val="000000"/>
              </a:solidFill>
              <a:latin typeface="Verdana"/>
            </a:endParaRPr>
          </a:p>
          <a:p>
            <a:pPr algn="just">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Narrow"/>
                <a:ea typeface="Times New Roman"/>
              </a:rPr>
              <a:t>2301.020304</a:t>
            </a:r>
            <a:r>
              <a:rPr b="0" lang="es-PE" sz="2200" spc="-1" strike="noStrike">
                <a:solidFill>
                  <a:srgbClr val="000000"/>
                </a:solidFill>
                <a:latin typeface="Arial Narrow"/>
                <a:ea typeface="Times New Roman"/>
              </a:rPr>
              <a:t>	</a:t>
            </a:r>
            <a:r>
              <a:rPr b="0" lang="es-PE" sz="2200" spc="-1" strike="noStrike">
                <a:solidFill>
                  <a:srgbClr val="000000"/>
                </a:solidFill>
                <a:latin typeface="Arial Narrow"/>
                <a:ea typeface="Times New Roman"/>
              </a:rPr>
              <a:t>   Otros Créditos Internos</a:t>
            </a:r>
            <a:endParaRPr b="1" i="1" lang="en-US" sz="22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mef</cp:lastModifiedBy>
  <cp:lastPrinted>2004-07-15T16:43:21Z</cp:lastPrinted>
  <dcterms:modified xsi:type="dcterms:W3CDTF">2009-12-15T01:12:34Z</dcterms:modified>
  <cp:revision>793</cp:revision>
  <dc:subject/>
  <dc:title>Presentación de PowerPoint</dc:title>
</cp:coreProperties>
</file>