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973888" cy="10109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250-245E-43C2-8EB6-377C33F2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1AA-7033-417C-8427-8BF81D55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C86D1-FB3E-490F-A3C0-2565FB97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26343-49A5-4089-ADB8-69F724B1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F4F87-9B1E-4F6D-BF58-1657D979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A3A79-AA06-412A-9A84-88063CA4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8BFE2-D69C-4812-B07E-57E945E2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D51F1-3D6E-4D08-B19A-89263D0F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97F7C-900E-4E1F-BEA7-5D23D492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D4154-11B4-4EFF-A4A1-714AB9B8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9923E-9CC4-4DFE-97EA-7224B505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09EB4-A421-4006-89B1-E246E890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AF2-1165-4186-B728-2CDB729B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D5507-5F68-451B-A129-34CB4E85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20A13-7368-43A5-9DA2-F667ED18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803EA-0EFE-47B3-A19C-5137575A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22E3C-B066-4C98-9D07-0B1C30B9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C3E3D-392E-43D1-9CA0-6E9AE09B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3C23D-AC2A-4C84-B9E1-AE7E59DA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56092-C7A0-4513-A969-069CC403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75815-511B-4D56-BCD1-DE1793DF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28A51-A9EF-4618-AEC8-43ED245A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B7B50-06FF-4732-80E5-E6F9C1F2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D8F-DC39-429C-80EB-1639C368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80FF6-7908-43ED-B8D2-917FC84A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28913-A364-47FD-92FA-8DA81751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3A5A8-7A43-4ADF-A2B9-48DCB57E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AA5A2-7E22-4CF3-9075-38F63A51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622DE-F48E-477B-A9D6-B77FABC6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393BE-7EAB-466F-920B-D4687887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16EC2-5A04-48DB-8A7F-C5E126B7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CA14A-A8A6-4FDC-B667-A0FE240C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A2614-088D-4B74-8593-0F0E06F3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97D31-F14F-4B07-B918-83417BA6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73D5-5725-4432-AF19-38E142B1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985F9-24BE-440A-BF74-797F66A5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F7818-9018-4CBF-B130-734A7D11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3D38A-749A-4A5C-8141-656A2721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CA76D-731F-4D46-A60C-19767144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2F58A-81A8-4B88-8E97-B9CAAB9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6D20F-A84F-455A-9102-DFE097F8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DDCDC-406A-4321-BD43-EE4AFDAF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4FD68-5C71-48B1-BA96-59A2F2BC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17DF0-BCF0-4244-8346-E3E70407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3814C-0DFC-46CD-B634-E94F050D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E69B-67DB-4D4B-A65C-2C241091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1F849-BC9B-429D-8647-A629769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7A5A1-3EDB-4E81-A1FC-5BE84822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76174-6A37-4620-97D9-2E1533AF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18BF2-7B4C-4A64-829C-D5BBFFF7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45D74-ED7F-4EDF-B9E3-E8BB791E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05334-7528-4733-B4FD-8CE37820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7B566-4736-45D2-BD9B-5BB14916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FA4A3-2C6B-40F9-8559-720F87EB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DEC57-0EE8-4614-BA3C-7F7FE55D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CC060-1A32-467C-995C-D4564E29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5D81-69C1-474A-BC38-4C6DF46F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88BCD-F68D-459B-A67C-37CCF6BB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5F6C2-0B93-4368-A3F1-D91AAB0E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0D3CC-8ACA-441C-B5B3-163F7B81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74D1F-4C71-4041-98A9-C3BDBE3D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0C037-F474-40E6-8390-AD39B804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BA9EA-E610-4211-A091-2523BA6C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E39DB-FEC5-4048-B35C-E7A1D62A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151142-3E54-4BB9-995F-28FBEF6F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8862C-9EBF-45CB-8B21-EC36342E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0B186-53C7-4FC7-8AF6-7FF1A18D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04D2-B36A-466A-AA49-ADC8915F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4281E8-271F-4A27-8346-70A3E460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D89CA-80BB-4597-9F0D-B1F9FD78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B4E46-AD0A-4185-9393-613BF3BB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69021-030E-420D-AF89-C413C43A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A0919-2F69-4AE6-B02C-A56191FA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1FB7A-D1E6-4D1B-B6AE-FAC8CA81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44DF5-CBFB-4DA7-A83F-52D8B6F3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A26E70-5E36-4F12-B34C-ACE1C4E5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6BC17-F17E-4F04-9B24-99BF2F18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7BE1-B89C-48D3-8BD4-863A69CB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1C2D-9696-4BF9-8429-385E7495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9C9F-5C53-49DE-8632-9A1AF51B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7ED-D31D-4114-92CF-9D032D8A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E717-FD01-45BC-A37A-4D95DEEC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45B6-B618-4568-9053-C8CFEAF7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C079-B009-4C94-B105-9477A5B9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A686-D9BD-4F74-A245-C343BF8D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C4EE-0FC5-4483-980F-F9F952C5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CB426-241C-4FBC-BD77-E58A43CA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3833-167F-4858-8398-46E36393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AF64-E010-4081-9531-5E0200A5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05C8-CE6F-4E6E-A5F1-46FA384D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2B780-6F4A-4A45-AE3E-3B63219F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7F9-CDF9-4E0E-B32C-B347AEC7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50FC-940B-4179-AB9E-193EB451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851A0-8CEE-42E7-B501-DC37CC40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4D68A-D94B-48A9-9B16-0CE52B9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D30B6-A476-47DA-8D7B-C9E51026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A782-F088-4953-BDE8-6CAB22F1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DCA9-05D4-490E-BB64-9C541E4E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E03A-7B5D-401D-A06C-C08847E8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93D41-2AC1-4091-B13C-31631D6D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4C3E6-B38D-4310-AB98-81C7C79B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078B-CC0F-4391-B2E7-1EDD0BEA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3A7-A84F-43FF-AD79-DE302E3F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062FB-FF96-4A21-9C25-47813548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6D937-D984-45D2-B55B-CD23E8C3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C3EE1-71AD-4FE7-8B3D-96324D77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74FBD-4B85-4DA6-814A-D68220EB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F7DD8-0028-486A-9031-D5439351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6AA03-02BB-4BD8-9680-A7C28FCB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72F87-E4C8-4172-B053-F611460E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FA2F8-DA51-45F8-9B47-6B4D7B02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9C9AF-6287-42F1-83B8-CEFF3247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94460-7464-448C-8034-8924D2F7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92E-28C8-4C6A-BA11-D41555EE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26EDD-7806-4CD8-9616-46EE82DE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D1A9B-D81C-4F89-A206-EB1CE3FD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FD7F9-8913-452E-BC58-5F16825D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09B49-60BF-48A3-A946-B20D64E1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D2EB1-AA6A-4D01-8B09-6E440717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3E7DA-CA70-4569-B858-AFBEBC26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41893-D0C9-470D-AE27-967D0783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8BAD3-A893-4FE6-8EBA-B41311ED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12195-FCD2-48F5-9053-04834FB4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BA52A-EB8A-4C6F-BC3D-B3AFA0F5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48E-AA16-4D41-969B-81E6611C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0269E-BA71-477D-A43F-09485FE3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77FF7-A613-4F84-BF01-454DD5C1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D3B02-818C-4B47-9B26-5CC5DEE7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110D0-22C5-4AB3-BEF9-315A6FB5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18D53-6980-4A68-8051-8726F6C8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55E5D-DEF8-401D-9749-65DAECF1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A5A1C-5306-4B65-B769-EF6CAB7A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BEE6E-B1F7-4B55-BE50-9A64C71B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EE60A-C484-4614-9588-C840F4CA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311D0-4FF2-436D-8F10-688F29F3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5C8-C747-402A-AE6F-B5FF2798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03E90-76D6-40F8-B163-9E8BD8D8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0EE47-A34F-4650-A72E-77789CFE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4012F-6A1F-4CC0-A457-471A2232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F2645-D38D-4617-A7E0-C000217B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01731-681F-419E-ACCF-3440C831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B466D-F220-440F-B3B6-FB610586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B90E5-B969-485E-A3A9-77394BCC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E8A8D-C854-491D-8C0B-FD5FF3DF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85924-6D5F-4F36-9D32-95C69006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8BE5A-EC79-48AB-8343-0539479C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C53-06B8-4E69-8FC0-3227C0D3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EE17C-CB27-4FA1-818B-8D1C6FEE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00D1B-252A-4047-8735-39EB2C27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B081D-CDBD-4A8A-9A3C-AA1E593D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13BB2-02EF-48E4-98AE-B0728715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BAC8A-8C00-4C19-912E-D4EA67B8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4DE02-8743-49FF-9144-F82EB8E5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F3D32-F31C-498F-8F73-3561D105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E9A3F-AE26-4333-964C-CF4CDD84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30AF5-0789-45AC-BE7A-67A51F39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BFB17-B04C-4841-9BA3-12F29DBE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0DC-BAFB-4B53-8D17-9B0CEAA6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38AE9-CFA2-48D3-AD0C-7881341C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C0761-C9AC-41EB-8125-FEC83CA5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172B6-BCCA-4374-89F1-713D269E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82271-AC6B-43A9-B7E3-77B8D213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628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B7D41-0225-41A1-987C-2057A11A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59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6628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59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056CF-26CC-4236-9146-F9768BC3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716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662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716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7708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2E52E-0D84-4052-A1B3-269A01E2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986D4-B9A3-4A92-95E2-9DD883B8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BEF6C-0969-49F0-A8E8-6F895D31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28A58-CAE8-4157-B511-AC67B55E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29528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11280" y="6597720"/>
            <a:ext cx="792468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C32D-81ED-46B2-B271-172FF6F9A16F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262-2019-4659-8B89-436D3A531B0E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7AF5-E693-4E2F-BFFB-B3BEE5F61142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8B02-58BD-453F-99C3-1FEB6D515F33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310C-642F-4DC6-B72C-EC42B0616042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3463-9E78-43DE-8E67-8943F3C57455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3769-313F-4197-9069-0C6DB714CAEA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8268-5115-4387-8E60-C502883DC9AC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CA25-6291-4AE4-A555-564D76A154E3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549C-ACCC-44F1-8E9B-F15613A39F33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32E1-8BB5-4962-9477-680E3A2EEB75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BAA4-0744-4F8F-8F7D-39940C5257C0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5B41-67FD-480A-8ECE-1A0AEEB4B722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662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Aft>
                <a:spcPts val="751"/>
              </a:spcAft>
              <a:buClr>
                <a:srgbClr val="cc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 algn="just">
              <a:spcAft>
                <a:spcPts val="75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 algn="just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E2C7-BF69-49D7-8C7C-2CC621EB99A4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Rectangle 26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1" name="Group 5"/>
          <p:cNvGrpSpPr/>
          <p:nvPr/>
        </p:nvGrpSpPr>
        <p:grpSpPr>
          <a:xfrm>
            <a:off x="611280" y="476280"/>
            <a:ext cx="7992720" cy="792000"/>
            <a:chOff x="611280" y="476280"/>
            <a:chExt cx="7992720" cy="792000"/>
          </a:xfrm>
        </p:grpSpPr>
        <p:grpSp>
          <p:nvGrpSpPr>
            <p:cNvPr id="582" name="Group 6"/>
            <p:cNvGrpSpPr/>
            <p:nvPr/>
          </p:nvGrpSpPr>
          <p:grpSpPr>
            <a:xfrm>
              <a:off x="611280" y="476280"/>
              <a:ext cx="1024560" cy="792000"/>
              <a:chOff x="611280" y="476280"/>
              <a:chExt cx="1024560" cy="792000"/>
            </a:xfrm>
          </p:grpSpPr>
          <p:pic>
            <p:nvPicPr>
              <p:cNvPr id="583" name="Picture 7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611280" y="605520"/>
                <a:ext cx="1024560" cy="66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WordArt 8"/>
              <p:cNvSpPr txBox="1"/>
              <p:nvPr/>
            </p:nvSpPr>
            <p:spPr>
              <a:xfrm>
                <a:off x="708120" y="476280"/>
                <a:ext cx="774360" cy="2584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585" name="Rectangle 9"/>
            <p:cNvSpPr/>
            <p:nvPr/>
          </p:nvSpPr>
          <p:spPr>
            <a:xfrm>
              <a:off x="5870160" y="498960"/>
              <a:ext cx="2733840" cy="768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irección Nacional de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Contabilidad Pública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Rectangle 10"/>
            <p:cNvSpPr/>
            <p:nvPr/>
          </p:nvSpPr>
          <p:spPr>
            <a:xfrm>
              <a:off x="3136320" y="498960"/>
              <a:ext cx="2733840" cy="7689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Ministerio de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Economía y Finanzas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Rectangle 11"/>
            <p:cNvSpPr/>
            <p:nvPr/>
          </p:nvSpPr>
          <p:spPr>
            <a:xfrm>
              <a:off x="1663920" y="498960"/>
              <a:ext cx="1565280" cy="7689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pPr algn="ctr">
                <a:tabLst>
                  <a:tab algn="l" pos="0"/>
                  <a:tab algn="ctr" pos="2455920"/>
                  <a:tab algn="r" pos="491004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PE" sz="12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PERÚ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8" name="Rectangle 25"/>
          <p:cNvSpPr/>
          <p:nvPr/>
        </p:nvSpPr>
        <p:spPr>
          <a:xfrm>
            <a:off x="1979640" y="5357880"/>
            <a:ext cx="6858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con. JORGE RIVERA CALDERÓN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ima,  Diciembre de 2009.</a:t>
            </a:r>
            <a:endParaRPr b="1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9" name="17 Rectángulo" descr=""/>
          <p:cNvPicPr/>
          <p:nvPr/>
        </p:nvPicPr>
        <p:blipFill>
          <a:blip r:embed="rId2"/>
          <a:stretch/>
        </p:blipFill>
        <p:spPr>
          <a:xfrm>
            <a:off x="743040" y="2341440"/>
            <a:ext cx="773100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4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2EF-9CEC-4D65-8CAC-8A86F329D039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468360" y="26028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00000"/>
              </a:lnSpc>
              <a:spcAft>
                <a:spcPts val="11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f0000"/>
                </a:solidFill>
                <a:latin typeface="Arial"/>
              </a:rPr>
              <a:t>¿Por qué cambiar los Clasificadores Presupuestarios y el Plan de Cuentas?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539640" y="1989000"/>
            <a:ext cx="82296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Con el objeto de fortalecer el manejo fiscal, el gobierno ha decidió modernizar los clasificadores presupuestarios bajo estándares internacionales.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Los nuevos clasificadores presupuestarios están armonizados con el Manual de Estadísticas de Finanzas Públicas 2001 del Fondo Monetario Internacional.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4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C80C-01AC-46A1-B674-F0BE3285C161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428760" y="214200"/>
            <a:ext cx="822960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00000"/>
              </a:lnSpc>
              <a:spcAft>
                <a:spcPts val="11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f0000"/>
                </a:solidFill>
                <a:latin typeface="Arial"/>
              </a:rPr>
              <a:t>Marco Conceptual de los Nuevos Clasificadores Presupuestarios 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395280" y="1932120"/>
            <a:ext cx="822960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Existen dos conceptos alternativos de balance fiscal, uno enfocado a las Necesidades de Endeudamiento del Sector Público (NESP) y el otro a la variación del patrimonio neto (VPN).</a:t>
            </a:r>
            <a:endParaRPr b="1" i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El enfoque NESP da cuenta de una preocupación con la restricción presupuestaria de corto plazo. </a:t>
            </a:r>
            <a:endParaRPr b="1" i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En el caso del déficit medido como VPN, la preocupación es respecto de la restricción presupuestaria intertemporal.</a:t>
            </a:r>
            <a:endParaRPr b="1" i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4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C5DD-4CBB-49A9-8FFB-2D101F8E1D89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Rectangle 2"/>
          <p:cNvSpPr/>
          <p:nvPr/>
        </p:nvSpPr>
        <p:spPr>
          <a:xfrm>
            <a:off x="468360" y="11592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00000"/>
              </a:lnSpc>
              <a:spcAft>
                <a:spcPts val="1199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f0000"/>
                </a:solidFill>
                <a:latin typeface="Arial"/>
              </a:rPr>
              <a:t>Marco Conceptual de los Nuevos Clasificadores Presupuestario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684360" y="1673280"/>
            <a:ext cx="8229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300" spc="-1" strike="noStrike">
                <a:solidFill>
                  <a:srgbClr val="000000"/>
                </a:solidFill>
                <a:latin typeface="Arial"/>
              </a:rPr>
              <a:t>Restricción presupuestaria temporal.</a:t>
            </a:r>
            <a:endParaRPr b="1" i="1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300" spc="-1" strike="noStrike">
                <a:solidFill>
                  <a:srgbClr val="000000"/>
                </a:solidFill>
                <a:latin typeface="Verdana"/>
              </a:rPr>
              <a:t>IT–GT= RG= – Financiamiento= EN+FIN</a:t>
            </a:r>
            <a:endParaRPr b="1" i="1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300" spc="-1" strike="noStrike">
                <a:solidFill>
                  <a:srgbClr val="000000"/>
                </a:solidFill>
                <a:latin typeface="Arial"/>
              </a:rPr>
              <a:t>Enfatiza como se financia el déficit hoy (flujo) y su impacto en la deuda (stock) </a:t>
            </a:r>
            <a:endParaRPr b="1" i="1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300" spc="-1" strike="noStrike">
                <a:solidFill>
                  <a:srgbClr val="000000"/>
                </a:solidFill>
                <a:latin typeface="Arial"/>
              </a:rPr>
              <a:t>Determina las necesidades de liquidez (base caja) </a:t>
            </a:r>
            <a:endParaRPr b="1" i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C7DB-D2F6-47C5-96F1-D7CC4E7CD4DF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400" spc="-1" strike="noStrike">
                <a:solidFill>
                  <a:srgbClr val="ff0000"/>
                </a:solidFill>
                <a:latin typeface="Arial"/>
                <a:ea typeface="Arial"/>
              </a:rPr>
              <a:t>Marco Conceptual de los Nuevos Clasificadores Presupuestario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428760" y="1673280"/>
            <a:ext cx="84852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Los estándares internacionales sobre estadísticas fiscales han comenzado a migrar desde un balance de NESP a uno de VPN. El MEFP 2001 va en esta dirección.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El MEFP 2001 propone un marco integrado de flujos y saldos a través del registro combinado de todas las operaciones que afectan la situación patrimonial del gobierno. 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71280" y="5716440"/>
            <a:ext cx="9001440" cy="7855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 u="sng">
                <a:solidFill>
                  <a:srgbClr val="000000"/>
                </a:solidFill>
                <a:uFillTx/>
                <a:latin typeface="Verdana"/>
              </a:rPr>
              <a:t>MEFP 2001:</a:t>
            </a:r>
            <a:endParaRPr b="1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http://www.imf.org/external/pubs/ft/gfs/manual/esl/pdf/all.pdf</a:t>
            </a:r>
            <a:endParaRPr b="1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80D3-DAB0-4485-915E-A65D3C50FCDD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5280" y="3567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400" spc="-1" strike="noStrike">
                <a:solidFill>
                  <a:srgbClr val="ff0000"/>
                </a:solidFill>
                <a:latin typeface="Arial"/>
                <a:ea typeface="Arial"/>
              </a:rPr>
              <a:t>Marco Conceptual de los Nuevos Clasificadores Presupuestario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611280" y="1700280"/>
            <a:ext cx="7848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sistema integrado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lena integración de flujos y saldos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estados de operación y balances generales)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incipio básic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del sistema del MEFP 2001: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gra los registros en base caja y devengado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2411280" y="3789360"/>
            <a:ext cx="32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s-PE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i="1" lang="es-P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 + F</a:t>
            </a:r>
            <a:endParaRPr b="1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4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1306-3965-4B62-99B4-3C5CDFD8DEC7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8244000" y="6093000"/>
            <a:ext cx="183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Text Box 2"/>
          <p:cNvSpPr/>
          <p:nvPr/>
        </p:nvSpPr>
        <p:spPr>
          <a:xfrm>
            <a:off x="609480" y="30492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3" name="Group 4"/>
          <p:cNvGrpSpPr/>
          <p:nvPr/>
        </p:nvGrpSpPr>
        <p:grpSpPr>
          <a:xfrm>
            <a:off x="228600" y="304920"/>
            <a:ext cx="1600200" cy="5638680"/>
            <a:chOff x="228600" y="304920"/>
            <a:chExt cx="1600200" cy="5638680"/>
          </a:xfrm>
        </p:grpSpPr>
        <p:sp>
          <p:nvSpPr>
            <p:cNvPr id="634" name="Text Box 5"/>
            <p:cNvSpPr/>
            <p:nvPr/>
          </p:nvSpPr>
          <p:spPr>
            <a:xfrm>
              <a:off x="228600" y="304920"/>
              <a:ext cx="160020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ALANCE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DE 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PERTURA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rimonio neto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35" name="Group 6"/>
            <p:cNvGrpSpPr/>
            <p:nvPr/>
          </p:nvGrpSpPr>
          <p:grpSpPr>
            <a:xfrm>
              <a:off x="380880" y="2668680"/>
              <a:ext cx="1238040" cy="3203280"/>
              <a:chOff x="380880" y="2668680"/>
              <a:chExt cx="1238040" cy="3203280"/>
            </a:xfrm>
          </p:grpSpPr>
          <p:grpSp>
            <p:nvGrpSpPr>
              <p:cNvPr id="636" name="Group 7"/>
              <p:cNvGrpSpPr/>
              <p:nvPr/>
            </p:nvGrpSpPr>
            <p:grpSpPr>
              <a:xfrm>
                <a:off x="380880" y="2668680"/>
                <a:ext cx="1238040" cy="847440"/>
                <a:chOff x="380880" y="2668680"/>
                <a:chExt cx="1238040" cy="847440"/>
              </a:xfrm>
            </p:grpSpPr>
            <p:sp>
              <p:nvSpPr>
                <p:cNvPr id="637" name="Text Box 8"/>
                <p:cNvSpPr/>
                <p:nvPr/>
              </p:nvSpPr>
              <p:spPr>
                <a:xfrm>
                  <a:off x="380880" y="2668680"/>
                  <a:ext cx="1238040" cy="84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i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o financieros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8" name="Rectangle 9"/>
                <p:cNvSpPr/>
                <p:nvPr/>
              </p:nvSpPr>
              <p:spPr>
                <a:xfrm>
                  <a:off x="393480" y="2668680"/>
                  <a:ext cx="1225080" cy="847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9" name="Group 10"/>
              <p:cNvGrpSpPr/>
              <p:nvPr/>
            </p:nvGrpSpPr>
            <p:grpSpPr>
              <a:xfrm>
                <a:off x="380880" y="3894120"/>
                <a:ext cx="1225440" cy="847440"/>
                <a:chOff x="380880" y="3894120"/>
                <a:chExt cx="1225440" cy="847440"/>
              </a:xfrm>
            </p:grpSpPr>
            <p:sp>
              <p:nvSpPr>
                <p:cNvPr id="640" name="Rectangle 11"/>
                <p:cNvSpPr/>
                <p:nvPr/>
              </p:nvSpPr>
              <p:spPr>
                <a:xfrm>
                  <a:off x="380880" y="3894120"/>
                  <a:ext cx="1225440" cy="847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1" name="Rectangle 12"/>
                <p:cNvSpPr/>
                <p:nvPr/>
              </p:nvSpPr>
              <p:spPr>
                <a:xfrm>
                  <a:off x="380880" y="3894120"/>
                  <a:ext cx="1225440" cy="84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i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ancieros</a:t>
                  </a: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2" name="Group 13"/>
              <p:cNvGrpSpPr/>
              <p:nvPr/>
            </p:nvGrpSpPr>
            <p:grpSpPr>
              <a:xfrm>
                <a:off x="380880" y="5024160"/>
                <a:ext cx="1225440" cy="847800"/>
                <a:chOff x="380880" y="5024160"/>
                <a:chExt cx="1225440" cy="847800"/>
              </a:xfrm>
            </p:grpSpPr>
            <p:sp>
              <p:nvSpPr>
                <p:cNvPr id="643" name="Rectangle 14"/>
                <p:cNvSpPr/>
                <p:nvPr/>
              </p:nvSpPr>
              <p:spPr>
                <a:xfrm>
                  <a:off x="380880" y="5024160"/>
                  <a:ext cx="1225440" cy="847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4" name="Rectangle 15"/>
                <p:cNvSpPr/>
                <p:nvPr/>
              </p:nvSpPr>
              <p:spPr>
                <a:xfrm>
                  <a:off x="402840" y="5083200"/>
                  <a:ext cx="1197000" cy="72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sivos</a:t>
                  </a: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45" name="AutoShape 16"/>
          <p:cNvSpPr/>
          <p:nvPr/>
        </p:nvSpPr>
        <p:spPr>
          <a:xfrm>
            <a:off x="1828800" y="6400800"/>
            <a:ext cx="76320" cy="763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6" name="Group 17"/>
          <p:cNvGrpSpPr/>
          <p:nvPr/>
        </p:nvGrpSpPr>
        <p:grpSpPr>
          <a:xfrm>
            <a:off x="1905120" y="6035760"/>
            <a:ext cx="5029200" cy="824760"/>
            <a:chOff x="1905120" y="6035760"/>
            <a:chExt cx="5029200" cy="824760"/>
          </a:xfrm>
        </p:grpSpPr>
        <p:sp>
          <p:nvSpPr>
            <p:cNvPr id="647" name="Text Box 18"/>
            <p:cNvSpPr/>
            <p:nvPr/>
          </p:nvSpPr>
          <p:spPr>
            <a:xfrm>
              <a:off x="3429360" y="6340320"/>
              <a:ext cx="20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ciones en el patrimonio neto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AutoShape 19"/>
            <p:cNvSpPr/>
            <p:nvPr/>
          </p:nvSpPr>
          <p:spPr>
            <a:xfrm rot="16200000">
              <a:off x="4267440" y="3673440"/>
              <a:ext cx="304560" cy="50292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31040 h 5029200"/>
                <a:gd name="textAreaBottom" fmla="*/ 4898160 h 502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9" name="Line 20"/>
          <p:cNvSpPr/>
          <p:nvPr/>
        </p:nvSpPr>
        <p:spPr>
          <a:xfrm>
            <a:off x="1905120" y="304920"/>
            <a:ext cx="5257800" cy="0"/>
          </a:xfrm>
          <a:prstGeom prst="line">
            <a:avLst/>
          </a:prstGeom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4028040" y="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 LUJOS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Rectangle 22"/>
          <p:cNvSpPr/>
          <p:nvPr/>
        </p:nvSpPr>
        <p:spPr>
          <a:xfrm>
            <a:off x="152280" y="2438280"/>
            <a:ext cx="8763120" cy="36147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Line 23"/>
          <p:cNvSpPr/>
          <p:nvPr/>
        </p:nvSpPr>
        <p:spPr>
          <a:xfrm>
            <a:off x="1828800" y="2438280"/>
            <a:ext cx="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Line 24"/>
          <p:cNvSpPr/>
          <p:nvPr/>
        </p:nvSpPr>
        <p:spPr>
          <a:xfrm>
            <a:off x="7238880" y="2438280"/>
            <a:ext cx="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54" name="Group 25"/>
          <p:cNvGrpSpPr/>
          <p:nvPr/>
        </p:nvGrpSpPr>
        <p:grpSpPr>
          <a:xfrm>
            <a:off x="7238880" y="304920"/>
            <a:ext cx="1752840" cy="5790960"/>
            <a:chOff x="7238880" y="304920"/>
            <a:chExt cx="1752840" cy="5790960"/>
          </a:xfrm>
        </p:grpSpPr>
        <p:sp>
          <p:nvSpPr>
            <p:cNvPr id="655" name="Text Box 26"/>
            <p:cNvSpPr/>
            <p:nvPr/>
          </p:nvSpPr>
          <p:spPr>
            <a:xfrm>
              <a:off x="7238880" y="304920"/>
              <a:ext cx="1752840" cy="57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ALANCE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DE 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CIERRE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rimonio neto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6" name="Group 27"/>
            <p:cNvGrpSpPr/>
            <p:nvPr/>
          </p:nvGrpSpPr>
          <p:grpSpPr>
            <a:xfrm>
              <a:off x="7467480" y="2668680"/>
              <a:ext cx="1238040" cy="3203280"/>
              <a:chOff x="7467480" y="2668680"/>
              <a:chExt cx="1238040" cy="3203280"/>
            </a:xfrm>
          </p:grpSpPr>
          <p:grpSp>
            <p:nvGrpSpPr>
              <p:cNvPr id="657" name="Group 28"/>
              <p:cNvGrpSpPr/>
              <p:nvPr/>
            </p:nvGrpSpPr>
            <p:grpSpPr>
              <a:xfrm>
                <a:off x="7467480" y="2668680"/>
                <a:ext cx="1238040" cy="847440"/>
                <a:chOff x="7467480" y="2668680"/>
                <a:chExt cx="1238040" cy="847440"/>
              </a:xfrm>
            </p:grpSpPr>
            <p:sp>
              <p:nvSpPr>
                <p:cNvPr id="658" name="Text Box 29"/>
                <p:cNvSpPr/>
                <p:nvPr/>
              </p:nvSpPr>
              <p:spPr>
                <a:xfrm>
                  <a:off x="7467480" y="2668680"/>
                  <a:ext cx="1238040" cy="84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i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o financieros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9" name="Rectangle 30"/>
                <p:cNvSpPr/>
                <p:nvPr/>
              </p:nvSpPr>
              <p:spPr>
                <a:xfrm>
                  <a:off x="7480080" y="2668680"/>
                  <a:ext cx="1225080" cy="847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0" name="Group 31"/>
              <p:cNvGrpSpPr/>
              <p:nvPr/>
            </p:nvGrpSpPr>
            <p:grpSpPr>
              <a:xfrm>
                <a:off x="7467480" y="3894120"/>
                <a:ext cx="1225440" cy="847440"/>
                <a:chOff x="7467480" y="3894120"/>
                <a:chExt cx="1225440" cy="847440"/>
              </a:xfrm>
            </p:grpSpPr>
            <p:sp>
              <p:nvSpPr>
                <p:cNvPr id="661" name="Rectangle 32"/>
                <p:cNvSpPr/>
                <p:nvPr/>
              </p:nvSpPr>
              <p:spPr>
                <a:xfrm>
                  <a:off x="7467480" y="3894120"/>
                  <a:ext cx="1225440" cy="847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2" name="Rectangle 33"/>
                <p:cNvSpPr/>
                <p:nvPr/>
              </p:nvSpPr>
              <p:spPr>
                <a:xfrm>
                  <a:off x="7467480" y="3894120"/>
                  <a:ext cx="1225440" cy="84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ancieros</a:t>
                  </a: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3" name="Group 34"/>
              <p:cNvGrpSpPr/>
              <p:nvPr/>
            </p:nvGrpSpPr>
            <p:grpSpPr>
              <a:xfrm>
                <a:off x="7467480" y="5024160"/>
                <a:ext cx="1225440" cy="847800"/>
                <a:chOff x="7467480" y="5024160"/>
                <a:chExt cx="1225440" cy="847800"/>
              </a:xfrm>
            </p:grpSpPr>
            <p:sp>
              <p:nvSpPr>
                <p:cNvPr id="664" name="Rectangle 35"/>
                <p:cNvSpPr/>
                <p:nvPr/>
              </p:nvSpPr>
              <p:spPr>
                <a:xfrm>
                  <a:off x="7467480" y="5024160"/>
                  <a:ext cx="1225440" cy="847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Rectangle 36"/>
                <p:cNvSpPr/>
                <p:nvPr/>
              </p:nvSpPr>
              <p:spPr>
                <a:xfrm>
                  <a:off x="7489440" y="5083200"/>
                  <a:ext cx="1197000" cy="72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sivos</a:t>
                  </a: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66" name="Group 37"/>
          <p:cNvGrpSpPr/>
          <p:nvPr/>
        </p:nvGrpSpPr>
        <p:grpSpPr>
          <a:xfrm>
            <a:off x="2057400" y="304920"/>
            <a:ext cx="1676520" cy="1998720"/>
            <a:chOff x="2057400" y="304920"/>
            <a:chExt cx="1676520" cy="1998720"/>
          </a:xfrm>
        </p:grpSpPr>
        <p:sp>
          <p:nvSpPr>
            <p:cNvPr id="667" name="Text Box 38"/>
            <p:cNvSpPr/>
            <p:nvPr/>
          </p:nvSpPr>
          <p:spPr>
            <a:xfrm>
              <a:off x="2057400" y="30492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TRANSACCIONES</a:t>
              </a: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9"/>
            <p:cNvGrpSpPr/>
            <p:nvPr/>
          </p:nvGrpSpPr>
          <p:grpSpPr>
            <a:xfrm>
              <a:off x="2057400" y="609480"/>
              <a:ext cx="1600200" cy="574560"/>
              <a:chOff x="2057400" y="609480"/>
              <a:chExt cx="1600200" cy="574560"/>
            </a:xfrm>
          </p:grpSpPr>
          <p:sp>
            <p:nvSpPr>
              <p:cNvPr id="669" name="Rectangle 40"/>
              <p:cNvSpPr/>
              <p:nvPr/>
            </p:nvSpPr>
            <p:spPr>
              <a:xfrm>
                <a:off x="2057400" y="609480"/>
                <a:ext cx="1600200" cy="574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1"/>
              <p:cNvSpPr/>
              <p:nvPr/>
            </p:nvSpPr>
            <p:spPr>
              <a:xfrm>
                <a:off x="2420280" y="735840"/>
                <a:ext cx="86940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greso</a:t>
                </a:r>
                <a:endParaRPr b="1" i="1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71" name="Group 42"/>
            <p:cNvGrpSpPr/>
            <p:nvPr/>
          </p:nvGrpSpPr>
          <p:grpSpPr>
            <a:xfrm>
              <a:off x="2057400" y="1371600"/>
              <a:ext cx="1600200" cy="574560"/>
              <a:chOff x="2057400" y="1371600"/>
              <a:chExt cx="1600200" cy="574560"/>
            </a:xfrm>
          </p:grpSpPr>
          <p:sp>
            <p:nvSpPr>
              <p:cNvPr id="672" name="Rectangle 43"/>
              <p:cNvSpPr/>
              <p:nvPr/>
            </p:nvSpPr>
            <p:spPr>
              <a:xfrm>
                <a:off x="2057400" y="1371600"/>
                <a:ext cx="1600200" cy="574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3" name="Text Box 44"/>
              <p:cNvSpPr/>
              <p:nvPr/>
            </p:nvSpPr>
            <p:spPr>
              <a:xfrm>
                <a:off x="2362320" y="1488960"/>
                <a:ext cx="9730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to</a:t>
                </a:r>
                <a:endParaRPr b="1" i="1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4" name="Text Box 45"/>
            <p:cNvSpPr/>
            <p:nvPr/>
          </p:nvSpPr>
          <p:spPr>
            <a:xfrm>
              <a:off x="2133720" y="1905120"/>
              <a:ext cx="1471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cc00cc"/>
                  </a:solidFill>
                  <a:latin typeface="Arial"/>
                  <a:ea typeface="Arial"/>
                </a:rPr>
                <a:t>=  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ADO OPERATIVO NETO</a:t>
              </a: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Text Box 46"/>
            <p:cNvSpPr/>
            <p:nvPr/>
          </p:nvSpPr>
          <p:spPr>
            <a:xfrm>
              <a:off x="2590920" y="1143000"/>
              <a:ext cx="588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nos</a:t>
              </a:r>
              <a:endParaRPr b="1" i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6" name="Group 47"/>
          <p:cNvGrpSpPr/>
          <p:nvPr/>
        </p:nvGrpSpPr>
        <p:grpSpPr>
          <a:xfrm>
            <a:off x="2133720" y="2209680"/>
            <a:ext cx="1371600" cy="1754640"/>
            <a:chOff x="2133720" y="2209680"/>
            <a:chExt cx="1371600" cy="1754640"/>
          </a:xfrm>
        </p:grpSpPr>
        <p:grpSp>
          <p:nvGrpSpPr>
            <p:cNvPr id="677" name="Group 48"/>
            <p:cNvGrpSpPr/>
            <p:nvPr/>
          </p:nvGrpSpPr>
          <p:grpSpPr>
            <a:xfrm>
              <a:off x="2133720" y="2666880"/>
              <a:ext cx="1371600" cy="804600"/>
              <a:chOff x="2133720" y="2666880"/>
              <a:chExt cx="1371600" cy="804600"/>
            </a:xfrm>
          </p:grpSpPr>
          <p:sp>
            <p:nvSpPr>
              <p:cNvPr id="678" name="Text Box 49"/>
              <p:cNvSpPr/>
              <p:nvPr/>
            </p:nvSpPr>
            <p:spPr>
              <a:xfrm>
                <a:off x="2133720" y="2666880"/>
                <a:ext cx="1371600" cy="80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os</a:t>
                </a:r>
                <a:endParaRPr b="1" i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es-C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 financieros</a:t>
                </a:r>
                <a:endParaRPr b="1" i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Rectangle 50"/>
              <p:cNvSpPr/>
              <p:nvPr/>
            </p:nvSpPr>
            <p:spPr>
              <a:xfrm>
                <a:off x="2147760" y="2666880"/>
                <a:ext cx="1357200" cy="80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0" name="Text Box 51"/>
            <p:cNvSpPr/>
            <p:nvPr/>
          </p:nvSpPr>
          <p:spPr>
            <a:xfrm>
              <a:off x="2209680" y="350532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=  PRÉSTAMO  NETO/</a:t>
              </a:r>
              <a:endParaRPr b="1" i="1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   </a:t>
              </a:r>
              <a:r>
                <a:rPr b="1" i="1" lang="es-CL" sz="8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ENDEUDAMIENTO NETO</a:t>
              </a:r>
              <a:endParaRPr b="1" i="1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Text Box 52"/>
            <p:cNvSpPr/>
            <p:nvPr/>
          </p:nvSpPr>
          <p:spPr>
            <a:xfrm>
              <a:off x="2590920" y="2209680"/>
              <a:ext cx="588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nos</a:t>
              </a:r>
              <a:endParaRPr b="1" i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2" name="Group 53"/>
          <p:cNvGrpSpPr/>
          <p:nvPr/>
        </p:nvGrpSpPr>
        <p:grpSpPr>
          <a:xfrm>
            <a:off x="2133720" y="3935520"/>
            <a:ext cx="1371600" cy="1855800"/>
            <a:chOff x="2133720" y="3935520"/>
            <a:chExt cx="1371600" cy="1855800"/>
          </a:xfrm>
        </p:grpSpPr>
        <p:grpSp>
          <p:nvGrpSpPr>
            <p:cNvPr id="683" name="Group 54"/>
            <p:cNvGrpSpPr/>
            <p:nvPr/>
          </p:nvGrpSpPr>
          <p:grpSpPr>
            <a:xfrm>
              <a:off x="2133720" y="5029200"/>
              <a:ext cx="1371600" cy="762120"/>
              <a:chOff x="2133720" y="5029200"/>
              <a:chExt cx="1371600" cy="762120"/>
            </a:xfrm>
          </p:grpSpPr>
          <p:sp>
            <p:nvSpPr>
              <p:cNvPr id="684" name="Rectangle 55"/>
              <p:cNvSpPr/>
              <p:nvPr/>
            </p:nvSpPr>
            <p:spPr>
              <a:xfrm>
                <a:off x="2133720" y="5107680"/>
                <a:ext cx="1371600" cy="68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sivos</a:t>
                </a:r>
                <a:endParaRPr b="1" i="1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5" name="Rectangle 56"/>
              <p:cNvSpPr/>
              <p:nvPr/>
            </p:nvSpPr>
            <p:spPr>
              <a:xfrm>
                <a:off x="2133720" y="5029200"/>
                <a:ext cx="137160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6" name="Group 57"/>
            <p:cNvGrpSpPr/>
            <p:nvPr/>
          </p:nvGrpSpPr>
          <p:grpSpPr>
            <a:xfrm>
              <a:off x="2133720" y="3935520"/>
              <a:ext cx="1371600" cy="788400"/>
              <a:chOff x="2133720" y="3935520"/>
              <a:chExt cx="1371600" cy="788400"/>
            </a:xfrm>
          </p:grpSpPr>
          <p:sp>
            <p:nvSpPr>
              <p:cNvPr id="687" name="Rectangle 58"/>
              <p:cNvSpPr/>
              <p:nvPr/>
            </p:nvSpPr>
            <p:spPr>
              <a:xfrm>
                <a:off x="2133720" y="3935520"/>
                <a:ext cx="1371600" cy="788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Rectangle 59"/>
              <p:cNvSpPr/>
              <p:nvPr/>
            </p:nvSpPr>
            <p:spPr>
              <a:xfrm>
                <a:off x="2133720" y="3935520"/>
                <a:ext cx="1371600" cy="78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os</a:t>
                </a:r>
                <a:endParaRPr b="1" i="1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nancieros</a:t>
                </a:r>
                <a:endParaRPr b="1" i="1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i="1" lang="es-CL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ectivo</a:t>
                </a:r>
                <a:endParaRPr b="1" i="1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i="1" lang="es-CL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ros activos fin.</a:t>
                </a:r>
                <a:endParaRPr b="1" i="1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9" name="Text Box 60"/>
            <p:cNvSpPr/>
            <p:nvPr/>
          </p:nvSpPr>
          <p:spPr>
            <a:xfrm>
              <a:off x="2514240" y="474984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nos</a:t>
              </a: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0" name="Line 61"/>
          <p:cNvSpPr/>
          <p:nvPr/>
        </p:nvSpPr>
        <p:spPr>
          <a:xfrm>
            <a:off x="3809880" y="2438280"/>
            <a:ext cx="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Line 62"/>
          <p:cNvSpPr/>
          <p:nvPr/>
        </p:nvSpPr>
        <p:spPr>
          <a:xfrm>
            <a:off x="5486400" y="2438280"/>
            <a:ext cx="0" cy="358164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2" name="Group 63"/>
          <p:cNvGrpSpPr/>
          <p:nvPr/>
        </p:nvGrpSpPr>
        <p:grpSpPr>
          <a:xfrm>
            <a:off x="3962520" y="304920"/>
            <a:ext cx="3476160" cy="5561640"/>
            <a:chOff x="3962520" y="304920"/>
            <a:chExt cx="3476160" cy="5561640"/>
          </a:xfrm>
        </p:grpSpPr>
        <p:sp>
          <p:nvSpPr>
            <p:cNvPr id="693" name="Text Box 64"/>
            <p:cNvSpPr/>
            <p:nvPr/>
          </p:nvSpPr>
          <p:spPr>
            <a:xfrm>
              <a:off x="4343400" y="304920"/>
              <a:ext cx="252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ROS FLUJOS ECONÓMICOS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Text Box 65"/>
            <p:cNvSpPr/>
            <p:nvPr/>
          </p:nvSpPr>
          <p:spPr>
            <a:xfrm>
              <a:off x="4137840" y="631440"/>
              <a:ext cx="124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nan. y pérd.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i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 tenencia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Text Box 66"/>
            <p:cNvSpPr/>
            <p:nvPr/>
          </p:nvSpPr>
          <p:spPr>
            <a:xfrm>
              <a:off x="5404680" y="631440"/>
              <a:ext cx="203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ras variaciones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i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 el volumen de activos</a:t>
              </a:r>
              <a:endParaRPr b="1" i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6" name="Group 67"/>
            <p:cNvGrpSpPr/>
            <p:nvPr/>
          </p:nvGrpSpPr>
          <p:grpSpPr>
            <a:xfrm>
              <a:off x="4038480" y="2666520"/>
              <a:ext cx="1238040" cy="3200040"/>
              <a:chOff x="4038480" y="2666520"/>
              <a:chExt cx="1238040" cy="3200040"/>
            </a:xfrm>
          </p:grpSpPr>
          <p:grpSp>
            <p:nvGrpSpPr>
              <p:cNvPr id="697" name="Group 68"/>
              <p:cNvGrpSpPr/>
              <p:nvPr/>
            </p:nvGrpSpPr>
            <p:grpSpPr>
              <a:xfrm>
                <a:off x="4038480" y="2666520"/>
                <a:ext cx="1238040" cy="846720"/>
                <a:chOff x="4038480" y="2666520"/>
                <a:chExt cx="1238040" cy="846720"/>
              </a:xfrm>
            </p:grpSpPr>
            <p:sp>
              <p:nvSpPr>
                <p:cNvPr id="698" name="Text Box 69"/>
                <p:cNvSpPr/>
                <p:nvPr/>
              </p:nvSpPr>
              <p:spPr>
                <a:xfrm>
                  <a:off x="4038480" y="2666520"/>
                  <a:ext cx="1238040" cy="84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i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o financieros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Rectangle 70"/>
                <p:cNvSpPr/>
                <p:nvPr/>
              </p:nvSpPr>
              <p:spPr>
                <a:xfrm>
                  <a:off x="4051080" y="2666520"/>
                  <a:ext cx="1225080" cy="84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00" name="Group 71"/>
              <p:cNvGrpSpPr/>
              <p:nvPr/>
            </p:nvGrpSpPr>
            <p:grpSpPr>
              <a:xfrm>
                <a:off x="4038480" y="3890880"/>
                <a:ext cx="1225440" cy="846720"/>
                <a:chOff x="4038480" y="3890880"/>
                <a:chExt cx="1225440" cy="846720"/>
              </a:xfrm>
            </p:grpSpPr>
            <p:sp>
              <p:nvSpPr>
                <p:cNvPr id="701" name="Rectangle 72"/>
                <p:cNvSpPr/>
                <p:nvPr/>
              </p:nvSpPr>
              <p:spPr>
                <a:xfrm>
                  <a:off x="4038480" y="3890880"/>
                  <a:ext cx="1225440" cy="84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Rectangle 73"/>
                <p:cNvSpPr/>
                <p:nvPr/>
              </p:nvSpPr>
              <p:spPr>
                <a:xfrm>
                  <a:off x="4038480" y="3890880"/>
                  <a:ext cx="1225440" cy="84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ancieros</a:t>
                  </a: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03" name="Group 74"/>
              <p:cNvGrpSpPr/>
              <p:nvPr/>
            </p:nvGrpSpPr>
            <p:grpSpPr>
              <a:xfrm>
                <a:off x="4038480" y="5019480"/>
                <a:ext cx="1225440" cy="847080"/>
                <a:chOff x="4038480" y="5019480"/>
                <a:chExt cx="1225440" cy="847080"/>
              </a:xfrm>
            </p:grpSpPr>
            <p:sp>
              <p:nvSpPr>
                <p:cNvPr id="704" name="Rectangle 75"/>
                <p:cNvSpPr/>
                <p:nvPr/>
              </p:nvSpPr>
              <p:spPr>
                <a:xfrm>
                  <a:off x="4038480" y="5019480"/>
                  <a:ext cx="1225440" cy="847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5" name="Rectangle 76"/>
                <p:cNvSpPr/>
                <p:nvPr/>
              </p:nvSpPr>
              <p:spPr>
                <a:xfrm>
                  <a:off x="4060440" y="5078520"/>
                  <a:ext cx="119700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sivos</a:t>
                  </a: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06" name="Group 77"/>
            <p:cNvGrpSpPr/>
            <p:nvPr/>
          </p:nvGrpSpPr>
          <p:grpSpPr>
            <a:xfrm>
              <a:off x="5715000" y="2666520"/>
              <a:ext cx="1238040" cy="3200040"/>
              <a:chOff x="5715000" y="2666520"/>
              <a:chExt cx="1238040" cy="3200040"/>
            </a:xfrm>
          </p:grpSpPr>
          <p:grpSp>
            <p:nvGrpSpPr>
              <p:cNvPr id="707" name="Group 78"/>
              <p:cNvGrpSpPr/>
              <p:nvPr/>
            </p:nvGrpSpPr>
            <p:grpSpPr>
              <a:xfrm>
                <a:off x="5715000" y="2666520"/>
                <a:ext cx="1238040" cy="846720"/>
                <a:chOff x="5715000" y="2666520"/>
                <a:chExt cx="1238040" cy="846720"/>
              </a:xfrm>
            </p:grpSpPr>
            <p:sp>
              <p:nvSpPr>
                <p:cNvPr id="708" name="Text Box 79"/>
                <p:cNvSpPr/>
                <p:nvPr/>
              </p:nvSpPr>
              <p:spPr>
                <a:xfrm>
                  <a:off x="5715000" y="2666520"/>
                  <a:ext cx="1238040" cy="84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i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o financieros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9" name="Rectangle 80"/>
                <p:cNvSpPr/>
                <p:nvPr/>
              </p:nvSpPr>
              <p:spPr>
                <a:xfrm>
                  <a:off x="5727600" y="2666520"/>
                  <a:ext cx="1225080" cy="84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10" name="Group 81"/>
              <p:cNvGrpSpPr/>
              <p:nvPr/>
            </p:nvGrpSpPr>
            <p:grpSpPr>
              <a:xfrm>
                <a:off x="5715000" y="3890880"/>
                <a:ext cx="1225440" cy="846720"/>
                <a:chOff x="5715000" y="3890880"/>
                <a:chExt cx="1225440" cy="846720"/>
              </a:xfrm>
            </p:grpSpPr>
            <p:sp>
              <p:nvSpPr>
                <p:cNvPr id="711" name="Rectangle 82"/>
                <p:cNvSpPr/>
                <p:nvPr/>
              </p:nvSpPr>
              <p:spPr>
                <a:xfrm>
                  <a:off x="5715000" y="3890880"/>
                  <a:ext cx="1225440" cy="84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Rectangle 83"/>
                <p:cNvSpPr/>
                <p:nvPr/>
              </p:nvSpPr>
              <p:spPr>
                <a:xfrm>
                  <a:off x="5715000" y="3890880"/>
                  <a:ext cx="1225440" cy="84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ancieros</a:t>
                  </a: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13" name="Group 84"/>
              <p:cNvGrpSpPr/>
              <p:nvPr/>
            </p:nvGrpSpPr>
            <p:grpSpPr>
              <a:xfrm>
                <a:off x="5715000" y="5019480"/>
                <a:ext cx="1225440" cy="847080"/>
                <a:chOff x="5715000" y="5019480"/>
                <a:chExt cx="1225440" cy="847080"/>
              </a:xfrm>
            </p:grpSpPr>
            <p:sp>
              <p:nvSpPr>
                <p:cNvPr id="714" name="Rectangle 85"/>
                <p:cNvSpPr/>
                <p:nvPr/>
              </p:nvSpPr>
              <p:spPr>
                <a:xfrm>
                  <a:off x="5715000" y="5019480"/>
                  <a:ext cx="1225440" cy="847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Rectangle 86"/>
                <p:cNvSpPr/>
                <p:nvPr/>
              </p:nvSpPr>
              <p:spPr>
                <a:xfrm>
                  <a:off x="5736960" y="5078520"/>
                  <a:ext cx="119700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sivos</a:t>
                  </a:r>
                  <a:endParaRPr b="1" i="1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16" name="Line 87"/>
            <p:cNvSpPr/>
            <p:nvPr/>
          </p:nvSpPr>
          <p:spPr>
            <a:xfrm>
              <a:off x="3962520" y="533160"/>
              <a:ext cx="3200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7" name="Line 88"/>
            <p:cNvSpPr/>
            <p:nvPr/>
          </p:nvSpPr>
          <p:spPr>
            <a:xfrm>
              <a:off x="3962520" y="1141920"/>
              <a:ext cx="3200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Text Box 89"/>
            <p:cNvSpPr/>
            <p:nvPr/>
          </p:nvSpPr>
          <p:spPr>
            <a:xfrm>
              <a:off x="3962520" y="1903320"/>
              <a:ext cx="1471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CIÓN EN EL PATRIMONIO NETO (GP)</a:t>
              </a: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9" name="Text Box 90"/>
            <p:cNvSpPr/>
            <p:nvPr/>
          </p:nvSpPr>
          <p:spPr>
            <a:xfrm>
              <a:off x="5562720" y="1903320"/>
              <a:ext cx="1471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CIÓN EN EL</a:t>
              </a: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RIMONIO NETO (OVV) </a:t>
              </a: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0" name="Text Box 91"/>
          <p:cNvSpPr/>
          <p:nvPr/>
        </p:nvSpPr>
        <p:spPr>
          <a:xfrm>
            <a:off x="304920" y="0"/>
            <a:ext cx="14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DOS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Line 92"/>
          <p:cNvSpPr/>
          <p:nvPr/>
        </p:nvSpPr>
        <p:spPr>
          <a:xfrm>
            <a:off x="304920" y="304920"/>
            <a:ext cx="1447560" cy="0"/>
          </a:xfrm>
          <a:prstGeom prst="line">
            <a:avLst/>
          </a:prstGeom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Text Box 93"/>
          <p:cNvSpPr/>
          <p:nvPr/>
        </p:nvSpPr>
        <p:spPr>
          <a:xfrm>
            <a:off x="7315200" y="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DOS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Line 94"/>
          <p:cNvSpPr/>
          <p:nvPr/>
        </p:nvSpPr>
        <p:spPr>
          <a:xfrm>
            <a:off x="7391520" y="304920"/>
            <a:ext cx="1447560" cy="0"/>
          </a:xfrm>
          <a:prstGeom prst="line">
            <a:avLst/>
          </a:prstGeom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9D8C-0AB3-4C6A-B31E-0B0EDE9CCF04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0" y="12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Text Box 2"/>
          <p:cNvSpPr/>
          <p:nvPr/>
        </p:nvSpPr>
        <p:spPr>
          <a:xfrm>
            <a:off x="68112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AutoShape 4"/>
          <p:cNvSpPr/>
          <p:nvPr/>
        </p:nvSpPr>
        <p:spPr>
          <a:xfrm>
            <a:off x="1900080" y="6400800"/>
            <a:ext cx="76320" cy="763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Line 5"/>
          <p:cNvSpPr/>
          <p:nvPr/>
        </p:nvSpPr>
        <p:spPr>
          <a:xfrm>
            <a:off x="1900080" y="2971800"/>
            <a:ext cx="0" cy="3429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442880" y="457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stado de operaciones del gobierno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0" name="Group 7"/>
          <p:cNvGrpSpPr/>
          <p:nvPr/>
        </p:nvGrpSpPr>
        <p:grpSpPr>
          <a:xfrm>
            <a:off x="2128680" y="919080"/>
            <a:ext cx="1600200" cy="574560"/>
            <a:chOff x="2128680" y="919080"/>
            <a:chExt cx="1600200" cy="574560"/>
          </a:xfrm>
        </p:grpSpPr>
        <p:sp>
          <p:nvSpPr>
            <p:cNvPr id="731" name="Rectangle 8"/>
            <p:cNvSpPr/>
            <p:nvPr/>
          </p:nvSpPr>
          <p:spPr>
            <a:xfrm>
              <a:off x="2128680" y="919080"/>
              <a:ext cx="1600200" cy="574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2" name="Text Box 9"/>
            <p:cNvSpPr/>
            <p:nvPr/>
          </p:nvSpPr>
          <p:spPr>
            <a:xfrm>
              <a:off x="2516040" y="10609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greso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3" name="Group 10"/>
          <p:cNvGrpSpPr/>
          <p:nvPr/>
        </p:nvGrpSpPr>
        <p:grpSpPr>
          <a:xfrm>
            <a:off x="2128680" y="1657440"/>
            <a:ext cx="1600200" cy="574560"/>
            <a:chOff x="2128680" y="1657440"/>
            <a:chExt cx="1600200" cy="574560"/>
          </a:xfrm>
        </p:grpSpPr>
        <p:sp>
          <p:nvSpPr>
            <p:cNvPr id="734" name="Rectangle 11"/>
            <p:cNvSpPr/>
            <p:nvPr/>
          </p:nvSpPr>
          <p:spPr>
            <a:xfrm>
              <a:off x="2128680" y="1657440"/>
              <a:ext cx="1600200" cy="574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5" name="Text Box 12"/>
            <p:cNvSpPr/>
            <p:nvPr/>
          </p:nvSpPr>
          <p:spPr>
            <a:xfrm>
              <a:off x="2433600" y="177480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sto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6" name="Text Box 13"/>
          <p:cNvSpPr/>
          <p:nvPr/>
        </p:nvSpPr>
        <p:spPr>
          <a:xfrm>
            <a:off x="1547640" y="2349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=  RESULTADO OPERATIVO NETO</a:t>
            </a: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2662200" y="1459080"/>
            <a:ext cx="58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Arial"/>
                <a:ea typeface="Arial"/>
              </a:rPr>
              <a:t>menos</a:t>
            </a:r>
            <a:endParaRPr b="1" i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8" name="Group 15"/>
          <p:cNvGrpSpPr/>
          <p:nvPr/>
        </p:nvGrpSpPr>
        <p:grpSpPr>
          <a:xfrm>
            <a:off x="2128680" y="3124080"/>
            <a:ext cx="1523880" cy="804600"/>
            <a:chOff x="2128680" y="3124080"/>
            <a:chExt cx="1523880" cy="804600"/>
          </a:xfrm>
        </p:grpSpPr>
        <p:sp>
          <p:nvSpPr>
            <p:cNvPr id="739" name="Text Box 16"/>
            <p:cNvSpPr/>
            <p:nvPr/>
          </p:nvSpPr>
          <p:spPr>
            <a:xfrm>
              <a:off x="2128680" y="3124080"/>
              <a:ext cx="152388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os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financieros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0" name="Rectangle 17"/>
            <p:cNvSpPr/>
            <p:nvPr/>
          </p:nvSpPr>
          <p:spPr>
            <a:xfrm>
              <a:off x="2144160" y="3124080"/>
              <a:ext cx="1508040" cy="80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1" name="Text Box 18"/>
          <p:cNvSpPr/>
          <p:nvPr/>
        </p:nvSpPr>
        <p:spPr>
          <a:xfrm>
            <a:off x="1976400" y="39625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  <a:ea typeface="Arial"/>
              </a:rPr>
              <a:t>=  PRÉST./ENDEUD. NETO </a:t>
            </a:r>
            <a:endParaRPr b="1" i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Text Box 19"/>
          <p:cNvSpPr/>
          <p:nvPr/>
        </p:nvSpPr>
        <p:spPr>
          <a:xfrm>
            <a:off x="2662200" y="2666880"/>
            <a:ext cx="58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Arial"/>
                <a:ea typeface="Arial"/>
              </a:rPr>
              <a:t>menos</a:t>
            </a:r>
            <a:endParaRPr b="1" i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3" name="Group 20"/>
          <p:cNvGrpSpPr/>
          <p:nvPr/>
        </p:nvGrpSpPr>
        <p:grpSpPr>
          <a:xfrm>
            <a:off x="2128680" y="5410080"/>
            <a:ext cx="1523880" cy="762120"/>
            <a:chOff x="2128680" y="5410080"/>
            <a:chExt cx="1523880" cy="762120"/>
          </a:xfrm>
        </p:grpSpPr>
        <p:sp>
          <p:nvSpPr>
            <p:cNvPr id="744" name="Rectangle 21"/>
            <p:cNvSpPr/>
            <p:nvPr/>
          </p:nvSpPr>
          <p:spPr>
            <a:xfrm>
              <a:off x="2128680" y="5488560"/>
              <a:ext cx="152388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ivos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Rectangle 22"/>
            <p:cNvSpPr/>
            <p:nvPr/>
          </p:nvSpPr>
          <p:spPr>
            <a:xfrm>
              <a:off x="2128680" y="5410080"/>
              <a:ext cx="15238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6" name="Group 23"/>
          <p:cNvGrpSpPr/>
          <p:nvPr/>
        </p:nvGrpSpPr>
        <p:grpSpPr>
          <a:xfrm>
            <a:off x="2128680" y="4343400"/>
            <a:ext cx="1523880" cy="788760"/>
            <a:chOff x="2128680" y="4343400"/>
            <a:chExt cx="1523880" cy="788760"/>
          </a:xfrm>
        </p:grpSpPr>
        <p:sp>
          <p:nvSpPr>
            <p:cNvPr id="747" name="Rectangle 24"/>
            <p:cNvSpPr/>
            <p:nvPr/>
          </p:nvSpPr>
          <p:spPr>
            <a:xfrm>
              <a:off x="2128680" y="4343400"/>
              <a:ext cx="1523880" cy="78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8" name="Rectangle 25"/>
            <p:cNvSpPr/>
            <p:nvPr/>
          </p:nvSpPr>
          <p:spPr>
            <a:xfrm>
              <a:off x="2128680" y="4343400"/>
              <a:ext cx="152388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os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eros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ectivo</a:t>
              </a: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ros activos financieros</a:t>
              </a: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9" name="Text Box 26"/>
          <p:cNvSpPr/>
          <p:nvPr/>
        </p:nvSpPr>
        <p:spPr>
          <a:xfrm>
            <a:off x="2585880" y="515772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  <a:ea typeface="Arial"/>
              </a:rPr>
              <a:t>menos</a:t>
            </a:r>
            <a:endParaRPr b="1" i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Line 27"/>
          <p:cNvSpPr/>
          <p:nvPr/>
        </p:nvSpPr>
        <p:spPr>
          <a:xfrm>
            <a:off x="3881520" y="2971800"/>
            <a:ext cx="0" cy="3429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Text Box 28"/>
          <p:cNvSpPr/>
          <p:nvPr/>
        </p:nvSpPr>
        <p:spPr>
          <a:xfrm>
            <a:off x="5167440" y="457200"/>
            <a:ext cx="33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stado de fuentes y usos de efectivo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Text Box 29"/>
          <p:cNvSpPr/>
          <p:nvPr/>
        </p:nvSpPr>
        <p:spPr>
          <a:xfrm>
            <a:off x="5100480" y="838080"/>
            <a:ext cx="3429000" cy="551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tradas y salidas de efectivo por transacciones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ntradas netas de efectivo por actividades operativas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tradas y salidas de efectivo por inversión en activos no financieros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uperávit/Déficit de efectivo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dades de financiamient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(excepto efectivo)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= Variación neta de las tenencias de efectivo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mo: Saldo de efectivo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Line 30"/>
          <p:cNvSpPr/>
          <p:nvPr/>
        </p:nvSpPr>
        <p:spPr>
          <a:xfrm>
            <a:off x="1900080" y="2971800"/>
            <a:ext cx="1981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Line 31"/>
          <p:cNvSpPr/>
          <p:nvPr/>
        </p:nvSpPr>
        <p:spPr>
          <a:xfrm>
            <a:off x="1900080" y="6400800"/>
            <a:ext cx="1981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Line 32"/>
          <p:cNvSpPr/>
          <p:nvPr/>
        </p:nvSpPr>
        <p:spPr>
          <a:xfrm>
            <a:off x="3271680" y="4876920"/>
            <a:ext cx="99072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Line 33"/>
          <p:cNvSpPr/>
          <p:nvPr/>
        </p:nvSpPr>
        <p:spPr>
          <a:xfrm>
            <a:off x="4262400" y="4876920"/>
            <a:ext cx="838080" cy="53316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7" name="Group 34"/>
          <p:cNvGrpSpPr/>
          <p:nvPr/>
        </p:nvGrpSpPr>
        <p:grpSpPr>
          <a:xfrm>
            <a:off x="223920" y="3124080"/>
            <a:ext cx="1523520" cy="804600"/>
            <a:chOff x="223920" y="3124080"/>
            <a:chExt cx="1523520" cy="804600"/>
          </a:xfrm>
        </p:grpSpPr>
        <p:sp>
          <p:nvSpPr>
            <p:cNvPr id="758" name="Text Box 35"/>
            <p:cNvSpPr/>
            <p:nvPr/>
          </p:nvSpPr>
          <p:spPr>
            <a:xfrm>
              <a:off x="223920" y="3124080"/>
              <a:ext cx="15235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os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financieros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Rectangle 36"/>
            <p:cNvSpPr/>
            <p:nvPr/>
          </p:nvSpPr>
          <p:spPr>
            <a:xfrm>
              <a:off x="239400" y="3124080"/>
              <a:ext cx="1507680" cy="80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0" name="Group 37"/>
          <p:cNvGrpSpPr/>
          <p:nvPr/>
        </p:nvGrpSpPr>
        <p:grpSpPr>
          <a:xfrm>
            <a:off x="223920" y="4343400"/>
            <a:ext cx="1523520" cy="788760"/>
            <a:chOff x="223920" y="4343400"/>
            <a:chExt cx="1523520" cy="788760"/>
          </a:xfrm>
        </p:grpSpPr>
        <p:sp>
          <p:nvSpPr>
            <p:cNvPr id="761" name="Rectangle 38"/>
            <p:cNvSpPr/>
            <p:nvPr/>
          </p:nvSpPr>
          <p:spPr>
            <a:xfrm>
              <a:off x="223920" y="4343400"/>
              <a:ext cx="1523520" cy="78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Rectangle 39"/>
            <p:cNvSpPr/>
            <p:nvPr/>
          </p:nvSpPr>
          <p:spPr>
            <a:xfrm>
              <a:off x="223920" y="4343400"/>
              <a:ext cx="152352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os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eros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ectivo</a:t>
              </a: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3" name="Group 40"/>
          <p:cNvGrpSpPr/>
          <p:nvPr/>
        </p:nvGrpSpPr>
        <p:grpSpPr>
          <a:xfrm>
            <a:off x="223920" y="5410080"/>
            <a:ext cx="1523520" cy="762120"/>
            <a:chOff x="223920" y="5410080"/>
            <a:chExt cx="1523520" cy="762120"/>
          </a:xfrm>
        </p:grpSpPr>
        <p:sp>
          <p:nvSpPr>
            <p:cNvPr id="764" name="Rectangle 41"/>
            <p:cNvSpPr/>
            <p:nvPr/>
          </p:nvSpPr>
          <p:spPr>
            <a:xfrm>
              <a:off x="223920" y="5488560"/>
              <a:ext cx="152352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ivos</a:t>
              </a:r>
              <a:endParaRPr b="1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Rectangle 42"/>
            <p:cNvSpPr/>
            <p:nvPr/>
          </p:nvSpPr>
          <p:spPr>
            <a:xfrm>
              <a:off x="223920" y="5410080"/>
              <a:ext cx="152352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66" name="Text Box 43"/>
          <p:cNvSpPr/>
          <p:nvPr/>
        </p:nvSpPr>
        <p:spPr>
          <a:xfrm>
            <a:off x="223920" y="2590920"/>
            <a:ext cx="14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  <a:ea typeface="Arial"/>
              </a:rPr>
              <a:t>PATRIMONIO NETO</a:t>
            </a:r>
            <a:endParaRPr b="1" i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Text Box 44"/>
          <p:cNvSpPr/>
          <p:nvPr/>
        </p:nvSpPr>
        <p:spPr>
          <a:xfrm>
            <a:off x="299880" y="396252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  <a:ea typeface="Arial"/>
              </a:rPr>
              <a:t>PATRIMONIO </a:t>
            </a:r>
            <a:endParaRPr b="1" i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  <a:ea typeface="Arial"/>
              </a:rPr>
              <a:t>FINANCIERO NETO</a:t>
            </a:r>
            <a:endParaRPr b="1" i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Text Box 45"/>
          <p:cNvSpPr/>
          <p:nvPr/>
        </p:nvSpPr>
        <p:spPr>
          <a:xfrm>
            <a:off x="1519200" y="1522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LUJOS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Text Box 46"/>
          <p:cNvSpPr/>
          <p:nvPr/>
        </p:nvSpPr>
        <p:spPr>
          <a:xfrm>
            <a:off x="5329080" y="2286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LUJOS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Text Box 47"/>
          <p:cNvSpPr/>
          <p:nvPr/>
        </p:nvSpPr>
        <p:spPr>
          <a:xfrm>
            <a:off x="71280" y="152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DOS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Text Box 48"/>
          <p:cNvSpPr/>
          <p:nvPr/>
        </p:nvSpPr>
        <p:spPr>
          <a:xfrm>
            <a:off x="223920" y="457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alance</a:t>
            </a:r>
            <a:endParaRPr b="1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Line 49"/>
          <p:cNvSpPr/>
          <p:nvPr/>
        </p:nvSpPr>
        <p:spPr>
          <a:xfrm>
            <a:off x="3881520" y="4114800"/>
            <a:ext cx="1143000" cy="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Line 50"/>
          <p:cNvSpPr/>
          <p:nvPr/>
        </p:nvSpPr>
        <p:spPr>
          <a:xfrm flipV="1">
            <a:off x="4186080" y="2421000"/>
            <a:ext cx="817560" cy="1728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Line 52"/>
          <p:cNvSpPr/>
          <p:nvPr/>
        </p:nvSpPr>
        <p:spPr>
          <a:xfrm>
            <a:off x="1595520" y="6553080"/>
            <a:ext cx="259056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Line 53"/>
          <p:cNvSpPr/>
          <p:nvPr/>
        </p:nvSpPr>
        <p:spPr>
          <a:xfrm flipV="1">
            <a:off x="4186080" y="5943240"/>
            <a:ext cx="0" cy="60948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54"/>
          <p:cNvSpPr/>
          <p:nvPr/>
        </p:nvSpPr>
        <p:spPr>
          <a:xfrm>
            <a:off x="4186080" y="5943600"/>
            <a:ext cx="838440" cy="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55"/>
          <p:cNvSpPr/>
          <p:nvPr/>
        </p:nvSpPr>
        <p:spPr>
          <a:xfrm flipH="1">
            <a:off x="1366560" y="4952880"/>
            <a:ext cx="228600" cy="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56"/>
          <p:cNvSpPr/>
          <p:nvPr/>
        </p:nvSpPr>
        <p:spPr>
          <a:xfrm flipV="1">
            <a:off x="1595520" y="4952520"/>
            <a:ext cx="0" cy="160020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AFB0-D5DA-4C74-BEE2-0C947F378529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f0000"/>
                </a:solidFill>
                <a:latin typeface="Arial"/>
                <a:ea typeface="Arial"/>
              </a:rPr>
              <a:t>Marco Conceptual de los Nuevos Clasificadores Presupuestari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95280" y="1797120"/>
            <a:ext cx="874872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sistema puede resumirse en 3 Estados Financieros: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tado d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eracion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del gobierno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ransacciones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alance Integra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de saldos y flujos 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aldos y flujos relacionados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tado d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entes y uso de Efectivo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aldos y flujos de efectivo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BC56-0A96-4081-AA33-92CB9A163357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74872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400" spc="-1" strike="noStrike">
                <a:solidFill>
                  <a:srgbClr val="ff0000"/>
                </a:solidFill>
                <a:latin typeface="Arial"/>
                <a:ea typeface="Arial"/>
              </a:rPr>
              <a:t>Nuevos Clasificadores Presupuestario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685800" y="1676520"/>
            <a:ext cx="82296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Text Box 4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324000" y="1628640"/>
            <a:ext cx="84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Los nuevos clasificadores presupuestarios consideran cuatro grupos o </a:t>
            </a:r>
            <a:r>
              <a:rPr b="1" lang="es-PR" sz="2200" spc="-1" strike="noStrike" u="sng">
                <a:solidFill>
                  <a:srgbClr val="000000"/>
                </a:solidFill>
                <a:uFillTx/>
                <a:latin typeface="Arial"/>
              </a:rPr>
              <a:t>cuatro niveles de agregación</a:t>
            </a: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. Están concebidos bajo un esquema de árbol o nodal</a:t>
            </a: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6"/>
          <p:cNvSpPr/>
          <p:nvPr/>
        </p:nvSpPr>
        <p:spPr>
          <a:xfrm>
            <a:off x="395280" y="6004080"/>
            <a:ext cx="8389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Cada grupo debe servir para una necesidad de análisis diferente.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8" name="Picture 9" descr=""/>
          <p:cNvPicPr/>
          <p:nvPr/>
        </p:nvPicPr>
        <p:blipFill>
          <a:blip r:embed="rId1"/>
          <a:stretch/>
        </p:blipFill>
        <p:spPr>
          <a:xfrm>
            <a:off x="857160" y="3071880"/>
            <a:ext cx="698508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3021-6DEC-49EA-8772-6A65455EEC33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400" spc="-1" strike="noStrike">
                <a:solidFill>
                  <a:srgbClr val="ff0000"/>
                </a:solidFill>
                <a:latin typeface="Arial"/>
                <a:ea typeface="Arial"/>
              </a:rPr>
              <a:t>Nuevos Clasificadores Presupuestario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2" name="Picture 10" descr=""/>
          <p:cNvPicPr/>
          <p:nvPr/>
        </p:nvPicPr>
        <p:blipFill>
          <a:blip r:embed="rId1"/>
          <a:stretch/>
        </p:blipFill>
        <p:spPr>
          <a:xfrm>
            <a:off x="250920" y="1768320"/>
            <a:ext cx="85690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A39F-78A6-4D2C-89BF-99B5EBEA5606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Arial"/>
              </a:rPr>
              <a:t>Contenido de la Pres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4"/>
          <p:cNvSpPr/>
          <p:nvPr/>
        </p:nvSpPr>
        <p:spPr>
          <a:xfrm>
            <a:off x="500040" y="1338120"/>
            <a:ext cx="82296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500" spc="-1" strike="noStrike">
                <a:solidFill>
                  <a:srgbClr val="000000"/>
                </a:solidFill>
                <a:latin typeface="Verdana"/>
              </a:rPr>
              <a:t>Sistema Integrado de Administración Financiera</a:t>
            </a:r>
            <a:endParaRPr b="1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500" spc="-1" strike="noStrike">
                <a:solidFill>
                  <a:srgbClr val="000000"/>
                </a:solidFill>
                <a:latin typeface="Verdana"/>
              </a:rPr>
              <a:t>¿Por qué cambiar los Clasificadores Presupuestarios y el Plan de Cuentas? </a:t>
            </a:r>
            <a:endParaRPr b="1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500" spc="-1" strike="noStrike">
                <a:solidFill>
                  <a:srgbClr val="000000"/>
                </a:solidFill>
                <a:latin typeface="Verdana"/>
              </a:rPr>
              <a:t>El marco conceptual de los nuevos clasificadores presupuestarios</a:t>
            </a:r>
            <a:endParaRPr b="1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500" spc="-1" strike="noStrike">
                <a:solidFill>
                  <a:srgbClr val="000000"/>
                </a:solidFill>
                <a:latin typeface="Verdana"/>
              </a:rPr>
              <a:t>Nuevos Clasificadores Presupuestarios y el nuevo PCG</a:t>
            </a:r>
            <a:endParaRPr b="1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AFB8-358B-4D35-9457-4AA7C3CCDA33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539640" y="5661000"/>
            <a:ext cx="792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2000" spc="-1" strike="noStrike">
                <a:solidFill>
                  <a:srgbClr val="0033cc"/>
                </a:solidFill>
                <a:latin typeface="Arial"/>
              </a:rPr>
              <a:t>En este nivel de agregación se puede apreciar la compatibilidad y armonización de los nuevos clasificadores con el MEFP 2001.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6" name="Picture 9" descr=""/>
          <p:cNvPicPr/>
          <p:nvPr/>
        </p:nvPicPr>
        <p:blipFill>
          <a:blip r:embed="rId1"/>
          <a:stretch/>
        </p:blipFill>
        <p:spPr>
          <a:xfrm>
            <a:off x="71280" y="214200"/>
            <a:ext cx="8964720" cy="6573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3D90-E97D-4EED-9903-4350A2B7E4DA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5840" y="189000"/>
            <a:ext cx="8748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f0000"/>
                </a:solidFill>
                <a:latin typeface="Arial"/>
                <a:ea typeface="Arial"/>
              </a:rPr>
              <a:t>Nuevos Clasificadores Presupuestari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"/>
          <p:cNvSpPr/>
          <p:nvPr/>
        </p:nvSpPr>
        <p:spPr>
          <a:xfrm>
            <a:off x="358920" y="5589720"/>
            <a:ext cx="7993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000000"/>
                </a:solidFill>
                <a:latin typeface="Arial"/>
              </a:rPr>
              <a:t>Asimismo, la estructura y definiciones de los nuevos clasificadores presupuestarios permitirán su integración al plan de cuentas gubernamental de manera inmediata y simultanea.</a:t>
            </a:r>
            <a:endParaRPr b="1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0" name="Picture 7" descr=""/>
          <p:cNvPicPr/>
          <p:nvPr/>
        </p:nvPicPr>
        <p:blipFill>
          <a:blip r:embed="rId1"/>
          <a:stretch/>
        </p:blipFill>
        <p:spPr>
          <a:xfrm>
            <a:off x="358920" y="1125360"/>
            <a:ext cx="842472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F00D-FFF5-41E6-8261-D008007A0633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Text Box 2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611280" y="537372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Sin embargo, los registros presupuestarios no son suficientes para generar toda la información de finanzas públicas que propone el MEFP 2001. 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0" y="927000"/>
            <a:ext cx="914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BBFD-C18B-42EA-82E2-2D2506D558D3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f0000"/>
                </a:solidFill>
                <a:latin typeface="Arial"/>
              </a:rPr>
              <a:t>Nuevo Plan de Cuentas Gubernamen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468360" y="1484280"/>
            <a:ext cx="822960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El MEF ha reformulado el Plan de Cuentas Gubernamental (PCG), conforme al estándar internacional.</a:t>
            </a:r>
            <a:endParaRPr b="1" i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El PCG insume íntegramente los nuevos clasificadores presupuestarios. </a:t>
            </a:r>
            <a:endParaRPr b="1" i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La información que se genere a partir de los nuevos clasificadores y el PCG permitirá atender de manera sistemática las necesidades de información de los diferentes usuarios, nacionales y extranjeros.</a:t>
            </a:r>
            <a:endParaRPr b="1" i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F291-AE0E-46B1-B29C-2724CBD9E224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685800" y="1676520"/>
            <a:ext cx="82296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Text Box 8"/>
          <p:cNvSpPr/>
          <p:nvPr/>
        </p:nvSpPr>
        <p:spPr>
          <a:xfrm>
            <a:off x="395280" y="580536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La reportabilidad prevista en el MEFP 2001, se atenderá fundamentalmente mediante una reclasificación del PCG.</a:t>
            </a:r>
            <a:endParaRPr b="1" i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3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AB85-B091-479A-A5DC-FC603C55CE72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5" name="5 Rectángulo" descr=""/>
          <p:cNvPicPr/>
          <p:nvPr/>
        </p:nvPicPr>
        <p:blipFill>
          <a:blip r:embed="rId1"/>
          <a:stretch/>
        </p:blipFill>
        <p:spPr>
          <a:xfrm>
            <a:off x="371520" y="2955960"/>
            <a:ext cx="8182080" cy="695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23D4-FE45-4E9D-B7CC-0EE2C329E416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f0000"/>
                </a:solidFill>
                <a:latin typeface="Arial"/>
                <a:ea typeface="Arial"/>
              </a:rPr>
              <a:t>Sistema de Administración Financi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428760" y="1641600"/>
            <a:ext cx="8229600" cy="49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lbertus Extra Bold"/>
              </a:rPr>
              <a:t>A través de la Ley N° 28112 (Ley SAFI) se dio inicio a la modernización de </a:t>
            </a:r>
            <a:r>
              <a:rPr b="1" lang="es-ES" sz="2000" spc="-1" strike="noStrike">
                <a:solidFill>
                  <a:srgbClr val="000000"/>
                </a:solidFill>
                <a:latin typeface="Albertus Extra Bold"/>
              </a:rPr>
              <a:t>la administración   financiera del Sector Público, estableciéndose las normas básicas para una gestión integral y eficiente de los procesos vinculados con la captación y utilización de los fondos públicos, así como a su registro y presentación correspondiente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P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lbertus Extra Bold"/>
              </a:rPr>
              <a:t>La Ley SAFI establece que la Administración Financiera del Sector Público comprende el conjunto de normas, principios y procedimientos utilizados por los sistemas que lo conforman y, a través de ellos, por las entidades y organismos participantes en el proceso de planeamiento, captación, asignación, utilización, custodia, registro, control y evaluación de los fondos públicos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ADFB-8924-4506-8BD4-6BE4F0F7CA1F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f0000"/>
                </a:solidFill>
                <a:latin typeface="Arial"/>
                <a:ea typeface="Arial"/>
              </a:rPr>
              <a:t>Sistema de Administración Financi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500040" y="1784520"/>
            <a:ext cx="82296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lbertus Extra Bold"/>
              </a:rPr>
              <a:t>Los principales objetivos de la Ley SAFI fue establecer una base legal de carácter uniforme y permanente, evitar superposición de sistemas de información y evitar duplicidad de esfuerzos en la gestión de recursos financieros del Estado.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lbertus Extra Bold"/>
              </a:rPr>
              <a:t>Asimismo, se estableció una integración previa de la normatividad y procedimiento para asegurar una adecuada coherencia entre todos los sistemas, con el propósito de establecer la permanente integración, tanto en el nivel central como en el descentralizado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lbertus Extra Bold"/>
              </a:rPr>
              <a:t>Registro de información único y obligatorio a través del SIAF.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4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F0FF-D4D3-408B-B2D3-795AE34D6EA6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179280" y="115920"/>
            <a:ext cx="896472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f0000"/>
                </a:solidFill>
                <a:latin typeface="Arial"/>
                <a:ea typeface="Arial"/>
              </a:rPr>
              <a:t>Sistema de Administración Financiera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3"/>
          <p:cNvSpPr/>
          <p:nvPr/>
        </p:nvSpPr>
        <p:spPr>
          <a:xfrm>
            <a:off x="684360" y="1643040"/>
            <a:ext cx="82296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 u="sng">
                <a:solidFill>
                  <a:srgbClr val="000000"/>
                </a:solidFill>
                <a:uFillTx/>
                <a:latin typeface="Albertus Extra Bold"/>
              </a:rPr>
              <a:t>Conformantes del SAFI</a:t>
            </a:r>
            <a:r>
              <a:rPr b="1" lang="es-PR" sz="2000" spc="-1" strike="noStrike">
                <a:solidFill>
                  <a:srgbClr val="000000"/>
                </a:solidFill>
                <a:latin typeface="Albertus Extra Bold"/>
              </a:rPr>
              <a:t>: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lbertus Extra Bold"/>
              </a:rPr>
              <a:t>El Sistema Nacional de Presupuesto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lbertus Extra Bold"/>
              </a:rPr>
              <a:t>El Sistema Nacional de Tesorería.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lbertus Extra Bold"/>
              </a:rPr>
              <a:t>El Sistema Nacional de Endeudamiento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lbertus Extra Bold"/>
              </a:rPr>
              <a:t>El Sistema Nacional de Contabilidad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6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548F-D859-4144-B124-7FD3AE62C07F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f0000"/>
                </a:solidFill>
                <a:latin typeface="Arial"/>
              </a:rPr>
              <a:t>¿</a:t>
            </a:r>
            <a:r>
              <a:rPr b="1" lang="es-PR" sz="3200" spc="-1" strike="noStrike">
                <a:solidFill>
                  <a:srgbClr val="ff0000"/>
                </a:solidFill>
                <a:latin typeface="Arial"/>
                <a:ea typeface="Arial"/>
              </a:rPr>
              <a:t>Por qué cambiar los Clasificadores Presupuestarios y el Plan de Cuenta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571680" y="1666800"/>
            <a:ext cx="8229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Hay consenso que la </a:t>
            </a:r>
            <a:r>
              <a:rPr b="1" lang="es-PR" sz="2000" spc="-1" strike="noStrike" u="sng">
                <a:solidFill>
                  <a:srgbClr val="000000"/>
                </a:solidFill>
                <a:uFillTx/>
                <a:latin typeface="Arial"/>
              </a:rPr>
              <a:t>transparencia y la sostenibilidad fiscal</a:t>
            </a: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 son elementos fundamentales para reforzar el atractivo para la inversión. 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La gestión de las finanzas públicas se encuentra en un </a:t>
            </a:r>
            <a:r>
              <a:rPr b="1" lang="es-PR" sz="2000" spc="-1" strike="noStrike" u="sng">
                <a:solidFill>
                  <a:srgbClr val="000000"/>
                </a:solidFill>
                <a:uFillTx/>
                <a:latin typeface="Arial"/>
              </a:rPr>
              <a:t>proceso de adaptación</a:t>
            </a: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 a los cambios del entorno institucional.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La gestión de las finanzas públicas adolece de ciertas deficiencias originado por la </a:t>
            </a:r>
            <a:r>
              <a:rPr b="1" lang="es-PR" sz="2000" spc="-1" strike="noStrike" u="sng">
                <a:solidFill>
                  <a:srgbClr val="000000"/>
                </a:solidFill>
                <a:uFillTx/>
                <a:latin typeface="Arial"/>
              </a:rPr>
              <a:t>falta de información puntual, clara y transparente</a:t>
            </a: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6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DCD3-25CC-4905-9D87-A9F63E6C013B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357120" y="1865160"/>
            <a:ext cx="848700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PR" sz="2400" spc="-1" strike="noStrike" u="sng">
                <a:solidFill>
                  <a:srgbClr val="000000"/>
                </a:solidFill>
                <a:uFillTx/>
                <a:latin typeface="Arial"/>
              </a:rPr>
              <a:t>clasificadores presupuestarios actuales se apartan de las normas internacionales</a:t>
            </a: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 y no  está integrada en el plan de cuentas gubernamental. 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Si bien la </a:t>
            </a:r>
            <a:r>
              <a:rPr b="1" lang="es-PR" sz="2400" spc="-1" strike="noStrike" u="sng">
                <a:solidFill>
                  <a:srgbClr val="000000"/>
                </a:solidFill>
                <a:uFillTx/>
                <a:latin typeface="Arial"/>
              </a:rPr>
              <a:t>Tabla de Operaciones</a:t>
            </a: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 fue diseñada para dar simultaneidad el registro presupuestario con el asiento contable, esto es insuficiente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404640"/>
            <a:ext cx="896472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f0000"/>
                </a:solidFill>
                <a:latin typeface="Arial"/>
                <a:ea typeface="Arial"/>
              </a:rPr>
              <a:t>¿Por qué cambiar los Clasificadores Presupuestarios y el Plan de Cuentas?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E225-97FF-4E88-8663-4D5C4427AE0E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f0000"/>
                </a:solidFill>
                <a:latin typeface="Arial"/>
              </a:rPr>
              <a:t>¿Por qué cambiar los Clasificadores Presupuestarios y el Plan de Cuenta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539640" y="1770120"/>
            <a:ext cx="82296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Actualmente la </a:t>
            </a:r>
            <a:r>
              <a:rPr b="1" lang="es-PR" sz="2400" spc="-1" strike="noStrike" u="sng">
                <a:solidFill>
                  <a:srgbClr val="000000"/>
                </a:solidFill>
                <a:uFillTx/>
                <a:latin typeface="Arial"/>
              </a:rPr>
              <a:t>principal fuente de información para la compilación de las estadísticas fiscales lo constituye la información presupuestal</a:t>
            </a: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Las estadísticas macroeconómicas tienen como propósito principal promover una mejor toma de decisiones por los agentes económicos tanto nacionales como del exterior.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Se requieren </a:t>
            </a:r>
            <a:r>
              <a:rPr b="1" lang="es-PR" sz="2400" spc="-1" strike="noStrike" u="sng">
                <a:solidFill>
                  <a:srgbClr val="000000"/>
                </a:solidFill>
                <a:uFillTx/>
                <a:latin typeface="Arial"/>
              </a:rPr>
              <a:t>estadísticas</a:t>
            </a: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 que sean, en la medida de lo posible, </a:t>
            </a:r>
            <a:r>
              <a:rPr b="1" lang="es-PR" sz="2400" spc="-1" strike="noStrike" u="sng">
                <a:solidFill>
                  <a:srgbClr val="000000"/>
                </a:solidFill>
                <a:uFillTx/>
                <a:latin typeface="Arial"/>
              </a:rPr>
              <a:t>coherentes entre sí</a:t>
            </a: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4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5250-9D36-4932-9AD0-0E41EFDED0B5}" type="slidenum">
              <a:rPr b="0" lang="es-P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20:11:30Z</dcterms:created>
  <dc:creator>Aldo Vallejo</dc:creator>
  <dc:description/>
  <dc:language>en-US</dc:language>
  <cp:lastModifiedBy>mef</cp:lastModifiedBy>
  <cp:lastPrinted>2004-07-15T16:43:21Z</cp:lastPrinted>
  <dcterms:modified xsi:type="dcterms:W3CDTF">2009-12-15T14:10:24Z</dcterms:modified>
  <cp:revision>793</cp:revision>
  <dc:subject/>
  <dc:title>Presentación de PowerPoint</dc:title>
</cp:coreProperties>
</file>