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28440" y="739800"/>
            <a:ext cx="494028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5128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0ECE-082A-426E-9F2C-B6DD1E857B0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3 Marcador de número de diapositiva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0191-D9A2-424A-BEE7-DDA87E47162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3 Marcador de número de diapositiva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441F-3B33-4D1E-A3A5-B8F468F0745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3413-10AB-404C-99DB-3D8EE1D512C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33480" y="743040"/>
            <a:ext cx="4930920" cy="3698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6D78-D685-41B8-8193-FCADB23F0CD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33480" y="743040"/>
            <a:ext cx="4930920" cy="3698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Reserva de contingencia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- Gastos que por su naturaleza no pueden ser previstos en los presupuestos de las ent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ersonal y Obligaciones Sociales.- Gastos por el pago del personal activo, así como otros beneficios. Asimismo comprende las obligaciones del empleador y asignaciones en especie otorgada a los servidores públ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Pensiones y otras prestaciones sociales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- Gastos por el pago de pensiones a cesantes y jubilados, prestaciones a activos y pensionistas y asistencia social que brindan las entidades a la pobl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Bienes y Servicios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- Gastos por adquisición de bienes para el funcionamiento institucional y cumplimiento de funciones, así como por los pagos por servicios de diversa naturaleza prestados por personas naturales sin vinculo laboral o personas jurídic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Donaciones y Transferencias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- otorgadas a gobiernos, organismos internacionales y unidades de gobierno no reembols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Otros Gastos.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- Gastos por subsidios a empresas públicas y privadas con fines productivos, subvenciones a personas naturales, pago de impuestos, derechos administrativos, multas y sentencias judi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Adquisición de activos no financieros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- Gastos por la reposición y aumento del activo de las instituciones públicas (proyectos de inversión y la adquisición de equip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1BFD-DAF4-4CEF-9021-6756FD16318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33480" y="743040"/>
            <a:ext cx="4930920" cy="3698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Reserva de contingencia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- Gastos que por su naturaleza no pueden ser previstos en los presupuestos de las ent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ersonal y Obligaciones Sociales.- Gastos por el pago del personal activo, así como otros beneficios. Asimismo comprende las obligaciones del empleador y asignaciones en especie otorgada a los servidores públ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Pensiones y otras prestaciones sociales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- Gastos por el pago de pensiones a cesantes y jubilados, prestaciones a activos y pensionistas y asistencia social que brindan las entidades a la pobl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Bienes y Servicios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- Gastos por adquisición de bienes para el funcionamiento institucional y cumplimiento de funciones, así como por los pagos por servicios de diversa naturaleza prestados por personas naturales sin vinculo laboral o personas jurídic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Donaciones y Transferencias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- otorgadas a gobiernos, organismos internacionales y unidades de gobierno no reembols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Otros Gastos.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- Gastos por subsidios a empresas públicas y privadas con fines productivos, subvenciones a personas naturales, pago de impuestos, derechos administrativos, multas y sentencias judi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Adquisición de activos no financieros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- Gastos por la reposición y aumento del activo de las instituciones públicas (proyectos de inversión y la adquisición de equip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A591-8253-4A38-8DB9-46C81DE708D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33480" y="743040"/>
            <a:ext cx="4930920" cy="3698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Pensiones y otras prestaciones sociales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- Gastos por el pago de pensiones a cesantes y jubilados, prestaciones a activos y pensionistas y asistencia social que brindan las entidades a la pobl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DAA4-9983-4E79-BB81-8348D88F8C1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33480" y="743040"/>
            <a:ext cx="4930920" cy="3698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Donaciones y Transferencias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- otorgadas a gobiernos, organismos internacionales y unidades de gobierno no reembols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65A2-8BC1-45EF-A968-3C314EA6261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7718-A8BF-4544-8B87-D1CD13E046A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33480" y="743040"/>
            <a:ext cx="4930920" cy="3698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F32E-E038-4437-9494-317C139CE95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C839-599A-46FF-BF6B-1A0A82CAD23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3 Marcador de número de diapositiva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6BA6-2E07-4541-9A31-716752005B1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792E-4EE6-4819-9F8A-28E100EA6C9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6BF7-B356-4BCB-BFC5-CCC24E05860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3 Marcador de número de diapositiva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57DE-5E8A-45B0-83B3-09375B7499C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C6E1-716A-4792-89D6-AD2E038E817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3 Marcador de número de diapositiva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31AB-E530-41F8-A139-A2DADC9B51B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60FD-389C-4901-9284-700A3DABBB5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ificación de criterios con el Plan Contable (facilita la contabilidad oportun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decuación a estándares internacionales (facilita la comparabilidad con otros país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mpulsar la consolidación del presupuesto por resultados (PP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partió de la base establecida por el Manual de Estadísticas Financieras del F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C02F-89DF-4E11-8FAF-115117E3879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33480" y="743040"/>
            <a:ext cx="4930920" cy="3698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518D-47A0-4976-9FAC-F913516DE0B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33480" y="743040"/>
            <a:ext cx="4930920" cy="3698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EFD4-4C8B-49B2-934D-965A43FEA09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511A-4760-4012-AACE-08F39FC06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394C-0194-4306-9093-95189DD5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BD38-B6B7-4472-A1B7-17D0B3B9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B85E-1463-4E48-8527-E08E0799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4E11-ADF5-4544-9297-E1AA2ADA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D9A4-6514-4E33-AF13-B7E72F71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1263-27BE-4211-B45A-0AD15C50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5201-88E5-4367-8D33-0AC88BB6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60B1-74DA-40BA-B6F9-A1E1D2A7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E363-A378-4F00-B3C9-DA928F7D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D8DC-9324-48A1-8FF6-667032C4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91A4-EC9A-4A6E-B70E-91F01D82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90E4-544F-4DAD-A918-D3019335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3C13-23B3-4158-8DE7-F733CBE5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9B9A-D637-4E96-8BE3-2AC1959D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C90A-50FE-4667-833D-51B2EAB10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43EF-07D1-4FF9-A733-2971AE37D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375D-F560-49DB-9F67-8B0F50A2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53CE-2F8E-4030-A784-D17C0A57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4786-7ADA-4570-9070-5F4508B7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C02B-F636-491F-A3D9-40810B48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D479-57B7-4453-A488-3AB90136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733D-DEF6-4033-8465-E2EE2A78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2561-DA60-4596-B4F1-851E765B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EB71-3BD8-49E0-B8F8-1BBFA1A996E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02B6-AB32-47FA-9E9B-C81472EF43E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42600" y="3213000"/>
            <a:ext cx="7715160" cy="9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CLASIFICADORES PRESUPUESTAR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23"/>
          <p:cNvSpPr/>
          <p:nvPr/>
        </p:nvSpPr>
        <p:spPr>
          <a:xfrm>
            <a:off x="1979640" y="5229360"/>
            <a:ext cx="66643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00"/>
                </a:solidFill>
                <a:latin typeface="Arial"/>
              </a:rPr>
              <a:t>Econ. SEGUNDO TORREJÓN GUTIERRE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Dirección Nacional de Presupuesto Públ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ima,  Diciembre de 2009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5"/>
          <p:cNvGrpSpPr/>
          <p:nvPr/>
        </p:nvGrpSpPr>
        <p:grpSpPr>
          <a:xfrm>
            <a:off x="611280" y="476280"/>
            <a:ext cx="7961040" cy="792000"/>
            <a:chOff x="611280" y="476280"/>
            <a:chExt cx="7961040" cy="792000"/>
          </a:xfrm>
        </p:grpSpPr>
        <p:grpSp>
          <p:nvGrpSpPr>
            <p:cNvPr id="95" name="Group 6"/>
            <p:cNvGrpSpPr/>
            <p:nvPr/>
          </p:nvGrpSpPr>
          <p:grpSpPr>
            <a:xfrm>
              <a:off x="611280" y="476280"/>
              <a:ext cx="1020600" cy="792000"/>
              <a:chOff x="611280" y="476280"/>
              <a:chExt cx="1020600" cy="792000"/>
            </a:xfrm>
          </p:grpSpPr>
          <p:pic>
            <p:nvPicPr>
              <p:cNvPr id="96" name="Picture 7" descr="http://www.peruembassy-uk.com/Images/Escudo.gif"/>
              <p:cNvPicPr/>
              <p:nvPr/>
            </p:nvPicPr>
            <p:blipFill>
              <a:blip r:embed="rId1">
                <a:lum bright="12000"/>
              </a:blip>
              <a:stretch/>
            </p:blipFill>
            <p:spPr>
              <a:xfrm>
                <a:off x="611280" y="605520"/>
                <a:ext cx="1020600" cy="66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WordArt 8"/>
              <p:cNvSpPr txBox="1"/>
              <p:nvPr/>
            </p:nvSpPr>
            <p:spPr>
              <a:xfrm>
                <a:off x="707760" y="476280"/>
                <a:ext cx="771480" cy="2584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137261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aaaaaa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atin typeface="Arial Unicode MS"/>
                  </a:rPr>
                  <a:t>REPUBLICA DEL PERU</a:t>
                </a:r>
                <a:endPara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Unicode MS"/>
                  <a:ea typeface="Arial Unicode MS"/>
                </a:endParaRPr>
              </a:p>
            </p:txBody>
          </p:sp>
        </p:grpSp>
        <p:sp>
          <p:nvSpPr>
            <p:cNvPr id="98" name="Rectangle 9"/>
            <p:cNvSpPr/>
            <p:nvPr/>
          </p:nvSpPr>
          <p:spPr>
            <a:xfrm>
              <a:off x="5849280" y="498960"/>
              <a:ext cx="2723040" cy="768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ctr">
              <a:noAutofit/>
            </a:bodyPr>
            <a:p>
              <a:pPr>
                <a:tabLst>
                  <a:tab algn="l" pos="0"/>
                  <a:tab algn="ctr" pos="2455920"/>
                  <a:tab algn="r" pos="491004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Dirección Nacional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ctr" pos="2455920"/>
                  <a:tab algn="r" pos="491004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Contabilidad Públ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0"/>
            <p:cNvSpPr/>
            <p:nvPr/>
          </p:nvSpPr>
          <p:spPr>
            <a:xfrm>
              <a:off x="3214080" y="498960"/>
              <a:ext cx="2634840" cy="7689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ctr">
              <a:noAutofit/>
            </a:bodyPr>
            <a:p>
              <a:pPr>
                <a:tabLst>
                  <a:tab algn="l" pos="0"/>
                  <a:tab algn="ctr" pos="2455920"/>
                  <a:tab algn="r" pos="491004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Ministerio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ctr" pos="2455920"/>
                  <a:tab algn="r" pos="491004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Economía y Finanz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1"/>
            <p:cNvSpPr/>
            <p:nvPr/>
          </p:nvSpPr>
          <p:spPr>
            <a:xfrm>
              <a:off x="1659600" y="498960"/>
              <a:ext cx="1559160" cy="7689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ctr">
              <a:noAutofit/>
            </a:bodyPr>
            <a:p>
              <a:pPr algn="ctr">
                <a:tabLst>
                  <a:tab algn="l" pos="0"/>
                  <a:tab algn="ctr" pos="2455920"/>
                  <a:tab algn="r" pos="491004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PER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2600" y="285480"/>
            <a:ext cx="800100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Verdana"/>
              </a:rPr>
              <a:t>Ejecución Presupuestal de Ingre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1 Título"/>
          <p:cNvSpPr/>
          <p:nvPr/>
        </p:nvSpPr>
        <p:spPr>
          <a:xfrm>
            <a:off x="428760" y="1785960"/>
            <a:ext cx="871524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Arial"/>
              </a:rPr>
              <a:t>Fideicomisos Reg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</a:rPr>
              <a:t>DU N° 040-2009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1.8.2 2.1 1 Bonos del Tesoro Públ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Arial"/>
              </a:rPr>
              <a:t>- Utilidades de las Cajas Municipales 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</a:rPr>
              <a:t>los Gobiernos Locales 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1.5.1 2.3 4 Utilidades de Empresas Municip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Arial"/>
              </a:rPr>
              <a:t>Remanente de las Utilidades de l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</a:rPr>
              <a:t>empresas privadas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1.5.5 1.4 6 Remanentes de Utilidade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mpresas Min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1.5.5 1.4 99 Otros Ingresos Diver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Arial"/>
              </a:rPr>
              <a:t>Devoluciones y Anulacio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</a:rPr>
              <a:t>a) De años anteriores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</a:rPr>
              <a:t>Saldos de ba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</a:rPr>
              <a:t>b) Del año en curso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</a:rPr>
              <a:t>Hay operaciones que se registran y otras 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Arial"/>
              </a:rPr>
              <a:t>- Saldos de balance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</a:rPr>
              <a:t>Se debe registra durante el primer trimes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3 Marcador de número de diapositiva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24F3-96D8-4A24-AC46-0FE5BA553E0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9"/>
          <p:cNvSpPr/>
          <p:nvPr/>
        </p:nvSpPr>
        <p:spPr>
          <a:xfrm>
            <a:off x="539640" y="1000080"/>
            <a:ext cx="799308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just">
              <a:lnSpc>
                <a:spcPct val="11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Arial"/>
              </a:rPr>
              <a:t>El Clasificador Presupuestario de Gas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just">
              <a:lnSpc>
                <a:spcPct val="11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Es una herramienta de gestión financiera, utilizadas en las diversas etapas del proceso presupuestario. Consiste en un conjunto de cuentas de gastos, ordenadas y agrupadas de acuerdo con la naturaleza del bien o servicio que se esté adquiriendo o la operación financiera que se esté realizan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3 Marcador de número de diapositiva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CBE3-041C-4F20-83BB-DBD7C259AF9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304920" y="500040"/>
            <a:ext cx="842472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Genérica de Ga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Arial"/>
                <a:ea typeface="Arial"/>
              </a:rPr>
              <a:t>Es el nivel máximo de agregación que identifica el conjunto homogéneo, claro y ordenado de los recursos humanos, materiales, tecnológicos y financieros, así como de bienes, servicios y obras públicas que las entidades públicas contratan, adquieren o realizan para la consecución de sus objetivos institucionales, y están comprendidas por nueve (9) genér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a50021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Arial"/>
                <a:ea typeface="Arial"/>
              </a:rPr>
              <a:t>Reserva de Conting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a50021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Arial"/>
                <a:ea typeface="Arial"/>
              </a:rPr>
              <a:t>Personal y Obligacione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a50021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Arial"/>
                <a:ea typeface="Arial"/>
              </a:rPr>
              <a:t>Pensiones y Prestacione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a50021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Arial"/>
                <a:ea typeface="Arial"/>
              </a:rPr>
              <a:t>Bienes y Serv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a50021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Arial"/>
                <a:ea typeface="Arial"/>
              </a:rPr>
              <a:t>Donaciones y Trans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a50021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Arial"/>
                <a:ea typeface="Arial"/>
              </a:rPr>
              <a:t>Otros Ga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a50021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Arial"/>
                <a:ea typeface="Arial"/>
              </a:rPr>
              <a:t>Adquisición de Activos No Financi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a50021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Arial"/>
                <a:ea typeface="Arial"/>
              </a:rPr>
              <a:t>Adquisición de Activos Financi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a50021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Arial"/>
                <a:ea typeface="Arial"/>
              </a:rPr>
              <a:t>Servicios de la Deuda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3 Marcador de número de diapositiva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1E76-C26C-42A1-8FD4-E4CBD27D13C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324000" y="142920"/>
            <a:ext cx="842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Arial"/>
              </a:rPr>
              <a:t>Personal y Obligaciones So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304920" y="914400"/>
            <a:ext cx="8424720" cy="55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400" spc="-1" strike="noStrike">
                <a:solidFill>
                  <a:srgbClr val="000000"/>
                </a:solidFill>
                <a:latin typeface="Arial"/>
                <a:ea typeface="Arial"/>
              </a:rPr>
              <a:t>Todo beneficio en efectivo de los servid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Arial"/>
                <a:ea typeface="Arial"/>
              </a:rPr>
              <a:t>Retribuciones y comple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Arial"/>
                <a:ea typeface="Arial"/>
              </a:rPr>
              <a:t>Mayordom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Arial"/>
                <a:ea typeface="Arial"/>
              </a:rPr>
              <a:t>aguinaldos y escola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Arial"/>
                <a:ea typeface="Arial"/>
              </a:rPr>
              <a:t>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Arial"/>
                <a:ea typeface="Arial"/>
              </a:rPr>
              <a:t>Asignación por cumplir 25 y 30 años de ser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Arial"/>
                <a:ea typeface="Arial"/>
              </a:rPr>
              <a:t>Bonificación por vacaciones y vacaciones tru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Arial"/>
                <a:ea typeface="Arial"/>
              </a:rPr>
              <a:t>Asignación por enseñ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Arial"/>
                <a:ea typeface="Arial"/>
              </a:rPr>
              <a:t>Bono por crecimiento 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Arial"/>
                <a:ea typeface="Arial"/>
              </a:rPr>
              <a:t>Dietas de directorios, Regidores y Consej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400" spc="-1" strike="noStrike">
                <a:solidFill>
                  <a:srgbClr val="000000"/>
                </a:solidFill>
                <a:latin typeface="Arial"/>
                <a:ea typeface="Arial"/>
              </a:rPr>
              <a:t>Todo beneficio en espe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Arial"/>
                <a:ea typeface="Arial"/>
              </a:rPr>
              <a:t>Uniforme de personal administ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Arial"/>
                <a:ea typeface="Arial"/>
              </a:rPr>
              <a:t>Servicio de movilidad para traslado de los trabaj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Arial"/>
                <a:ea typeface="Arial"/>
              </a:rPr>
              <a:t>Estacionamiento para vehículos de los trabaj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Arial"/>
                <a:ea typeface="Arial"/>
              </a:rPr>
              <a:t>Guardería para los hijos de los trabaj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400" spc="-1" strike="noStrike">
                <a:solidFill>
                  <a:srgbClr val="000000"/>
                </a:solidFill>
                <a:latin typeface="Arial"/>
                <a:ea typeface="Arial"/>
              </a:rPr>
              <a:t>Obligaciones del emple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3 Marcador de número de diapositiva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C3FC-9F6C-41D0-9734-B6C49771D42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324000" y="142920"/>
            <a:ext cx="842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Arial"/>
              </a:rPr>
              <a:t>Pensiones y Prestaciones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304920" y="914400"/>
            <a:ext cx="8424720" cy="55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400" spc="-1" strike="noStrike">
                <a:solidFill>
                  <a:srgbClr val="000000"/>
                </a:solidFill>
                <a:latin typeface="Arial"/>
                <a:ea typeface="Arial"/>
              </a:rPr>
              <a:t>Pen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Arial"/>
                <a:ea typeface="Arial"/>
              </a:rPr>
              <a:t>Pen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Arial"/>
                <a:ea typeface="Arial"/>
              </a:rPr>
              <a:t>Escolaridad, aguinaldo y gratif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400" spc="-1" strike="noStrike">
                <a:solidFill>
                  <a:srgbClr val="000000"/>
                </a:solidFill>
                <a:latin typeface="Arial"/>
                <a:ea typeface="Arial"/>
              </a:rPr>
              <a:t>Prestaciones y Asistencia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Arial"/>
                <a:ea typeface="Arial"/>
              </a:rPr>
              <a:t>Prestaciones de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Arial"/>
                <a:ea typeface="Arial"/>
              </a:rPr>
              <a:t>Prestaciones en efectivo (subsidios por incapacidad, maternidad y lacta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Arial"/>
                <a:ea typeface="Arial"/>
              </a:rPr>
              <a:t>Pensiones por accidentes de  trabajo y victimas por terror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Arial"/>
                <a:ea typeface="Arial"/>
              </a:rPr>
              <a:t>Bono complementario y pensiones complement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Arial"/>
                <a:ea typeface="Arial"/>
              </a:rPr>
              <a:t>Alimentos para programa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Arial"/>
                <a:ea typeface="Arial"/>
              </a:rPr>
              <a:t>Apoyo escolar (textos y equipos informátic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Arial"/>
                <a:ea typeface="Arial"/>
              </a:rPr>
              <a:t>Asistencia médica (entrega de medica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Arial"/>
                <a:ea typeface="Arial"/>
              </a:rPr>
              <a:t>Prestaciones del empleador (Seguro médico, sepelio y lu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3 Marcador de número de diapositiva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CF7A-0620-4DA4-88EE-8DA66F902AE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324000" y="592200"/>
            <a:ext cx="842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Arial"/>
              </a:rPr>
              <a:t>Donaciones y Transfer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304920" y="914400"/>
            <a:ext cx="8424720" cy="47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000" spc="-1" strike="noStrike">
                <a:solidFill>
                  <a:srgbClr val="000000"/>
                </a:solidFill>
                <a:latin typeface="Arial"/>
                <a:ea typeface="Arial"/>
              </a:rPr>
              <a:t>Transferencias Financi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000000"/>
                </a:solidFill>
                <a:latin typeface="Arial"/>
                <a:ea typeface="Arial"/>
              </a:rPr>
              <a:t>Seguro integral de salud</a:t>
            </a:r>
            <a:r>
              <a:rPr b="0" lang="es-DO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DO" sz="2000" spc="-1" strike="noStrike">
                <a:solidFill>
                  <a:srgbClr val="000000"/>
                </a:solidFill>
                <a:latin typeface="Arial"/>
                <a:ea typeface="Arial"/>
              </a:rPr>
              <a:t>2.4.1 3.1 2 A otras Unidades del Gobierno Reg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000000"/>
                </a:solidFill>
                <a:latin typeface="Arial"/>
                <a:ea typeface="Arial"/>
              </a:rPr>
              <a:t>Ejecución de proyectos</a:t>
            </a:r>
            <a:r>
              <a:rPr b="0" lang="es-DO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DO" sz="2000" spc="-1" strike="noStrike">
                <a:solidFill>
                  <a:srgbClr val="000000"/>
                </a:solidFill>
                <a:latin typeface="Arial"/>
                <a:ea typeface="Arial"/>
              </a:rPr>
              <a:t>2.4.2 3 </a:t>
            </a:r>
            <a:r>
              <a:rPr b="0" lang="es-DO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DO" sz="2000" spc="-1" strike="noStrike">
                <a:solidFill>
                  <a:srgbClr val="000000"/>
                </a:solidFill>
                <a:latin typeface="Arial"/>
                <a:ea typeface="Arial"/>
              </a:rPr>
              <a:t>    A otras Unidades de Gobi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000" spc="-1" strike="noStrike">
                <a:solidFill>
                  <a:srgbClr val="000000"/>
                </a:solidFill>
                <a:latin typeface="Arial"/>
                <a:ea typeface="Arial"/>
              </a:rPr>
              <a:t>Convenios de Administración de Recursos (Ejecución de proyectos y adquisición de equip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000000"/>
                </a:solidFill>
                <a:latin typeface="Arial"/>
                <a:ea typeface="Arial"/>
              </a:rPr>
              <a:t>Transferencias a PNUD</a:t>
            </a:r>
            <a:r>
              <a:rPr b="0" lang="es-DO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DO" sz="2000" spc="-1" strike="noStrike">
                <a:solidFill>
                  <a:srgbClr val="000000"/>
                </a:solidFill>
                <a:latin typeface="Arial"/>
                <a:ea typeface="Arial"/>
              </a:rPr>
              <a:t>2.4.2 2.1 99 A otros Organismos Inter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250920" y="838080"/>
            <a:ext cx="842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Arial"/>
              </a:rPr>
              <a:t>Otros Ga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304920" y="1773360"/>
            <a:ext cx="842472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400" spc="-1" strike="noStrike">
                <a:solidFill>
                  <a:srgbClr val="000000"/>
                </a:solidFill>
                <a:latin typeface="Arial"/>
                <a:ea typeface="Arial"/>
              </a:rPr>
              <a:t>Gastos Corr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s-DO" sz="2000" spc="-1" strike="noStrike">
                <a:solidFill>
                  <a:srgbClr val="000000"/>
                </a:solidFill>
                <a:latin typeface="Arial"/>
                <a:ea typeface="Arial"/>
              </a:rPr>
              <a:t>Subsi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000000"/>
                </a:solidFill>
                <a:latin typeface="Arial"/>
                <a:ea typeface="Arial"/>
              </a:rPr>
              <a:t>- Subvenciones a personas natu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000000"/>
                </a:solidFill>
                <a:latin typeface="Arial"/>
                <a:ea typeface="Arial"/>
              </a:rPr>
              <a:t>- Impuestos, Multas y derechos administr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000000"/>
                </a:solidFill>
                <a:latin typeface="Arial"/>
                <a:ea typeface="Arial"/>
              </a:rPr>
              <a:t>- Sentencias judiciales activos, pensionistas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a50021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000000"/>
                </a:solidFill>
                <a:latin typeface="Arial"/>
                <a:ea typeface="Arial"/>
              </a:rPr>
              <a:t>Transferencias corrientes a instituciones sin fines de lucro (a la Iglesia, Universidades, ONG, Fondos y fundaci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DO" sz="2000" spc="-1" strike="noStrike">
                <a:solidFill>
                  <a:srgbClr val="000000"/>
                </a:solidFill>
                <a:latin typeface="Arial"/>
                <a:ea typeface="Arial"/>
              </a:rPr>
              <a:t>Ejm. Transferecia a los CLAS para pago de plani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400" spc="-1" strike="noStrike">
                <a:solidFill>
                  <a:srgbClr val="000000"/>
                </a:solidFill>
                <a:latin typeface="Arial"/>
                <a:ea typeface="Arial"/>
              </a:rPr>
              <a:t>Gastos de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000000"/>
                </a:solidFill>
                <a:latin typeface="Arial"/>
                <a:ea typeface="Arial"/>
              </a:rPr>
              <a:t>Transferencias  de capital a instituciones sin fines de lucro (a la Iglesia, Universidades, ONG, Fondos y fundaciones, fondos soci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000000"/>
                </a:solidFill>
                <a:latin typeface="Times New Roman"/>
              </a:rPr>
              <a:t>- Núcleos Ejecutores</a:t>
            </a:r>
            <a:r>
              <a:rPr b="0" lang="es-D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DO" sz="2000" spc="-1" strike="noStrike">
                <a:solidFill>
                  <a:srgbClr val="000000"/>
                </a:solidFill>
                <a:latin typeface="Times New Roman"/>
              </a:rPr>
              <a:t>2.5.2 2.1 99 A otras Organiz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3 Marcador de número de diapositiva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5FB2-4B0B-4C88-A8A5-720FB49E80E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395280" y="1125360"/>
            <a:ext cx="828036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685800" y="0"/>
            <a:ext cx="77724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MOVIMIEN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28760" y="428760"/>
            <a:ext cx="3990960" cy="277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ff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4419720" y="428760"/>
            <a:ext cx="4438440" cy="28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ff"/>
                </a:solidFill>
                <a:latin typeface="Arial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428760" y="642960"/>
            <a:ext cx="3990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1. Personal y Obligaciones 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-Retribuciones en efec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-Obligaciones del emple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419720" y="722160"/>
            <a:ext cx="43434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2.1 Personal y Obligaciones 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-Retribuciones en efec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-Obligaciones del emple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1600" spc="-1" strike="noStrike">
                <a:solidFill>
                  <a:srgbClr val="ff0000"/>
                </a:solidFill>
                <a:latin typeface="Arial"/>
              </a:rPr>
              <a:t>Vestuario personal administra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1600" spc="-1" strike="noStrike">
                <a:solidFill>
                  <a:srgbClr val="ff0000"/>
                </a:solidFill>
                <a:latin typeface="Arial"/>
              </a:rPr>
              <a:t>Dieta de Consejeros y Regi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1600" spc="-1" strike="noStrike">
                <a:solidFill>
                  <a:srgbClr val="ff0000"/>
                </a:solidFill>
                <a:latin typeface="Arial"/>
              </a:rPr>
              <a:t>Propina de internos y medic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1600" spc="-1" strike="noStrike">
                <a:solidFill>
                  <a:srgbClr val="ff0000"/>
                </a:solidFill>
                <a:latin typeface="Arial"/>
              </a:rPr>
              <a:t>Asignación por combustible y 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4419720" y="685800"/>
            <a:ext cx="46080" cy="59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428760" y="2643120"/>
            <a:ext cx="399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2 Obligaciones Previs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- Pensiones y aguinal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11 Conector recto"/>
          <p:cNvSpPr/>
          <p:nvPr/>
        </p:nvSpPr>
        <p:spPr>
          <a:xfrm>
            <a:off x="857160" y="2641680"/>
            <a:ext cx="7215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14 Conector recto"/>
          <p:cNvSpPr/>
          <p:nvPr/>
        </p:nvSpPr>
        <p:spPr>
          <a:xfrm>
            <a:off x="428760" y="4071960"/>
            <a:ext cx="764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15 Conector recto"/>
          <p:cNvSpPr/>
          <p:nvPr/>
        </p:nvSpPr>
        <p:spPr>
          <a:xfrm>
            <a:off x="500040" y="5499000"/>
            <a:ext cx="7572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4357800" y="2643120"/>
            <a:ext cx="450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2.2 Pensiones y Otras Prestaciones 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-Pensiones y aguinal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1600" spc="-1" strike="noStrike">
                <a:solidFill>
                  <a:srgbClr val="7030a0"/>
                </a:solidFill>
                <a:latin typeface="Arial"/>
              </a:rPr>
              <a:t>Bienes de distribución gratu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1600" spc="-1" strike="noStrike">
                <a:solidFill>
                  <a:srgbClr val="0070c0"/>
                </a:solidFill>
                <a:latin typeface="Arial"/>
              </a:rPr>
              <a:t>Seguro Médi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1600" spc="-1" strike="noStrike">
                <a:solidFill>
                  <a:srgbClr val="0070c0"/>
                </a:solidFill>
                <a:latin typeface="Arial"/>
              </a:rPr>
              <a:t>Sepelio y luto activos y pension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28760" y="5494320"/>
            <a:ext cx="401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4 Otros Gastos Corr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0000"/>
                </a:solidFill>
                <a:latin typeface="Arial"/>
              </a:rPr>
              <a:t>Dieta de Consejeros y Regi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70c0"/>
                </a:solidFill>
                <a:latin typeface="Arial"/>
              </a:rPr>
              <a:t>Seguro méd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70c0"/>
                </a:solidFill>
                <a:latin typeface="Arial"/>
              </a:rPr>
              <a:t>Sepelio y luto de activos y pension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0000"/>
                </a:solidFill>
                <a:latin typeface="Arial"/>
              </a:rPr>
              <a:t>Asignación por combustible y 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428760" y="4071960"/>
            <a:ext cx="401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3 Bienes y Serv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0000"/>
                </a:solidFill>
                <a:latin typeface="Arial"/>
              </a:rPr>
              <a:t>Vestuario de personal administra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0000"/>
                </a:solidFill>
                <a:latin typeface="Arial"/>
              </a:rPr>
              <a:t>Propina de internos y medic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030a0"/>
                </a:solidFill>
                <a:latin typeface="Arial"/>
              </a:rPr>
              <a:t>Bienes de distribución gratu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4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5AED-0B98-4BE4-A9A1-8CF71184270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685800" y="779400"/>
            <a:ext cx="77724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0000"/>
                </a:solidFill>
                <a:latin typeface="Calibri"/>
              </a:rPr>
              <a:t>CAMBIOS EN EL 201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24000" y="2130480"/>
            <a:ext cx="82803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cc"/>
                </a:solidFill>
                <a:latin typeface="Arial"/>
              </a:rPr>
              <a:t>Contrato Administrativo de Servicios – CAS  -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 CA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2.3.2.8.1.1 Contrato Administrativo de 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tribuciones       2.3.2.8.1.2 Contribuciones a ESSALUD de 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70 CuadroTexto"/>
          <p:cNvSpPr/>
          <p:nvPr/>
        </p:nvSpPr>
        <p:spPr>
          <a:xfrm>
            <a:off x="71280" y="1857240"/>
            <a:ext cx="55724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Calibri"/>
              </a:rPr>
              <a:t>PROCESO PRESUPUESTARIO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4 CuadroTexto"/>
          <p:cNvSpPr/>
          <p:nvPr/>
        </p:nvSpPr>
        <p:spPr>
          <a:xfrm>
            <a:off x="71280" y="2714760"/>
            <a:ext cx="1408320" cy="946440"/>
          </a:xfrm>
          <a:prstGeom prst="rect">
            <a:avLst/>
          </a:prstGeom>
          <a:solidFill>
            <a:srgbClr val="a6a6a6"/>
          </a:solidFill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Marco Presupuestal Modificado - P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4 CuadroTexto"/>
          <p:cNvSpPr/>
          <p:nvPr/>
        </p:nvSpPr>
        <p:spPr>
          <a:xfrm>
            <a:off x="2500200" y="2905200"/>
            <a:ext cx="908280" cy="307080"/>
          </a:xfrm>
          <a:prstGeom prst="rect">
            <a:avLst/>
          </a:prstGeom>
          <a:solidFill>
            <a:srgbClr val="999999"/>
          </a:solidFill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PP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4 CuadroTexto"/>
          <p:cNvSpPr/>
          <p:nvPr/>
        </p:nvSpPr>
        <p:spPr>
          <a:xfrm>
            <a:off x="3643200" y="2905200"/>
            <a:ext cx="1285920" cy="520200"/>
          </a:xfrm>
          <a:prstGeom prst="rect">
            <a:avLst/>
          </a:prstGeom>
          <a:solidFill>
            <a:srgbClr val="e2e6eb"/>
          </a:solidFill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Calendario de Compromi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4 CuadroTexto"/>
          <p:cNvSpPr/>
          <p:nvPr/>
        </p:nvSpPr>
        <p:spPr>
          <a:xfrm>
            <a:off x="5143680" y="3000240"/>
            <a:ext cx="1265040" cy="307080"/>
          </a:xfrm>
          <a:prstGeom prst="rect">
            <a:avLst/>
          </a:prstGeom>
          <a:gradFill rotWithShape="0">
            <a:gsLst>
              <a:gs pos="0">
                <a:srgbClr val="ff9090"/>
              </a:gs>
              <a:gs pos="100000">
                <a:srgbClr val="ffe0e0"/>
              </a:gs>
            </a:gsLst>
            <a:lin ang="16200000"/>
          </a:gradFill>
          <a:ln w="9360">
            <a:solidFill>
              <a:srgbClr val="cc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Compromi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4 CuadroTexto"/>
          <p:cNvSpPr/>
          <p:nvPr/>
        </p:nvSpPr>
        <p:spPr>
          <a:xfrm>
            <a:off x="6643800" y="2978280"/>
            <a:ext cx="11430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Deveng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4 CuadroTexto"/>
          <p:cNvSpPr/>
          <p:nvPr/>
        </p:nvSpPr>
        <p:spPr>
          <a:xfrm>
            <a:off x="8001000" y="2905200"/>
            <a:ext cx="1143000" cy="520200"/>
          </a:xfrm>
          <a:prstGeom prst="rect">
            <a:avLst/>
          </a:prstGeom>
          <a:gradFill rotWithShape="0">
            <a:gsLst>
              <a:gs pos="0">
                <a:srgbClr val="ccddee"/>
              </a:gs>
              <a:gs pos="100000">
                <a:srgbClr val="f0f5fb"/>
              </a:gs>
            </a:gsLst>
            <a:lin ang="16200000"/>
          </a:gradFill>
          <a:ln w="9360">
            <a:solidFill>
              <a:srgbClr val="9faeb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Gi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P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8 Flecha derecha"/>
          <p:cNvSpPr/>
          <p:nvPr/>
        </p:nvSpPr>
        <p:spPr>
          <a:xfrm>
            <a:off x="2286000" y="3000240"/>
            <a:ext cx="214200" cy="14292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9 Flecha derecha"/>
          <p:cNvSpPr/>
          <p:nvPr/>
        </p:nvSpPr>
        <p:spPr>
          <a:xfrm>
            <a:off x="3429000" y="3071880"/>
            <a:ext cx="214200" cy="14292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10 Flecha derecha"/>
          <p:cNvSpPr/>
          <p:nvPr/>
        </p:nvSpPr>
        <p:spPr>
          <a:xfrm>
            <a:off x="4929120" y="3071880"/>
            <a:ext cx="214560" cy="1429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11 Flecha derecha"/>
          <p:cNvSpPr/>
          <p:nvPr/>
        </p:nvSpPr>
        <p:spPr>
          <a:xfrm>
            <a:off x="6429240" y="3071880"/>
            <a:ext cx="214560" cy="1429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2 Flecha derecha"/>
          <p:cNvSpPr/>
          <p:nvPr/>
        </p:nvSpPr>
        <p:spPr>
          <a:xfrm>
            <a:off x="7786800" y="3071880"/>
            <a:ext cx="214200" cy="14292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70 CuadroTexto"/>
          <p:cNvSpPr/>
          <p:nvPr/>
        </p:nvSpPr>
        <p:spPr>
          <a:xfrm>
            <a:off x="71280" y="4038480"/>
            <a:ext cx="55724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Calibri"/>
              </a:rPr>
              <a:t>PROCESO PRESUPUESTARIO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4 CuadroTexto"/>
          <p:cNvSpPr/>
          <p:nvPr/>
        </p:nvSpPr>
        <p:spPr>
          <a:xfrm>
            <a:off x="142920" y="4832280"/>
            <a:ext cx="1407960" cy="946440"/>
          </a:xfrm>
          <a:prstGeom prst="rect">
            <a:avLst/>
          </a:prstGeom>
          <a:solidFill>
            <a:srgbClr val="a6a6a6"/>
          </a:solidFill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Marco Presupuestal Modificado - P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4 CuadroTexto"/>
          <p:cNvSpPr/>
          <p:nvPr/>
        </p:nvSpPr>
        <p:spPr>
          <a:xfrm>
            <a:off x="2571840" y="5143680"/>
            <a:ext cx="1336680" cy="307080"/>
          </a:xfrm>
          <a:prstGeom prst="rect">
            <a:avLst/>
          </a:prstGeom>
          <a:gradFill rotWithShape="0">
            <a:gsLst>
              <a:gs pos="0">
                <a:srgbClr val="ff9090"/>
              </a:gs>
              <a:gs pos="100000">
                <a:srgbClr val="ffe0e0"/>
              </a:gs>
            </a:gsLst>
            <a:lin ang="16200000"/>
          </a:gradFill>
          <a:ln w="9360">
            <a:solidFill>
              <a:srgbClr val="cc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Compromi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4 CuadroTexto"/>
          <p:cNvSpPr/>
          <p:nvPr/>
        </p:nvSpPr>
        <p:spPr>
          <a:xfrm>
            <a:off x="4143240" y="5121360"/>
            <a:ext cx="10717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Deveng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4 CuadroTexto"/>
          <p:cNvSpPr/>
          <p:nvPr/>
        </p:nvSpPr>
        <p:spPr>
          <a:xfrm>
            <a:off x="5429160" y="5118120"/>
            <a:ext cx="908280" cy="307080"/>
          </a:xfrm>
          <a:prstGeom prst="rect">
            <a:avLst/>
          </a:prstGeom>
          <a:solidFill>
            <a:srgbClr val="999999"/>
          </a:solidFill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PP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4 CuadroTexto"/>
          <p:cNvSpPr/>
          <p:nvPr/>
        </p:nvSpPr>
        <p:spPr>
          <a:xfrm>
            <a:off x="6572160" y="5000760"/>
            <a:ext cx="1143000" cy="520200"/>
          </a:xfrm>
          <a:prstGeom prst="rect">
            <a:avLst/>
          </a:prstGeom>
          <a:solidFill>
            <a:srgbClr val="e2e6eb"/>
          </a:solidFill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Calendario de Pa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4 CuadroTexto"/>
          <p:cNvSpPr/>
          <p:nvPr/>
        </p:nvSpPr>
        <p:spPr>
          <a:xfrm>
            <a:off x="7929720" y="5022720"/>
            <a:ext cx="1143000" cy="520200"/>
          </a:xfrm>
          <a:prstGeom prst="rect">
            <a:avLst/>
          </a:prstGeom>
          <a:gradFill rotWithShape="0">
            <a:gsLst>
              <a:gs pos="0">
                <a:srgbClr val="e2ebf5"/>
              </a:gs>
              <a:gs pos="100000">
                <a:srgbClr val="f6f9fd"/>
              </a:gs>
            </a:gsLst>
            <a:lin ang="16200000"/>
          </a:gradFill>
          <a:ln w="9360">
            <a:solidFill>
              <a:srgbClr val="c9d0d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Gi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P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20 Flecha derecha"/>
          <p:cNvSpPr/>
          <p:nvPr/>
        </p:nvSpPr>
        <p:spPr>
          <a:xfrm>
            <a:off x="2357280" y="5189400"/>
            <a:ext cx="214560" cy="1429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21 Flecha derecha"/>
          <p:cNvSpPr/>
          <p:nvPr/>
        </p:nvSpPr>
        <p:spPr>
          <a:xfrm>
            <a:off x="3929040" y="5189400"/>
            <a:ext cx="214200" cy="14292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22 Flecha derecha"/>
          <p:cNvSpPr/>
          <p:nvPr/>
        </p:nvSpPr>
        <p:spPr>
          <a:xfrm>
            <a:off x="5214960" y="5189400"/>
            <a:ext cx="214200" cy="14292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23 Flecha derecha"/>
          <p:cNvSpPr/>
          <p:nvPr/>
        </p:nvSpPr>
        <p:spPr>
          <a:xfrm>
            <a:off x="6357960" y="5189400"/>
            <a:ext cx="214200" cy="14292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24 Flecha derecha"/>
          <p:cNvSpPr/>
          <p:nvPr/>
        </p:nvSpPr>
        <p:spPr>
          <a:xfrm>
            <a:off x="7715160" y="5189400"/>
            <a:ext cx="214560" cy="1429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4 CuadroTexto"/>
          <p:cNvSpPr/>
          <p:nvPr/>
        </p:nvSpPr>
        <p:spPr>
          <a:xfrm rot="16200000">
            <a:off x="1210320" y="4929840"/>
            <a:ext cx="1550880" cy="733320"/>
          </a:xfrm>
          <a:prstGeom prst="rect">
            <a:avLst/>
          </a:prstGeom>
          <a:noFill/>
          <a:ln w="9360">
            <a:solidFill>
              <a:srgbClr val="a3b2c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Certificación de Créditos  Pptario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/Pre-Compromi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4 CuadroTexto"/>
          <p:cNvSpPr/>
          <p:nvPr/>
        </p:nvSpPr>
        <p:spPr>
          <a:xfrm rot="16200000">
            <a:off x="1138680" y="2837520"/>
            <a:ext cx="1550880" cy="733320"/>
          </a:xfrm>
          <a:prstGeom prst="rect">
            <a:avLst/>
          </a:prstGeom>
          <a:noFill/>
          <a:ln w="9360">
            <a:solidFill>
              <a:srgbClr val="a3b2c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Certificación de Créditos  Pptario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/Pre-Compromi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1 Título"/>
          <p:cNvSpPr/>
          <p:nvPr/>
        </p:nvSpPr>
        <p:spPr>
          <a:xfrm>
            <a:off x="574560" y="785880"/>
            <a:ext cx="8001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Verdana"/>
              </a:rPr>
              <a:t>Ejecución Presupuestal de Ga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Verdana"/>
              </a:rPr>
              <a:t>Instrumentos de Gestión Presupuestar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8 Rectángulo"/>
          <p:cNvSpPr/>
          <p:nvPr/>
        </p:nvSpPr>
        <p:spPr>
          <a:xfrm>
            <a:off x="571680" y="1814400"/>
            <a:ext cx="8001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OGRAMACION PREUPUES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- Programas Estraté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- Programas Institu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- Programación por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- Presupuesto multi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- Remuneraciones/compras/inversiones/SIAF 2/Clasific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I.   SEGUIMIENTO Y EVALU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- Evaluaciones trimestrales de metas físicas y financi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- Evaluaciones independ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II. INCENTIVOS A LA G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- Convenios de administración por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- Bonos a la gest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- Fondos de Incentivos y de Modernización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1 Título"/>
          <p:cNvSpPr/>
          <p:nvPr/>
        </p:nvSpPr>
        <p:spPr>
          <a:xfrm>
            <a:off x="571680" y="785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Verdana"/>
              </a:rPr>
              <a:t>Ejecución Presupuestal de Ga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0" y="166680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5 Marcador de número de diapositiva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DCEA-2CB4-42B9-AA13-AB0ABB0E6BD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755640" y="1989000"/>
            <a:ext cx="763272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642960" y="285768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Arial"/>
              </a:rPr>
              <a:t>MUCHAS GRACIAS POR SU A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Verdana"/>
              </a:rPr>
              <a:t>Clasificadores Presupuestari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4" name="9 Grupo"/>
          <p:cNvGrpSpPr/>
          <p:nvPr/>
        </p:nvGrpSpPr>
        <p:grpSpPr>
          <a:xfrm>
            <a:off x="1928880" y="1752480"/>
            <a:ext cx="4762440" cy="4819680"/>
            <a:chOff x="1928880" y="1752480"/>
            <a:chExt cx="4762440" cy="4819680"/>
          </a:xfrm>
        </p:grpSpPr>
        <p:pic>
          <p:nvPicPr>
            <p:cNvPr id="105" name="4 Imagen" descr="SDXTMPPPT02.emf"/>
            <p:cNvPicPr/>
            <p:nvPr/>
          </p:nvPicPr>
          <p:blipFill>
            <a:blip r:embed="rId1"/>
            <a:stretch/>
          </p:blipFill>
          <p:spPr>
            <a:xfrm>
              <a:off x="5095080" y="2279160"/>
              <a:ext cx="1596240" cy="29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5 Imagen" descr="SDXTMPPPT03.emf"/>
            <p:cNvPicPr/>
            <p:nvPr/>
          </p:nvPicPr>
          <p:blipFill>
            <a:blip r:embed="rId2"/>
            <a:stretch/>
          </p:blipFill>
          <p:spPr>
            <a:xfrm>
              <a:off x="3655800" y="4510080"/>
              <a:ext cx="2796120" cy="20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6 Imagen" descr="SDXTMPPPT04.emf"/>
            <p:cNvPicPr/>
            <p:nvPr/>
          </p:nvPicPr>
          <p:blipFill>
            <a:blip r:embed="rId3"/>
            <a:stretch/>
          </p:blipFill>
          <p:spPr>
            <a:xfrm>
              <a:off x="1928880" y="3976560"/>
              <a:ext cx="2333520" cy="239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7 Imagen" descr="SDXTMPPPT05.emf"/>
            <p:cNvPicPr/>
            <p:nvPr/>
          </p:nvPicPr>
          <p:blipFill>
            <a:blip r:embed="rId4"/>
            <a:stretch/>
          </p:blipFill>
          <p:spPr>
            <a:xfrm>
              <a:off x="2016000" y="2011680"/>
              <a:ext cx="1833120" cy="268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8 Imagen" descr="SDXTMPPPT06.emf"/>
            <p:cNvPicPr/>
            <p:nvPr/>
          </p:nvPicPr>
          <p:blipFill>
            <a:blip r:embed="rId5"/>
            <a:stretch/>
          </p:blipFill>
          <p:spPr>
            <a:xfrm>
              <a:off x="3054600" y="1752480"/>
              <a:ext cx="2831040" cy="1532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Marcador de número de diapositiva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DD37-6927-4295-9D16-590C8E679E3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755640" y="1989000"/>
            <a:ext cx="763272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898560" y="3313080"/>
            <a:ext cx="717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CLASIFICADORES PRESUPUESTARIOS DE INGRESOS Y GA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5"/>
          <p:cNvSpPr/>
          <p:nvPr/>
        </p:nvSpPr>
        <p:spPr>
          <a:xfrm>
            <a:off x="500040" y="2000160"/>
            <a:ext cx="807264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os clasificadores permiten ordenar la información de ingresos y gastos y contestar a preguntas tales có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Cuál es el origen de los ingres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Cuál es la finalidad del gasto, a qué servicio está destina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En qué bienes y servicios se gas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Qué organismos gast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3 Marcador de número de diapositiva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9F0A-29FC-44A4-B17D-28909D7B361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863640" y="1484280"/>
            <a:ext cx="475308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531120 Viáticos y asignacion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531122 Vestuari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531123 Combustible y lubrica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531124 Alimentos para perso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531126 Materiales explosivos y Municio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531127 Servicios no person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531128 Propi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531129 Mat. De constru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531130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ateriales de consu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531131 Bs de distribución gratui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531132 Pasajes y gastos de transpor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531133 Serv. de consulto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531134 Contratación con empres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531135 Arrendamiento financie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3"/>
          <p:cNvSpPr/>
          <p:nvPr/>
        </p:nvSpPr>
        <p:spPr>
          <a:xfrm>
            <a:off x="826920" y="2708280"/>
            <a:ext cx="223236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0" y="189000"/>
            <a:ext cx="896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936720" y="1103400"/>
            <a:ext cx="2808360" cy="2919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CLASIFICADOR PPT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256360" y="1103400"/>
            <a:ext cx="2808000" cy="2919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PLAN CON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 flipV="1">
            <a:off x="2987640" y="2133360"/>
            <a:ext cx="2448000" cy="7189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3097080" y="2852640"/>
            <a:ext cx="2195640" cy="4320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9"/>
          <p:cNvSpPr/>
          <p:nvPr/>
        </p:nvSpPr>
        <p:spPr>
          <a:xfrm>
            <a:off x="2987640" y="2852640"/>
            <a:ext cx="2305080" cy="7923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5473800" y="1557360"/>
            <a:ext cx="4066920" cy="25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0 Mercaderí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01 Bs para la ve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08 Mercaderías – AC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1.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uministros de funciona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11.02 Materiales de Limpie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11.04 Materiales de Salud, Farmacia y otros químic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11.05 Materiales de Impresión, fotográficos y fonotécnic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11.06 Materiales de Construcción, Mantenimiento, acondicionamiento y reparació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11.09 Otros materiales de uso no duraderos.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t. Primas, Materiales auxiliares y suminis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la produc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8 Bienes en Tránsi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1"/>
          <p:cNvSpPr/>
          <p:nvPr/>
        </p:nvSpPr>
        <p:spPr>
          <a:xfrm>
            <a:off x="5435640" y="1989000"/>
            <a:ext cx="284472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2"/>
          <p:cNvSpPr/>
          <p:nvPr/>
        </p:nvSpPr>
        <p:spPr>
          <a:xfrm>
            <a:off x="5364000" y="3500280"/>
            <a:ext cx="295308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3"/>
          <p:cNvSpPr/>
          <p:nvPr/>
        </p:nvSpPr>
        <p:spPr>
          <a:xfrm>
            <a:off x="5364000" y="3098880"/>
            <a:ext cx="3780000" cy="431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4" descr=""/>
          <p:cNvPicPr/>
          <p:nvPr/>
        </p:nvPicPr>
        <p:blipFill>
          <a:blip r:embed="rId1"/>
          <a:stretch/>
        </p:blipFill>
        <p:spPr>
          <a:xfrm>
            <a:off x="682560" y="3933720"/>
            <a:ext cx="8425080" cy="25909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5"/>
          <p:cNvSpPr/>
          <p:nvPr/>
        </p:nvSpPr>
        <p:spPr>
          <a:xfrm>
            <a:off x="179280" y="520560"/>
            <a:ext cx="8964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Unificación de criterios en los registros presupuestarios y con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 rot="16200000">
            <a:off x="-649080" y="1664640"/>
            <a:ext cx="230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Verdana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7"/>
          <p:cNvSpPr/>
          <p:nvPr/>
        </p:nvSpPr>
        <p:spPr>
          <a:xfrm rot="16200000">
            <a:off x="-792000" y="4903200"/>
            <a:ext cx="230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Verdana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9"/>
          <p:cNvSpPr/>
          <p:nvPr/>
        </p:nvSpPr>
        <p:spPr>
          <a:xfrm>
            <a:off x="250920" y="3789360"/>
            <a:ext cx="864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3 Marcador de número de diapositiva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1285-120E-45EE-8EEE-6F018517DB6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9"/>
          <p:cNvSpPr/>
          <p:nvPr/>
        </p:nvSpPr>
        <p:spPr>
          <a:xfrm>
            <a:off x="539640" y="1000080"/>
            <a:ext cx="799308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just">
              <a:lnSpc>
                <a:spcPct val="11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Arial"/>
              </a:rPr>
              <a:t>El Clasificador Presupuestario de Ingres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Es un instrumento normativo que ordena y agrupa los recursos con que cuentan las entidades públicas en categorías homogéneas definidas en función de la naturaleza y características de las transaccio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just">
              <a:lnSpc>
                <a:spcPct val="11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3 Marcador de número de diapositiva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1073-6FCE-4103-8FDF-99AF73F7B8F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04920" y="571680"/>
            <a:ext cx="8424720" cy="53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es-DO" sz="2400" spc="-1" strike="noStrike" u="sng">
                <a:solidFill>
                  <a:srgbClr val="ff0000"/>
                </a:solidFill>
                <a:uFillTx/>
                <a:latin typeface="Times New Roman"/>
              </a:rPr>
              <a:t>Gen</a:t>
            </a:r>
            <a:r>
              <a:rPr b="1" lang="es-DO" sz="2400" spc="-1" strike="noStrike" u="sng">
                <a:solidFill>
                  <a:srgbClr val="ff0000"/>
                </a:solidFill>
                <a:uFillTx/>
                <a:latin typeface="Arial"/>
              </a:rPr>
              <a:t>é</a:t>
            </a:r>
            <a:r>
              <a:rPr b="1" lang="es-DO" sz="2400" spc="-1" strike="noStrike" u="sng">
                <a:solidFill>
                  <a:srgbClr val="ff0000"/>
                </a:solidFill>
                <a:uFillTx/>
                <a:latin typeface="Times New Roman"/>
              </a:rPr>
              <a:t>rica del Ingr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Es el mayor nivel de agregaci</a:t>
            </a:r>
            <a:r>
              <a:rPr b="0" lang="es-DO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n que identifica el conjunto homog</a:t>
            </a:r>
            <a:r>
              <a:rPr b="0" lang="es-DO" sz="24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neo, claro y ordenado de los recursos que se recaudan, captan u obtienen, y est</a:t>
            </a:r>
            <a:r>
              <a:rPr b="0" lang="es-DO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n comprendidos por nueve (9) genéricas que son lo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a50021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Impuestos y Contribuciones Obligato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a50021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Contribucione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a50021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Venta de Bienes y Servicios y Derechos Administr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a50021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Donaciones y Trans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a50021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Otros Ingr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a50021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Venta de Activos No Financi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a50021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Venta de Activos Financi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a50021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Endeud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a50021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400" spc="-1" strike="noStrike">
                <a:solidFill>
                  <a:srgbClr val="000000"/>
                </a:solidFill>
                <a:latin typeface="Times New Roman"/>
              </a:rPr>
              <a:t>Saldo de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80010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Verdana"/>
              </a:rPr>
              <a:t>Ejecución Presupuestal de Ingre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4 Rectángulo"/>
          <p:cNvSpPr/>
          <p:nvPr/>
        </p:nvSpPr>
        <p:spPr>
          <a:xfrm>
            <a:off x="1214280" y="2071800"/>
            <a:ext cx="600084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PRESTACION DE SERV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IMPOSICION DE TRIBUTOS, TASAS Y MUL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ONTRATO DE CRED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5 Rectángulo"/>
          <p:cNvSpPr/>
          <p:nvPr/>
        </p:nvSpPr>
        <p:spPr>
          <a:xfrm>
            <a:off x="1214280" y="3643200"/>
            <a:ext cx="600084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PRESTACION DE SERV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IMPOSICION DE TRIBUTOS, TASAS Y MUL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ONTRATO DE CRED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6 Rectángulo"/>
          <p:cNvSpPr/>
          <p:nvPr/>
        </p:nvSpPr>
        <p:spPr>
          <a:xfrm>
            <a:off x="1214280" y="5143680"/>
            <a:ext cx="600084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PRESTACION DE SERV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IMPOSICION DE TRIBUTOS, TASAS Y MUL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ONTRATO DE CRED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7 Rectángulo"/>
          <p:cNvSpPr/>
          <p:nvPr/>
        </p:nvSpPr>
        <p:spPr>
          <a:xfrm>
            <a:off x="1214280" y="1785960"/>
            <a:ext cx="6000840" cy="285840"/>
          </a:xfrm>
          <a:prstGeom prst="rect">
            <a:avLst/>
          </a:prstGeom>
          <a:solidFill>
            <a:srgbClr val="0070c0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HECHO ECONO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8 Rectángulo"/>
          <p:cNvSpPr/>
          <p:nvPr/>
        </p:nvSpPr>
        <p:spPr>
          <a:xfrm>
            <a:off x="1214280" y="3357720"/>
            <a:ext cx="6000840" cy="285480"/>
          </a:xfrm>
          <a:prstGeom prst="rect">
            <a:avLst/>
          </a:prstGeom>
          <a:solidFill>
            <a:srgbClr val="0070c0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RECONO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9 Rectángulo"/>
          <p:cNvSpPr/>
          <p:nvPr/>
        </p:nvSpPr>
        <p:spPr>
          <a:xfrm>
            <a:off x="1214280" y="4857840"/>
            <a:ext cx="6000840" cy="285840"/>
          </a:xfrm>
          <a:prstGeom prst="rect">
            <a:avLst/>
          </a:prstGeom>
          <a:solidFill>
            <a:srgbClr val="0070c0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RECAU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9T22:37:05Z</dcterms:created>
  <dc:creator>Inder Delgado</dc:creator>
  <dc:description/>
  <dc:language>en-US</dc:language>
  <cp:lastModifiedBy>mef</cp:lastModifiedBy>
  <dcterms:modified xsi:type="dcterms:W3CDTF">2009-12-15T13:49:31Z</dcterms:modified>
  <cp:revision>407</cp:revision>
  <dc:subject/>
  <dc:title>Clasificador Funcional Programático</dc:title>
</cp:coreProperties>
</file>